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901-F87A-406B-8DFE-E3CD3DAE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7B5-3556-43A5-B208-54A4E0CF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F27-F19D-49E5-848C-4DFB986C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D0E-BB82-4F75-A92C-58FE35B6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2C8-FCFC-4375-A108-09D47D43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6A1-0510-40AB-B5EA-D97BCA3B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48E-3801-4CBB-8C1F-A7263B56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A5D-22DD-4CAB-8046-05FF3D17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55E-4AF2-4524-8A4F-A4026310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5B6-586D-4250-A476-105FB443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AE9-E2B5-44E3-AB49-E7A3F800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BD7-2420-4B41-8929-5EAAD2E7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646E-9DBF-4B8B-A4EB-ED4BDE211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2120" y="506520"/>
          <a:ext cx="8622000" cy="60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506520"/>
                    <a:ext cx="862200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14480" y="754200"/>
          <a:ext cx="74343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54200"/>
                    <a:ext cx="74343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668160"/>
          <a:ext cx="804060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68160"/>
                    <a:ext cx="804060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28720" y="730080"/>
          <a:ext cx="770724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30080"/>
                    <a:ext cx="770724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78040" y="7300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300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42960" y="743040"/>
          <a:ext cx="8375760" cy="75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43040"/>
                    <a:ext cx="8375760" cy="75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1720" y="457200"/>
          <a:ext cx="843624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57200"/>
                    <a:ext cx="843624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557280"/>
          <a:ext cx="8547120" cy="76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57280"/>
                    <a:ext cx="8547120" cy="76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38320" y="457200"/>
          <a:ext cx="737244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57200"/>
                    <a:ext cx="737244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63800" y="681120"/>
          <a:ext cx="779292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681120"/>
                    <a:ext cx="779292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7174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174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63800" y="803160"/>
          <a:ext cx="7557840" cy="54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803160"/>
                    <a:ext cx="7557840" cy="54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06-03-17T18:22:49Z</dcterms:modified>
  <cp:revision>10</cp:revision>
  <dc:subject/>
  <dc:title>Sin título de diapositiva</dc:title>
</cp:coreProperties>
</file>