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312-6BFF-4C5C-8FC4-4A713737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D10-6FDC-428C-9CB1-62556B15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C05-83D3-43E3-B7EE-4296E5E5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6F1-6737-41AA-80D5-BED10CCF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41C-A8E4-45A7-A805-0A1C386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64A-C4EE-444D-B54B-548510AE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91A-DCB7-4942-804A-6BE19DF8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30B-35B0-488E-BDF8-C5D6F93A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1F1-AB9F-43E4-BAB0-F1AE5B3D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1CB-868E-435A-8828-0A348C0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D46-AA39-4BD8-8204-65DAFCA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6FD-72D9-47F4-B2AC-A3413E7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399-150B-4C6F-AB2C-C0AEA1FA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2120" y="506520"/>
          <a:ext cx="862200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506520"/>
                    <a:ext cx="862200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1720" y="457200"/>
          <a:ext cx="843624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43624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557280"/>
          <a:ext cx="8547120" cy="76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7280"/>
                    <a:ext cx="8547120" cy="76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38320" y="457200"/>
          <a:ext cx="737244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57200"/>
                    <a:ext cx="73724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6-03-17T18:22:49Z</dcterms:modified>
  <cp:revision>10</cp:revision>
  <dc:subject/>
  <dc:title>Sin título de diapositiva</dc:title>
</cp:coreProperties>
</file>