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685-C040-44D4-AAB5-5A3FB739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6B1-7746-493F-84BB-6404F21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BC0-D527-4A99-91B5-96A018D6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4B0-49C4-4BD2-B4B6-5237F247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07C-CE4C-4704-AD5B-0CB4502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797-FEE8-4C0D-A8AE-C7136E81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EA1-26E5-404E-BE3B-C9347A2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C87-5EED-4B39-B37E-D3A8F762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D1A-E5FA-4B32-8784-044703DE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B87-FB84-414C-9B05-CAE38E4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C5A-B80E-40A6-9EAE-1267D4A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57D-B0D1-40F7-AD3C-0D4E49F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EA66-D17E-4374-AFE5-2CA0BD57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2200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220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43624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43624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6-03-17T18:22:49Z</dcterms:modified>
  <cp:revision>10</cp:revision>
  <dc:subject/>
  <dc:title>Sin título de diapositiva</dc:title>
</cp:coreProperties>
</file>