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8CF1-4016-4713-BB8F-4E0465DA5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3EE1-89A0-421E-9A6F-655DE8039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86E1-4863-4D88-B343-F28A7E2BF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A753-3E73-4A6B-AD6E-964E0A47C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A257-E38D-4067-A159-0E3BBB886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DB11-22C5-4669-B610-680848EA0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FF62-AD67-4F31-B068-5F393416D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B7F2-3B3B-4E3D-AB65-2FD38869A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DC54-1D8F-4775-8207-06D8D759B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5BD0-6F4A-40C8-B033-15D8305C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5F96-3728-4B40-B44B-294BE698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F9A8-25B8-4997-A4E6-67E471A83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EAA9B-650C-4050-BA16-960AC05FF8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54200" y="655560"/>
          <a:ext cx="770724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55560"/>
                    <a:ext cx="77072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693720" y="552600"/>
          <a:ext cx="8161200" cy="5891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720" y="552600"/>
                    <a:ext cx="8161200" cy="58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06520" y="506520"/>
          <a:ext cx="8461440" cy="593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506520"/>
                    <a:ext cx="8461440" cy="59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763560" y="658800"/>
          <a:ext cx="7832880" cy="586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658800"/>
                    <a:ext cx="783288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95360" y="420840"/>
          <a:ext cx="8386560" cy="621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420840"/>
                    <a:ext cx="8386560" cy="62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557280" y="395280"/>
          <a:ext cx="8138880" cy="645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395280"/>
                    <a:ext cx="8138880" cy="645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550800" y="439560"/>
          <a:ext cx="8042400" cy="597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00" y="439560"/>
                    <a:ext cx="8042400" cy="597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06600" y="469800"/>
          <a:ext cx="8324640" cy="62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469800"/>
                    <a:ext cx="832464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57200" y="446040"/>
          <a:ext cx="8572680" cy="623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46040"/>
                    <a:ext cx="8572680" cy="62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581040" y="433440"/>
          <a:ext cx="8288280" cy="623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433440"/>
                    <a:ext cx="8288280" cy="62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611280" y="506520"/>
          <a:ext cx="8548560" cy="8007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506520"/>
                    <a:ext cx="8548560" cy="800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69960" y="541440"/>
          <a:ext cx="8055000" cy="591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960" y="541440"/>
                    <a:ext cx="8055000" cy="59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1T15:32:13Z</dcterms:created>
  <dc:creator>jalvarez</dc:creator>
  <dc:description/>
  <dc:language>en-US</dc:language>
  <cp:lastModifiedBy>jalvarez</cp:lastModifiedBy>
  <cp:lastPrinted>2006-09-30T17:58:58Z</cp:lastPrinted>
  <dcterms:modified xsi:type="dcterms:W3CDTF">2006-09-30T18:13:34Z</dcterms:modified>
  <cp:revision>19</cp:revision>
  <dc:subject/>
  <dc:title>Sin título de diapositiva</dc:title>
</cp:coreProperties>
</file>