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9ECF-6B21-461B-97CE-6F4A19A4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00E-FCA7-4B82-B2EF-E19361CE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8B6-9E21-4C0E-93FA-3A31D82E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E7B-3621-4C57-B9D2-7858D7F7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575-CC43-4520-A8EB-27254672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AE0-61EC-493D-BDEE-FD75B810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56D-B29E-4297-844E-A9AFA798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C58-DD2A-4220-83F9-91C06A4A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80D-40BE-4A94-8B5F-B5823A59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0BF-2E88-4CD0-9455-726598B5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07B4-F395-484B-BBAE-46811E1A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47E-4C97-4695-9F5D-91D47636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FD99-8E46-4A2B-BA25-7D23F03B8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55560"/>
          <a:ext cx="770724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7707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3720" y="552600"/>
          <a:ext cx="8161200" cy="589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552600"/>
                    <a:ext cx="8161200" cy="58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506520"/>
          <a:ext cx="846144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46144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3560" y="658800"/>
          <a:ext cx="7832880" cy="586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658800"/>
                    <a:ext cx="78328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95360" y="420840"/>
          <a:ext cx="8386560" cy="62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20840"/>
                    <a:ext cx="8386560" cy="62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57280" y="395280"/>
          <a:ext cx="8138880" cy="645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395280"/>
                    <a:ext cx="813888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0800" y="439560"/>
          <a:ext cx="8042400" cy="597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439560"/>
                    <a:ext cx="8042400" cy="597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66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446040"/>
          <a:ext cx="85726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6040"/>
                    <a:ext cx="85726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81040" y="433440"/>
          <a:ext cx="82882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33440"/>
                    <a:ext cx="82882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1280" y="506520"/>
          <a:ext cx="8548560" cy="80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06520"/>
                    <a:ext cx="8548560" cy="80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69960" y="541440"/>
          <a:ext cx="8055000" cy="59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541440"/>
                    <a:ext cx="8055000" cy="59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5:32:13Z</dcterms:created>
  <dc:creator>jalvarez</dc:creator>
  <dc:description/>
  <dc:language>en-US</dc:language>
  <cp:lastModifiedBy>jalvarez</cp:lastModifiedBy>
  <cp:lastPrinted>2006-09-30T17:58:58Z</cp:lastPrinted>
  <dcterms:modified xsi:type="dcterms:W3CDTF">2006-09-30T18:13:34Z</dcterms:modified>
  <cp:revision>19</cp:revision>
  <dc:subject/>
  <dc:title>Sin título de diapositiva</dc:title>
</cp:coreProperties>
</file>