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46C-B1EA-45AB-890B-145CB640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E97-773F-49BA-BCCF-A7E0600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7E2-2DF0-4682-AE21-C38FFC7D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DBC-3B6F-4D64-A7E3-19C5BE6B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237-D709-4AAE-A193-AA6A523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2F4-1A64-4EA0-997E-795042C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7CE-6EC2-455E-9615-A1B3A40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7AA-8102-425B-BE71-CD56D680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7E2-5B65-497D-B147-531E7B7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724-85EB-46EF-A441-A0F385C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8C8-435F-49CD-B5E3-4FF6216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B5B-CA30-4A55-907D-34E3F58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3E0-594D-4077-B3A1-F72307B0D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55560"/>
          <a:ext cx="7707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7707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3720" y="552600"/>
          <a:ext cx="816120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552600"/>
                    <a:ext cx="81612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46144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4614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560" y="658800"/>
          <a:ext cx="78328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58800"/>
                    <a:ext cx="7832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42084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084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395280"/>
          <a:ext cx="813888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95280"/>
                    <a:ext cx="81388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0800" y="439560"/>
          <a:ext cx="8042400" cy="597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39560"/>
                    <a:ext cx="8042400" cy="597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46040"/>
          <a:ext cx="85726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040"/>
                    <a:ext cx="85726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81040" y="433440"/>
          <a:ext cx="8288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288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506520"/>
          <a:ext cx="8548560" cy="80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6520"/>
                    <a:ext cx="8548560" cy="80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9960" y="541440"/>
          <a:ext cx="8055000" cy="59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541440"/>
                    <a:ext cx="805500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30T17:58:58Z</cp:lastPrinted>
  <dcterms:modified xsi:type="dcterms:W3CDTF">2006-09-30T18:13:34Z</dcterms:modified>
  <cp:revision>19</cp:revision>
  <dc:subject/>
  <dc:title>Sin título de diapositiva</dc:title>
</cp:coreProperties>
</file>