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365-1A2E-4377-8359-50F566F6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3F9-90B8-4BBA-8D37-3C476A7A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6D0-867C-4417-A4BC-513B1F44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5C-2F39-482A-89BA-23DF910B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B2A-0E66-4DF8-A71B-84CE514C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5E2-FAC6-4240-82AB-666EA3C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3AC-E223-4DE7-81DF-AC4D8A6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79C-3E81-4E8B-ACDD-14205B8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E13-994C-419A-9789-5CEBB5D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714-5203-46EA-9220-9A2BFBE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026-F605-47A0-BBA0-0404D109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E09-B390-44AF-AA21-D1C3F728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94A8-EECC-4C2A-A59B-6E75C8C38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55560"/>
          <a:ext cx="7707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7707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3720" y="552600"/>
          <a:ext cx="816120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552600"/>
                    <a:ext cx="81612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46144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4614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560" y="658800"/>
          <a:ext cx="78328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58800"/>
                    <a:ext cx="7832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42084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084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395280"/>
          <a:ext cx="813888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95280"/>
                    <a:ext cx="81388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0800" y="439560"/>
          <a:ext cx="8042400" cy="597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39560"/>
                    <a:ext cx="8042400" cy="597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46040"/>
          <a:ext cx="85726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040"/>
                    <a:ext cx="85726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81040" y="433440"/>
          <a:ext cx="8288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288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506520"/>
          <a:ext cx="8548560" cy="80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6520"/>
                    <a:ext cx="8548560" cy="80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9960" y="541440"/>
          <a:ext cx="8055000" cy="59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541440"/>
                    <a:ext cx="805500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30T17:58:58Z</cp:lastPrinted>
  <dcterms:modified xsi:type="dcterms:W3CDTF">2006-09-30T18:13:34Z</dcterms:modified>
  <cp:revision>19</cp:revision>
  <dc:subject/>
  <dc:title>Sin título de diapositiva</dc:title>
</cp:coreProperties>
</file>