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31EE-27FB-4D08-ADFC-BD9A42C3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6E1-04A0-4E41-9240-BC41655A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281-C0F0-4D47-A2D5-DB21FBC9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B4E-FF94-4A69-ABDB-0BE807A9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D84-C215-404D-9DE5-14DD7775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4FDB-162C-4F79-B09C-3BD01AFA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E7E-9ECA-478E-9C67-0DC89FCA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64E-7670-4051-AF5F-932EE748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BE4E-10B9-46A3-8987-94267760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8648-5A8F-40C6-A65D-1ED3980C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D5B-D174-4615-84B6-AC28F69A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05C-7670-46C1-9F9C-F1710AE2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7F2B-5275-455F-8BFB-EE62B3D56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55560"/>
          <a:ext cx="770724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55560"/>
                    <a:ext cx="77072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93720" y="552600"/>
          <a:ext cx="8161200" cy="589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552600"/>
                    <a:ext cx="8161200" cy="58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06520" y="506520"/>
          <a:ext cx="8461440" cy="59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06520"/>
                    <a:ext cx="846144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63560" y="658800"/>
          <a:ext cx="783288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658800"/>
                    <a:ext cx="78328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95360" y="420840"/>
          <a:ext cx="8386560" cy="62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20840"/>
                    <a:ext cx="8386560" cy="62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57280" y="395280"/>
          <a:ext cx="8138880" cy="645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395280"/>
                    <a:ext cx="8138880" cy="645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50800" y="439560"/>
          <a:ext cx="8042400" cy="597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439560"/>
                    <a:ext cx="8042400" cy="597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06600" y="46980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6980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446040"/>
          <a:ext cx="857268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46040"/>
                    <a:ext cx="857268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81040" y="433440"/>
          <a:ext cx="828828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33440"/>
                    <a:ext cx="828828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1280" y="506520"/>
          <a:ext cx="8548560" cy="800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06520"/>
                    <a:ext cx="8548560" cy="80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69960" y="541440"/>
          <a:ext cx="8055000" cy="59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541440"/>
                    <a:ext cx="8055000" cy="59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5:32:13Z</dcterms:created>
  <dc:creator>jalvarez</dc:creator>
  <dc:description/>
  <dc:language>en-US</dc:language>
  <cp:lastModifiedBy>jalvarez</cp:lastModifiedBy>
  <cp:lastPrinted>2006-09-30T17:58:58Z</cp:lastPrinted>
  <dcterms:modified xsi:type="dcterms:W3CDTF">2006-09-30T18:13:34Z</dcterms:modified>
  <cp:revision>19</cp:revision>
  <dc:subject/>
  <dc:title>Sin título de diapositiva</dc:title>
</cp:coreProperties>
</file>