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4FF-FCB3-469B-BB7C-FF14DBB1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E6F-7F53-47DF-8994-8D199670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143E-72D6-4862-BDFD-6C8957BC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253-74FD-4DC7-8C96-F467FAA1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A27-47DB-43BC-BC66-5B8C59F2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117-3916-4855-9194-8F612FB3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903-E9DC-4A42-A6EE-0396D19D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504-E339-4F1A-A27E-9ECBB378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3FE-9B76-47FF-B988-66E5F877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117-516D-41B3-B010-1D1B23DA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B35-FD7E-4672-8EB1-7F6FD58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B45-5F5E-48CD-952E-1291A4D1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BEFC-0F53-4E77-A2E7-5BA3BF3B6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06600"/>
          <a:ext cx="80769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0769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68360" y="666720"/>
          <a:ext cx="820728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66720"/>
                    <a:ext cx="820728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84120" y="457200"/>
          <a:ext cx="8583840" cy="69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583840" cy="69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58920" y="495360"/>
          <a:ext cx="841212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495360"/>
                    <a:ext cx="841212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82760" y="482760"/>
          <a:ext cx="84610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68440" y="519120"/>
          <a:ext cx="8040600" cy="54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19120"/>
                    <a:ext cx="8040600" cy="54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9480" y="533520"/>
          <a:ext cx="81392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81392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31720"/>
          <a:ext cx="842328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31720"/>
                    <a:ext cx="842328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19120" y="903240"/>
          <a:ext cx="8004240" cy="4997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" y="903240"/>
                    <a:ext cx="800424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42960" y="469800"/>
          <a:ext cx="8226360" cy="602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60" y="469800"/>
                    <a:ext cx="822636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42960" y="606600"/>
          <a:ext cx="807876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06600"/>
                    <a:ext cx="807876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57280" y="469800"/>
          <a:ext cx="83865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69800"/>
                    <a:ext cx="83865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420840"/>
          <a:ext cx="81025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420840"/>
                    <a:ext cx="81025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668160"/>
          <a:ext cx="82011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68160"/>
                    <a:ext cx="82011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44680" y="593640"/>
          <a:ext cx="796608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93640"/>
                    <a:ext cx="796608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31720" y="482760"/>
          <a:ext cx="8436240" cy="65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82760"/>
                    <a:ext cx="8436240" cy="65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3560" y="576360"/>
          <a:ext cx="8431200" cy="57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6360"/>
                    <a:ext cx="8431200" cy="57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61800" y="289080"/>
          <a:ext cx="8420400" cy="62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289080"/>
                    <a:ext cx="8420400" cy="62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5:32:13Z</dcterms:created>
  <dc:creator>jalvarez</dc:creator>
  <dc:description/>
  <dc:language>en-US</dc:language>
  <cp:lastModifiedBy>jalvarez</cp:lastModifiedBy>
  <cp:lastPrinted>2006-09-26T20:16:23Z</cp:lastPrinted>
  <dcterms:modified xsi:type="dcterms:W3CDTF">2006-09-27T15:13:28Z</dcterms:modified>
  <cp:revision>23</cp:revision>
  <dc:subject/>
  <dc:title>Sin título de diapositiva</dc:title>
</cp:coreProperties>
</file>