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062-76E1-4709-9D64-3700855D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AE5-7DE3-4936-8515-74A1A73D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054-4532-429E-A270-F3745873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F61-0191-44F7-8A07-E9B2FC1E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282-88D5-47CB-9758-C460D7F8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153-A53A-4A76-B254-0AD0330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70F-21F0-4E1B-9335-EE334FD0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BF3-B962-4DAF-BFCA-CA0CA07C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E52-AB0D-44F7-B4F8-D5E6AA7E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E68-834B-4CFC-A6C7-9EE1DE61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A29-3C86-425C-80C3-2246C179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46C-6100-49B1-BF7E-77CE9B5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064A-BCFE-4FA0-B04F-D2070254C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06600"/>
          <a:ext cx="80769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0769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68360" y="666720"/>
          <a:ext cx="820728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66720"/>
                    <a:ext cx="820728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84120" y="457200"/>
          <a:ext cx="8583840" cy="69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58384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58920" y="495360"/>
          <a:ext cx="84121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495360"/>
                    <a:ext cx="84121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82760" y="482760"/>
          <a:ext cx="84610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68440" y="519120"/>
          <a:ext cx="8040600" cy="54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19120"/>
                    <a:ext cx="804060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9480" y="533520"/>
          <a:ext cx="81392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81392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31720"/>
          <a:ext cx="842328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31720"/>
                    <a:ext cx="842328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19120" y="903240"/>
          <a:ext cx="8004240" cy="4997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" y="903240"/>
                    <a:ext cx="80042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42960" y="469800"/>
          <a:ext cx="8226360" cy="602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469800"/>
                    <a:ext cx="822636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42960" y="606600"/>
          <a:ext cx="807876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06600"/>
                    <a:ext cx="807876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57280" y="469800"/>
          <a:ext cx="83865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69800"/>
                    <a:ext cx="83865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420840"/>
          <a:ext cx="81025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420840"/>
                    <a:ext cx="81025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668160"/>
          <a:ext cx="82011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68160"/>
                    <a:ext cx="82011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44680" y="593640"/>
          <a:ext cx="796608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93640"/>
                    <a:ext cx="796608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1720" y="482760"/>
          <a:ext cx="8436240" cy="65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36240" cy="65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3560" y="576360"/>
          <a:ext cx="8431200" cy="57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6360"/>
                    <a:ext cx="8431200" cy="57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61800" y="289080"/>
          <a:ext cx="8420400" cy="62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89080"/>
                    <a:ext cx="8420400" cy="62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5:32:13Z</dcterms:created>
  <dc:creator>jalvarez</dc:creator>
  <dc:description/>
  <dc:language>en-US</dc:language>
  <cp:lastModifiedBy>jalvarez</cp:lastModifiedBy>
  <cp:lastPrinted>2006-09-26T20:16:23Z</cp:lastPrinted>
  <dcterms:modified xsi:type="dcterms:W3CDTF">2006-09-27T15:13:28Z</dcterms:modified>
  <cp:revision>23</cp:revision>
  <dc:subject/>
  <dc:title>Sin título de diapositiva</dc:title>
</cp:coreProperties>
</file>