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35A-52E0-4EBE-BB63-7345CD4E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67E-4FDD-45E4-8D8F-47189B18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6A2-EE4E-43D6-9469-7805B705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D10-FED7-465E-BA43-F85D8F9E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EF0-546C-4A1A-9DBC-19FFDA54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E943-0338-487C-8124-44C8E87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38B1-FC5C-4CC1-8BF1-0A1E88E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E49-0C28-47CD-AEB8-0BA6B7F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331-1D6B-4200-B0B4-66BBD1E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19CE-9EFE-41D6-874F-938387D1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976-4BBE-4079-9614-F11907F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EA5-F310-4BB9-9303-2B86265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10C1-5C8B-4580-83D5-1A90A063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AFC4-2A62-4E67-B636-AAD44B5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B5C3-9A19-4148-BA4C-BC869B3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F732-DA35-4942-8A95-92AC27A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A9E-29C1-4E4C-A988-D944D65E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403-BD1C-4D20-9CB1-CC52B091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2F4-49BA-4AB9-8A3F-705C101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36F-1763-4BC2-8030-88E820C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559-8A6D-4877-83E8-A2EE565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470-1395-47B0-844F-2CD6ADA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A65-196B-439C-AB0E-FAD2A600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017-1A7F-409E-9E13-39EB806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60F9-2C21-4FE8-B034-1264650C78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0A14-EB0A-4A23-8E67-5F2EDB7F13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lisade.com/downloads/87236/rsk455std.zi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7: Iniciar la Simul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843280" y="1773360"/>
          <a:ext cx="34002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73360"/>
                    <a:ext cx="3400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59200" y="1917720"/>
            <a:ext cx="36036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2781360"/>
            <a:ext cx="1873440" cy="1584360"/>
          </a:xfrm>
          <a:prstGeom prst="downArrow">
            <a:avLst>
              <a:gd name="adj1" fmla="val 53046"/>
              <a:gd name="adj2" fmla="val 3218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5086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to abre una ventana de resultados de @Risk, donde se pueden analizar los datos vía estadísticos descriptivos, gráfico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Paso 8:Result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2252" b="29291"/>
          <a:stretch/>
        </p:blipFill>
        <p:spPr>
          <a:xfrm>
            <a:off x="1187280" y="1989000"/>
            <a:ext cx="64090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2000" y="4292640"/>
            <a:ext cx="446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Estadística detal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Escen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2565000"/>
            <a:ext cx="1295280" cy="18003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720720" cy="3589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Estadística Detalla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-461" b="10256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11640" y="4941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Prob VPN &l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780000" y="47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Sensibil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37548" b="59203"/>
          <a:stretch/>
        </p:blipFill>
        <p:spPr>
          <a:xfrm>
            <a:off x="1908000" y="2492280"/>
            <a:ext cx="511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escenari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34832" b="56481"/>
          <a:stretch/>
        </p:blipFill>
        <p:spPr>
          <a:xfrm>
            <a:off x="1403280" y="198108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Resultados: Gráf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893" b="10256"/>
          <a:stretch/>
        </p:blipFill>
        <p:spPr>
          <a:xfrm>
            <a:off x="1332000" y="1844640"/>
            <a:ext cx="6408720" cy="43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68360" y="220500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284640"/>
            <a:ext cx="259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ijo el 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(Tornado sirve para ver la sensibilid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cargar programa de la pagina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palisade.com/downloads/87236/rsk455std.z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stalación de @Risk, que se acopla como una función del programa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3640" y="4508640"/>
          <a:ext cx="2973600" cy="18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508640"/>
                    <a:ext cx="29736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716360" y="5084640"/>
            <a:ext cx="31672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39840" y="4886280"/>
          <a:ext cx="203976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9840" y="4886280"/>
                    <a:ext cx="2039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iciar el programa @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2781360"/>
          <a:ext cx="695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695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435640" y="6165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486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e utiliza un modelo ya existente en una hoja de cálculo (Ocuparemos simulación.x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abrir se utiliza el botón Abrir de la barra de herramientas de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Entradas y Sal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637000"/>
            <a:ext cx="252072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7200" spc="-1" strike="noStrike">
                <a:solidFill>
                  <a:srgbClr val="0000ff"/>
                </a:solidFill>
                <a:latin typeface="Century Gothic"/>
              </a:rPr>
              <a:t>@Risk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997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789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65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1981080"/>
          <a:ext cx="676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676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796000" y="422100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2521080" cy="934920"/>
          </a:xfrm>
          <a:prstGeom prst="wedgeRectCallout">
            <a:avLst>
              <a:gd name="adj1" fmla="val -45717"/>
              <a:gd name="adj2" fmla="val 65449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3640" y="1989000"/>
          <a:ext cx="5753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5753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flipV="1">
            <a:off x="2626920" y="2276280"/>
            <a:ext cx="25210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6920" y="3212640"/>
            <a:ext cx="25210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26920" y="407664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4292640"/>
            <a:ext cx="2521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4437000"/>
            <a:ext cx="25210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44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po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er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do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4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Sup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Verdana"/>
              </a:rPr>
              <a:t>Paso 5: Ingreso de Outpu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73360"/>
          <a:ext cx="6049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049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00720" y="2060640"/>
            <a:ext cx="1944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87640" y="5013360"/>
          <a:ext cx="33242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3324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732720" y="2060640"/>
            <a:ext cx="1366560" cy="4464000"/>
          </a:xfrm>
          <a:custGeom>
            <a:avLst/>
            <a:gdLst>
              <a:gd name="textAreaLeft" fmla="*/ 182880 w 1366560"/>
              <a:gd name="textAreaRight" fmla="*/ 1183680 w 1366560"/>
              <a:gd name="textAreaTop" fmla="*/ 869400 h 4464000"/>
              <a:gd name="textAreaBottom" fmla="*/ 29674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3366405"/>
                <a:lnTo>
                  <a:pt x="5469" y="21326"/>
                </a:lnTo>
                <a:lnTo>
                  <a:pt x="0" y="17698"/>
                </a:lnTo>
                <a:lnTo>
                  <a:pt x="5469" y="13522"/>
                </a:lnTo>
                <a:lnTo>
                  <a:pt x="5469" y="16556"/>
                </a:lnTo>
                <a:arcTo wR="21600" hR="8415" stAng="3366405" swAng="-3227593"/>
                <a:lnTo>
                  <a:pt x="21485" y="9283"/>
                </a:lnTo>
                <a:arcTo wR="21600" hR="8415" stAng="-138812" swAng="-5261188"/>
                <a:close/>
              </a:path>
              <a:path fill="darkenLess"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-138812"/>
                <a:lnTo>
                  <a:pt x="21485" y="9283"/>
                </a:lnTo>
                <a:arcTo wR="21600" hR="8415" stAng="-138812" swAng="-52611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2708280"/>
            <a:ext cx="2519280" cy="865080"/>
          </a:xfrm>
          <a:prstGeom prst="wedgeRectCallout">
            <a:avLst>
              <a:gd name="adj1" fmla="val 41180"/>
              <a:gd name="adj2" fmla="val -140643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6: Configuración del Simulad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1700280"/>
          <a:ext cx="184788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18478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24360" y="1700280"/>
            <a:ext cx="57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3068640"/>
          <a:ext cx="348624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068640"/>
                    <a:ext cx="34862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08720" y="3789360"/>
          <a:ext cx="3467160" cy="29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89360"/>
                    <a:ext cx="34671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635280" y="2421000"/>
            <a:ext cx="1873440" cy="503280"/>
          </a:xfrm>
          <a:prstGeom prst="downArrow">
            <a:avLst>
              <a:gd name="adj1" fmla="val 54574"/>
              <a:gd name="adj2" fmla="val 5804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573360"/>
            <a:ext cx="49687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716280"/>
            <a:ext cx="1584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79736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472428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602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grande de it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971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imulación De MonteCar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0:07:07Z</dcterms:created>
  <dc:creator>Jose Manuel Mino Castaneda</dc:creator>
  <dc:description/>
  <dc:language>en-US</dc:language>
  <cp:lastModifiedBy>...</cp:lastModifiedBy>
  <dcterms:modified xsi:type="dcterms:W3CDTF">2006-01-17T17:45:28Z</dcterms:modified>
  <cp:revision>21</cp:revision>
  <dc:subject/>
  <dc:title>CLASE DE SIMULACIÓN</dc:title>
</cp:coreProperties>
</file>