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715-8515-4B5E-940A-2E993454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720-2EA6-4EC1-A1CD-851F1B41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FD2-35CD-44F4-85C5-1E0FAAB5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CEC-88CB-4CFB-BA33-47AE425F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4693-41B7-4B3C-A12C-5F4746E9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DC09-7CED-4E37-94D7-FF83BF20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5660-0CBE-4E05-AA0A-570E3556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C7B9-1A8A-4FAF-B73A-849A2840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4472-32D7-4226-BA6D-1BEB30A8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9686-EA03-4D12-9D6D-3E724714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9B3E-4EAD-4C4A-8993-A2165C0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6B8-5668-468C-8983-7C1DB053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0897-7F9F-425D-B662-0A80923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7866-B33F-4621-8907-77D8A3B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6A77-9142-4DC7-AE3F-C2D93557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9851-3DB6-40D0-AF4C-08AEB6E6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8039-F568-4D89-A7EA-69910746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6E2-C9E2-49F0-8B51-4BCC47BB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1E2-571D-40B2-9E95-CB1668FD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3B5-C61B-411A-82CB-17AE27E5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536-4E02-4493-9829-D6F11C67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DA5-9CD7-45D2-854B-2C13604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A68-1092-4E8C-BFF0-37210F7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130-A4BC-4467-BAA2-48DCF8DC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25EF-4306-487A-AA0F-938C627C9DA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CCAA-2CD3-4143-BF91-C6A0B3E9863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lisade.com/downloads/87236/rsk455std.zip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1371240"/>
            <a:ext cx="61736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cc66"/>
                </a:solidFill>
                <a:latin typeface="Verdana"/>
              </a:rPr>
              <a:t>CLASE DE SIMUL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so del software @Risk 4.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In42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Verano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aso 7: Iniciar la Simula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843280" y="1773360"/>
          <a:ext cx="340020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773360"/>
                    <a:ext cx="34002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759200" y="1917720"/>
            <a:ext cx="36036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2781360"/>
            <a:ext cx="1873440" cy="1584360"/>
          </a:xfrm>
          <a:prstGeom prst="downArrow">
            <a:avLst>
              <a:gd name="adj1" fmla="val 53046"/>
              <a:gd name="adj2" fmla="val 3218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450864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sto abre una ventana de resultados de @Risk, donde se pueden analizar los datos vía estadísticos descriptivos, gráficos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Paso 8:Result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2252" b="29291"/>
          <a:stretch/>
        </p:blipFill>
        <p:spPr>
          <a:xfrm>
            <a:off x="1187280" y="1989000"/>
            <a:ext cx="64090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332000" y="4292640"/>
            <a:ext cx="446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Estadística detall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Análisis de Sensi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Análisis de Escen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92360" y="2565000"/>
            <a:ext cx="1295280" cy="180036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2349360"/>
            <a:ext cx="720720" cy="35892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Estadística Detallad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0" r="-461" b="10256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211640" y="4941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Prob VPN &l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780000" y="4797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Análisis de Sensibilid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37548" b="59203"/>
          <a:stretch/>
        </p:blipFill>
        <p:spPr>
          <a:xfrm>
            <a:off x="1908000" y="2492280"/>
            <a:ext cx="5112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Análisis de escenari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34832" b="56481"/>
          <a:stretch/>
        </p:blipFill>
        <p:spPr>
          <a:xfrm>
            <a:off x="1403280" y="1981080"/>
            <a:ext cx="640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Resultados: Gráf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893" b="10256"/>
          <a:stretch/>
        </p:blipFill>
        <p:spPr>
          <a:xfrm>
            <a:off x="1332000" y="1844640"/>
            <a:ext cx="6408720" cy="4319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468360" y="2205000"/>
            <a:ext cx="2374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3284640"/>
            <a:ext cx="2592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ijo el gráf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(Tornado sirve para ver la sensibilid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480" y="1371240"/>
            <a:ext cx="61736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cc66"/>
                </a:solidFill>
                <a:latin typeface="Verdana"/>
              </a:rPr>
              <a:t>CLASE DE SIMUL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so del software @Risk 4.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In42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Verano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Paso 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9280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scargar programa de la pagina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http://www.palisade.com/downloads/87236/rsk455std.z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Instalación de @Risk, que se acopla como una función del programa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03640" y="4508640"/>
          <a:ext cx="2973600" cy="186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4508640"/>
                    <a:ext cx="297360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716360" y="5084640"/>
            <a:ext cx="31672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39840" y="4886280"/>
          <a:ext cx="2039760" cy="12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39840" y="4886280"/>
                    <a:ext cx="20397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Paso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9280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Iniciar el programa @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42920" y="2781360"/>
          <a:ext cx="6951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81360"/>
                    <a:ext cx="695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435640" y="616572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486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Se utiliza un modelo ya existente en una hoja de cálculo (Ocuparemos simulación.x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abrir se utiliza el botón Abrir de la barra de herramientas de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Entradas y Sali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637000"/>
            <a:ext cx="2520720" cy="21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7200" spc="-1" strike="noStrike">
                <a:solidFill>
                  <a:srgbClr val="0000ff"/>
                </a:solidFill>
                <a:latin typeface="Century Gothic"/>
              </a:rPr>
              <a:t>@Risk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2997360"/>
            <a:ext cx="2592360" cy="792000"/>
          </a:xfrm>
          <a:prstGeom prst="rightArrow">
            <a:avLst>
              <a:gd name="adj1" fmla="val 50000"/>
              <a:gd name="adj2" fmla="val 818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 Gothic"/>
              </a:rPr>
              <a:t>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3789360"/>
            <a:ext cx="2592360" cy="792000"/>
          </a:xfrm>
          <a:prstGeom prst="rightArrow">
            <a:avLst>
              <a:gd name="adj1" fmla="val 50000"/>
              <a:gd name="adj2" fmla="val 8183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 Gothic"/>
              </a:rPr>
              <a:t>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465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4: Ingreso de Inpu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1981080"/>
          <a:ext cx="6769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1080"/>
                    <a:ext cx="6769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796000" y="422100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200400"/>
            <a:ext cx="2521080" cy="934920"/>
          </a:xfrm>
          <a:prstGeom prst="wedgeRectCallout">
            <a:avLst>
              <a:gd name="adj1" fmla="val -45717"/>
              <a:gd name="adj2" fmla="val 65449"/>
            </a:avLst>
          </a:prstGeom>
          <a:solidFill>
            <a:srgbClr val="00ffff">
              <a:alpha val="5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lick con el botón dere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4: Ingreso de Inpu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03640" y="1989000"/>
          <a:ext cx="57531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5753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 flipV="1">
            <a:off x="2626920" y="2276280"/>
            <a:ext cx="252108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626920" y="3212640"/>
            <a:ext cx="252108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626920" y="4076640"/>
            <a:ext cx="252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26920" y="4292640"/>
            <a:ext cx="252108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626920" y="4437000"/>
            <a:ext cx="252108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844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po de Distrib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er paráme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78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do paráme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465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ta Inf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544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ta Sup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Verdana"/>
              </a:rPr>
              <a:t>Paso 5: Ingreso de Outpu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773360"/>
          <a:ext cx="6049800" cy="24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60498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500720" y="2060640"/>
            <a:ext cx="19443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87640" y="5013360"/>
          <a:ext cx="332424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5013360"/>
                    <a:ext cx="33242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732720" y="2060640"/>
            <a:ext cx="1366560" cy="4464000"/>
          </a:xfrm>
          <a:custGeom>
            <a:avLst/>
            <a:gdLst>
              <a:gd name="textAreaLeft" fmla="*/ 182880 w 1366560"/>
              <a:gd name="textAreaRight" fmla="*/ 1183680 w 1366560"/>
              <a:gd name="textAreaTop" fmla="*/ 869400 h 4464000"/>
              <a:gd name="textAreaBottom" fmla="*/ 29674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15" stAng="-5400000" swAng="5400000"/>
                <a:lnTo>
                  <a:pt x="21600" y="10151"/>
                </a:lnTo>
                <a:arcTo wR="21600" hR="8415" stAng="0" swAng="3366405"/>
                <a:lnTo>
                  <a:pt x="5469" y="21326"/>
                </a:lnTo>
                <a:lnTo>
                  <a:pt x="0" y="17698"/>
                </a:lnTo>
                <a:lnTo>
                  <a:pt x="5469" y="13522"/>
                </a:lnTo>
                <a:lnTo>
                  <a:pt x="5469" y="16556"/>
                </a:lnTo>
                <a:arcTo wR="21600" hR="8415" stAng="3366405" swAng="-3227593"/>
                <a:lnTo>
                  <a:pt x="21485" y="9283"/>
                </a:lnTo>
                <a:arcTo wR="21600" hR="8415" stAng="-138812" swAng="-5261188"/>
                <a:close/>
              </a:path>
              <a:path fill="darkenLess" w="21600" h="21600">
                <a:moveTo>
                  <a:pt x="0" y="0"/>
                </a:moveTo>
                <a:arcTo wR="21600" hR="8415" stAng="-5400000" swAng="5400000"/>
                <a:lnTo>
                  <a:pt x="21600" y="10151"/>
                </a:lnTo>
                <a:arcTo wR="21600" hR="8415" stAng="0" swAng="-138812"/>
                <a:lnTo>
                  <a:pt x="21485" y="9283"/>
                </a:lnTo>
                <a:arcTo wR="21600" hR="8415" stAng="-138812" swAng="-526118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2708280"/>
            <a:ext cx="2519280" cy="865080"/>
          </a:xfrm>
          <a:prstGeom prst="wedgeRectCallout">
            <a:avLst>
              <a:gd name="adj1" fmla="val 41180"/>
              <a:gd name="adj2" fmla="val -140643"/>
            </a:avLst>
          </a:prstGeom>
          <a:solidFill>
            <a:srgbClr val="00ffff">
              <a:alpha val="5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Verdana"/>
              </a:rPr>
              <a:t>Click con el botón derec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aso 6: Configuración del Simulad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35280" y="1700280"/>
          <a:ext cx="184788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00280"/>
                    <a:ext cx="18478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924360" y="1700280"/>
            <a:ext cx="57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8000" y="3068640"/>
          <a:ext cx="3486240" cy="29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3068640"/>
                    <a:ext cx="348624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508720" y="3789360"/>
          <a:ext cx="3467160" cy="290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3789360"/>
                    <a:ext cx="346716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635280" y="2421000"/>
            <a:ext cx="1873440" cy="503280"/>
          </a:xfrm>
          <a:prstGeom prst="downArrow">
            <a:avLst>
              <a:gd name="adj1" fmla="val 54574"/>
              <a:gd name="adj2" fmla="val 5804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3573360"/>
            <a:ext cx="496872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3716280"/>
            <a:ext cx="1584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479736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4724280"/>
            <a:ext cx="863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602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grande de it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971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imulación De MonteCar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20:07:07Z</dcterms:created>
  <dc:creator>Jose Manuel Mino Castaneda</dc:creator>
  <dc:description/>
  <dc:language>en-US</dc:language>
  <cp:lastModifiedBy>...</cp:lastModifiedBy>
  <dcterms:modified xsi:type="dcterms:W3CDTF">2006-01-17T17:45:28Z</dcterms:modified>
  <cp:revision>21</cp:revision>
  <dc:subject/>
  <dc:title>CLASE DE SIMULACIÓN</dc:title>
</cp:coreProperties>
</file>