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020A-4788-448C-BA59-A11C2D39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AA7A-20CB-417F-979C-FFEAD6B6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C487-C8C0-4428-A2E6-80A14246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98E5-6B69-4D3B-9CC5-41A7E1E11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8197-382F-4F0C-9721-FE72960A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7E86-1C7B-4A8E-B0DE-DEB16329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8552-EDD6-421E-A113-070C6EB4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E96A-7192-48BC-9E25-861C14D1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A112-4E23-47E4-A8F3-58127791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591D-F293-4E99-BC6B-9A557400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2E01-6662-420A-BD77-937CB0EB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0459-311A-48B2-8E87-61EA906E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E9AE-2EC9-4396-88AA-5666855A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576D-FD4D-42BC-94F5-521A15DB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3512-592F-4BE4-B425-36BCF380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DCCA-E225-4854-9D0B-62AAF10A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A4E7-11A6-4C64-BEC4-662E2F2A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4BE-E556-41F5-93BD-A9E6F21B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861-EE50-4543-88A0-53858546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D6A4-F66D-4FC2-9393-E8F0F179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D463-ED05-4AA3-8394-05B7BCD2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709F-FA3E-433B-A3E2-780BA63F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621A-DBDC-433E-B424-F2229B85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6748-17AC-42EC-BDEA-215F8650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A9B5-6930-4E2E-B5EA-B1088062572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F087-5D23-4E05-A807-D68BE42121D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alisade.com/downloads/87236/rsk455std.zip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480" y="1371240"/>
            <a:ext cx="617364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cc66"/>
                </a:solidFill>
                <a:latin typeface="Verdana"/>
              </a:rPr>
              <a:t>CLASE DE SIMULA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Uso del software @Risk 4.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In42a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– Verano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Paso 7: Iniciar la Simulació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843280" y="1773360"/>
          <a:ext cx="340020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773360"/>
                    <a:ext cx="340020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4759200" y="1917720"/>
            <a:ext cx="36036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08360" y="2781360"/>
            <a:ext cx="1873440" cy="1584360"/>
          </a:xfrm>
          <a:prstGeom prst="downArrow">
            <a:avLst>
              <a:gd name="adj1" fmla="val 53046"/>
              <a:gd name="adj2" fmla="val 3218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8000" y="4508640"/>
            <a:ext cx="89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Esto abre una ventana de resultados de @Risk, donde se pueden analizar los datos vía estadísticos descriptivos, gráficos,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Arial"/>
              </a:rPr>
              <a:t>Paso 8:Resultad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2252" b="29291"/>
          <a:stretch/>
        </p:blipFill>
        <p:spPr>
          <a:xfrm>
            <a:off x="1187280" y="1989000"/>
            <a:ext cx="6409080" cy="4464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332000" y="4292640"/>
            <a:ext cx="4464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ff"/>
                </a:solidFill>
                <a:latin typeface="Verdana"/>
              </a:rPr>
              <a:t>Estadística detall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ff"/>
                </a:solidFill>
                <a:latin typeface="Verdana"/>
              </a:rPr>
              <a:t>Análisis de Sensi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ff"/>
                </a:solidFill>
                <a:latin typeface="Verdana"/>
              </a:rPr>
              <a:t>Análisis de Escena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92360" y="2565000"/>
            <a:ext cx="1295280" cy="1800360"/>
          </a:xfrm>
          <a:prstGeom prst="line">
            <a:avLst/>
          </a:prstGeom>
          <a:ln w="93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2349360"/>
            <a:ext cx="720720" cy="35892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66"/>
                </a:solidFill>
                <a:latin typeface="Verdana"/>
              </a:rPr>
              <a:t>Resultados: Estadística Detallad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0" t="0" r="-461" b="10256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211640" y="494172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ff"/>
                </a:solidFill>
                <a:latin typeface="Verdana"/>
              </a:rPr>
              <a:t>Prob VPN &l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780000" y="4797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66"/>
                </a:solidFill>
                <a:latin typeface="Verdana"/>
              </a:rPr>
              <a:t>Resultados: Análisis de Sensibilida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37548" b="59203"/>
          <a:stretch/>
        </p:blipFill>
        <p:spPr>
          <a:xfrm>
            <a:off x="1908000" y="2492280"/>
            <a:ext cx="51120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66"/>
                </a:solidFill>
                <a:latin typeface="Verdana"/>
              </a:rPr>
              <a:t>Resultados: Análisis de escenario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0" r="34832" b="56481"/>
          <a:stretch/>
        </p:blipFill>
        <p:spPr>
          <a:xfrm>
            <a:off x="1403280" y="1981080"/>
            <a:ext cx="6408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Verdana"/>
              </a:rPr>
              <a:t>Resultados: Gráf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0" r="893" b="10256"/>
          <a:stretch/>
        </p:blipFill>
        <p:spPr>
          <a:xfrm>
            <a:off x="1332000" y="1844640"/>
            <a:ext cx="6408720" cy="4319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V="1">
            <a:off x="468360" y="2205000"/>
            <a:ext cx="2374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3284640"/>
            <a:ext cx="2592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ijo el gráf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(Tornado sirve para ver la sensibilida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3480" y="1371240"/>
            <a:ext cx="617364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cc66"/>
                </a:solidFill>
                <a:latin typeface="Verdana"/>
              </a:rPr>
              <a:t>CLASE DE SIMULA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Uso del software @Risk 4.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In42a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– Verano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Verdana"/>
              </a:rPr>
              <a:t>Paso 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980720"/>
            <a:ext cx="892800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Descargar programa de la pagina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2000" spc="-1" strike="noStrike" u="sng">
                <a:solidFill>
                  <a:srgbClr val="ff0033"/>
                </a:solidFill>
                <a:uFillTx/>
                <a:latin typeface="Verdana"/>
                <a:hlinkClick r:id="rId1"/>
              </a:rPr>
              <a:t>http://www.palisade.com/downloads/87236/rsk455std.z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Instalación de @Risk, que se acopla como una función del programa Exc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003640" y="4508640"/>
          <a:ext cx="2973600" cy="186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4508640"/>
                    <a:ext cx="297360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716360" y="5084640"/>
            <a:ext cx="316728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39840" y="4886280"/>
          <a:ext cx="2039760" cy="12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39840" y="4886280"/>
                    <a:ext cx="203976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Verdana"/>
              </a:rPr>
              <a:t>Paso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980720"/>
            <a:ext cx="892800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Iniciar el programa @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042920" y="2781360"/>
          <a:ext cx="6951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781360"/>
                    <a:ext cx="6951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5435640" y="6165720"/>
            <a:ext cx="194472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Verdana"/>
              </a:rPr>
              <a:t>Paso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4865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Se utiliza un modelo ya existente en una hoja de cálculo (Ocuparemos simulación.x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Para abrir se utiliza el botón Abrir de la barra de herramientas de Exc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Verdana"/>
              </a:rPr>
              <a:t>Entradas y Salid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2637000"/>
            <a:ext cx="2520720" cy="2158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7200" spc="-1" strike="noStrike">
                <a:solidFill>
                  <a:srgbClr val="0000ff"/>
                </a:solidFill>
                <a:latin typeface="Century Gothic"/>
              </a:rPr>
              <a:t>@Risk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2997360"/>
            <a:ext cx="2592360" cy="792000"/>
          </a:xfrm>
          <a:prstGeom prst="rightArrow">
            <a:avLst>
              <a:gd name="adj1" fmla="val 50000"/>
              <a:gd name="adj2" fmla="val 8183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 Gothic"/>
              </a:rPr>
              <a:t>In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3789360"/>
            <a:ext cx="2592360" cy="792000"/>
          </a:xfrm>
          <a:prstGeom prst="rightArrow">
            <a:avLst>
              <a:gd name="adj1" fmla="val 50000"/>
              <a:gd name="adj2" fmla="val 81830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 Gothic"/>
              </a:rPr>
              <a:t>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465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Verdana"/>
              </a:rPr>
              <a:t>Paso 4: Ingreso de Inpu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87280" y="1981080"/>
          <a:ext cx="6769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81080"/>
                    <a:ext cx="6769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5796000" y="4221000"/>
            <a:ext cx="194472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3200400"/>
            <a:ext cx="2521080" cy="934920"/>
          </a:xfrm>
          <a:prstGeom prst="wedgeRectCallout">
            <a:avLst>
              <a:gd name="adj1" fmla="val -45717"/>
              <a:gd name="adj2" fmla="val 65449"/>
            </a:avLst>
          </a:prstGeom>
          <a:solidFill>
            <a:srgbClr val="00ffff">
              <a:alpha val="5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lick con el botón derec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Verdana"/>
              </a:rPr>
              <a:t>Paso 4: Ingreso de Inpu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203640" y="1989000"/>
          <a:ext cx="57531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989000"/>
                    <a:ext cx="57531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flipH="1" flipV="1">
            <a:off x="2626920" y="2276280"/>
            <a:ext cx="252108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2626920" y="3212640"/>
            <a:ext cx="252108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626920" y="4076640"/>
            <a:ext cx="2521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626920" y="4292640"/>
            <a:ext cx="252108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626920" y="4437000"/>
            <a:ext cx="252108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184464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ipo de Distribu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2852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er parámet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37893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do parámet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8000" y="4653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ta Inf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8000" y="5445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ta Sup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66"/>
                </a:solidFill>
                <a:latin typeface="Verdana"/>
              </a:rPr>
              <a:t>Paso 5: Ingreso de Output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0920" y="1773360"/>
          <a:ext cx="6049800" cy="24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604980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4500720" y="2060640"/>
            <a:ext cx="194436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987640" y="5013360"/>
          <a:ext cx="3324240" cy="12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5013360"/>
                    <a:ext cx="33242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6732720" y="2060640"/>
            <a:ext cx="1366560" cy="4464000"/>
          </a:xfrm>
          <a:custGeom>
            <a:avLst/>
            <a:gdLst>
              <a:gd name="textAreaLeft" fmla="*/ 182880 w 1366560"/>
              <a:gd name="textAreaRight" fmla="*/ 1183680 w 1366560"/>
              <a:gd name="textAreaTop" fmla="*/ 869400 h 4464000"/>
              <a:gd name="textAreaBottom" fmla="*/ 296748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15" stAng="-5400000" swAng="5400000"/>
                <a:lnTo>
                  <a:pt x="21600" y="10151"/>
                </a:lnTo>
                <a:arcTo wR="21600" hR="8415" stAng="0" swAng="3366405"/>
                <a:lnTo>
                  <a:pt x="5469" y="21326"/>
                </a:lnTo>
                <a:lnTo>
                  <a:pt x="0" y="17698"/>
                </a:lnTo>
                <a:lnTo>
                  <a:pt x="5469" y="13522"/>
                </a:lnTo>
                <a:lnTo>
                  <a:pt x="5469" y="16556"/>
                </a:lnTo>
                <a:arcTo wR="21600" hR="8415" stAng="3366405" swAng="-3227593"/>
                <a:lnTo>
                  <a:pt x="21485" y="9283"/>
                </a:lnTo>
                <a:arcTo wR="21600" hR="8415" stAng="-138812" swAng="-5261188"/>
                <a:close/>
              </a:path>
              <a:path fill="darkenLess" w="21600" h="21600">
                <a:moveTo>
                  <a:pt x="0" y="0"/>
                </a:moveTo>
                <a:arcTo wR="21600" hR="8415" stAng="-5400000" swAng="5400000"/>
                <a:lnTo>
                  <a:pt x="21600" y="10151"/>
                </a:lnTo>
                <a:arcTo wR="21600" hR="8415" stAng="0" swAng="-138812"/>
                <a:lnTo>
                  <a:pt x="21485" y="9283"/>
                </a:lnTo>
                <a:arcTo wR="21600" hR="8415" stAng="-138812" swAng="-5261188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8000" y="2708280"/>
            <a:ext cx="2519280" cy="865080"/>
          </a:xfrm>
          <a:prstGeom prst="wedgeRectCallout">
            <a:avLst>
              <a:gd name="adj1" fmla="val 41180"/>
              <a:gd name="adj2" fmla="val -140643"/>
            </a:avLst>
          </a:prstGeom>
          <a:solidFill>
            <a:srgbClr val="00ffff">
              <a:alpha val="5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Verdana"/>
              </a:rPr>
              <a:t>Click con el botón derech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Paso 6: Configuración del Simulador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635280" y="1700280"/>
          <a:ext cx="1847880" cy="65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700280"/>
                    <a:ext cx="184788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924360" y="1700280"/>
            <a:ext cx="57636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08000" y="3068640"/>
          <a:ext cx="3486240" cy="292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3068640"/>
                    <a:ext cx="348624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508720" y="3789360"/>
          <a:ext cx="3467160" cy="290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08720" y="3789360"/>
                    <a:ext cx="346716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3635280" y="2421000"/>
            <a:ext cx="1873440" cy="503280"/>
          </a:xfrm>
          <a:prstGeom prst="downArrow">
            <a:avLst>
              <a:gd name="adj1" fmla="val 54574"/>
              <a:gd name="adj2" fmla="val 58046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3573360"/>
            <a:ext cx="496872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3716280"/>
            <a:ext cx="1584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51640" y="4797360"/>
            <a:ext cx="93636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08720" y="4724280"/>
            <a:ext cx="86364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6021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# grande de iter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9718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Simulación De MonteCar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20:07:07Z</dcterms:created>
  <dc:creator>Jose Manuel Mino Castaneda</dc:creator>
  <dc:description/>
  <dc:language>en-US</dc:language>
  <cp:lastModifiedBy>...</cp:lastModifiedBy>
  <dcterms:modified xsi:type="dcterms:W3CDTF">2006-01-17T17:45:28Z</dcterms:modified>
  <cp:revision>21</cp:revision>
  <dc:subject/>
  <dc:title>CLASE DE SIMULACIÓN</dc:title>
</cp:coreProperties>
</file>