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055B8F-180B-4A32-A0BC-A09AC2CDCEA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E550CB-E34A-43B5-9A98-9C39DFB75CA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AB984-46BC-44E6-8D64-96A1F113134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598E03-5FDF-428B-85E2-B3071EC0ABC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DD8BE-B0C1-4460-84F2-4BB32F897D2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03AFFB-CC3E-4180-BDD0-37A596B5AC4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78F65E-36DB-4C99-A5D8-C209EAF339E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70F199-9B81-4765-8816-4796D167D59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A91A2B-E8DD-4ECF-99FC-8C7A449E75D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25721E-5C4A-44C8-ADE1-8FEA1A31549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E44118-0085-437B-BA8F-D04466F4833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ones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17560"/>
            <a:ext cx="7737120" cy="1995840"/>
            <a:chOff x="193320" y="441756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1756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0900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6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5-08-03T13:24:18Z</dcterms:modified>
  <cp:revision>25</cp:revision>
  <dc:subject/>
  <dc:title>PowerPoint Presentation</dc:title>
</cp:coreProperties>
</file>