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9E4EEC-939C-4B6D-B1F6-642F2B74B9B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1250A9-F199-44CA-B8AC-F880BD90E5A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8C943-0958-4945-B8CF-575D4A27181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FBACFE-3D74-47C3-B53E-A779995A55C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A1BCCB-A1D3-4E4B-9DA3-D651AD89D7F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F99209-CF16-42A9-990E-807C33C10FF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65196F-2C9D-4059-8485-28233EED6A8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B40F0E-4E7C-4D1F-A1C8-EF4AECBC9CA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329AC2-183A-4283-B90E-E03C27E0A88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6AAB7A-02D3-4DBE-AB8C-2EB0B5D4F4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F663C3-CE80-4747-A033-635EDEC3735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3920" cy="3474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ones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17560"/>
            <a:ext cx="7737120" cy="1995840"/>
            <a:chOff x="193320" y="441756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1756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0900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6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5-08-03T13:24:18Z</dcterms:modified>
  <cp:revision>25</cp:revision>
  <dc:subject/>
  <dc:title>PowerPoint Presentation</dc:title>
</cp:coreProperties>
</file>