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1C6E61-F80D-4812-B978-ED5868BF469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9631CB-69FD-4D21-9762-781DC32936A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82C48D-52E1-4566-8546-73E9D5ECD08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D60CBC-FA8F-4AD0-99A7-0C4F9D98BB6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45FB86-CCB3-456A-873F-1018621BBA6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384DAF-7DE7-4B3B-A3EA-4AC514405FA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79E32E-A164-4EB8-9909-CF5BE8AB8CF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416C39-EFBE-437E-B8E2-0593B77DD8B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CA6E53-79B6-4781-99E4-51D912DAC05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882294-3D7D-47BF-BBCE-D798B56A244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C5A50A-30C9-45DA-A4BF-0AD7879491D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759720" y="64087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SD20A Seminario de Diseño, Sec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Primavera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Secciones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145404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1447920"/>
            <a:ext cx="2349720" cy="178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406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50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286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8560" y="207000"/>
            <a:ext cx="773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spec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20" y="64260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3320" y="4417560"/>
            <a:ext cx="7737120" cy="1995840"/>
            <a:chOff x="193320" y="4417560"/>
            <a:chExt cx="7737120" cy="1995840"/>
          </a:xfrm>
        </p:grpSpPr>
        <p:sp>
          <p:nvSpPr>
            <p:cNvPr id="61" name=""/>
            <p:cNvSpPr/>
            <p:nvPr/>
          </p:nvSpPr>
          <p:spPr>
            <a:xfrm>
              <a:off x="193320" y="4417560"/>
              <a:ext cx="394308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1" lang="de-DE" sz="2000" spc="-1" strike="noStrike">
                  <a:solidFill>
                    <a:srgbClr val="000090"/>
                  </a:solidFill>
                  <a:latin typeface="Comic Sans MS"/>
                </a:rPr>
                <a:t>Administración y Mater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echas Evalu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rofesor Auxiliar y Ayud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Email: rodpalma@ce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4360" y="4509000"/>
              <a:ext cx="3646080" cy="19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ágin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Videos y Simu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Horario de atención Of. 4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ono: 6784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83808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l curso consta de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 Sesiones Obligatorias de Labor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ur de sesiones demostrativas (2 sema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 Cátedra sem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sarrollo de Proyecto de Dis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anto las sesiones de laboratorio como el Proyecto deben realizarse en grupos de 3 personas (máxim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3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lculo de Nota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F=0,2*Nlab+0,5*Proyecto+0,3*Inf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4320" y="1704600"/>
            <a:ext cx="880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Seminario de Diseño tiene como objetivo general constituir una primera experiencia práctica de diseño en alguno de los diversos ámbitos de la ingeniería, contribuyendo con ello tanto a la selección del área de especialización como a la motivación de los alumnos hacia el diseño ingenieril en gene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curso busca también iniciar el desarrollo de habilidades de trabajo en equipo, innovación, emprendimientos y comunicación – escrita y oral - entre otras. Estas destrezas o habilidades se están constituyendo crecientemente en capacidades necesariamente complementarias a los conocimientos teóricos  y prácticos propios de la ingenierí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Generar y fomentar una actitud positiva de los estudiantes de ingeniería de plan común, hacia actividades de diseño tecnológico en torno al uso de energías renovables y su uso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760" y="896400"/>
            <a:ext cx="27061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Semestre de Primavera 200</a:t>
            </a:r>
            <a:r>
              <a:rPr b="1" lang="es-ES_tradnl" sz="1400" spc="-1" strike="noStrike">
                <a:solidFill>
                  <a:srgbClr val="00009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0920" y="2192040"/>
            <a:ext cx="8497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rramientas de búsqueda y procesamiento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6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1760" y="17355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" y="11451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77000" y="1873080"/>
            <a:ext cx="200160" cy="38160"/>
          </a:xfrm>
          <a:custGeom>
            <a:avLst/>
            <a:gdLst/>
            <a:ahLst/>
            <a:rect l="l" t="t" r="r" b="b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103680 w 455400"/>
                <a:gd name="textAreaRight" fmla="*/ 351720 w 455400"/>
                <a:gd name="textAreaTop" fmla="*/ 38160 h 167040"/>
                <a:gd name="textAreaBottom" fmla="*/ 1288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81" y="21600"/>
                  </a:lnTo>
                  <a:lnTo>
                    <a:pt x="5719" y="2160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17" y="16433"/>
                  </a:moveTo>
                  <a:arcTo wR="-8513" hR="-8513" stAng="8314295" swAng="-7513262"/>
                  <a:lnTo>
                    <a:pt x="292" y="8306"/>
                  </a:lnTo>
                  <a:arcTo wR="10800" hR="10800" stAng="-9998968" swAng="7513262"/>
                  <a:lnTo>
                    <a:pt x="20922" y="1867"/>
                  </a:lnTo>
                  <a:lnTo>
                    <a:pt x="20583" y="7292"/>
                  </a:lnTo>
                  <a:lnTo>
                    <a:pt x="15158" y="69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170" name="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171" name="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/>
              <a:ahLst/>
              <a:rect l="l" t="t" r="r" b="b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192" name="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204" name="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227" name="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0 w 314640"/>
                        <a:gd name="textAreaRight" fmla="*/ 315000 w 31464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4417" y="16433"/>
                          </a:moveTo>
                          <a:arcTo wR="-8513" hR="-8513" stAng="8314295" swAng="-7513262"/>
                          <a:lnTo>
                            <a:pt x="292" y="8306"/>
                          </a:lnTo>
                          <a:arcTo wR="10800" hR="10800" stAng="-9998968" swAng="7513262"/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3" name="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269" name="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278" name="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295" name="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/>
                  <a:ahLst/>
                  <a:rect l="l" t="t" r="r" b="b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328" name="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353" name="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7" name="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/>
                <a:ahLst/>
                <a:rect l="l" t="t" r="r" b="b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17" y="16433"/>
                    </a:moveTo>
                    <a:arcTo wR="-8513" hR="-8513" stAng="8314295" swAng="-7513262"/>
                    <a:lnTo>
                      <a:pt x="292" y="8306"/>
                    </a:lnTo>
                    <a:arcTo wR="10800" hR="10800" stAng="-9998968" swAng="7513262"/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388" name="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391" name="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399" name="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402" name="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411" name="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415" name="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429" name="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431" name="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-256320"/>
            <a:ext cx="4684680" cy="3771720"/>
          </a:xfrm>
          <a:prstGeom prst="wedgeRectCallout">
            <a:avLst>
              <a:gd name="adj1" fmla="val -91152"/>
              <a:gd name="adj2" fmla="val -3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35480" y="-52560"/>
            <a:ext cx="4684680" cy="4266000"/>
          </a:xfrm>
          <a:prstGeom prst="wedgeRectCallout">
            <a:avLst>
              <a:gd name="adj1" fmla="val -71074"/>
              <a:gd name="adj2" fmla="val -1245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5000" y="1208160"/>
            <a:ext cx="4684680" cy="2097360"/>
          </a:xfrm>
          <a:prstGeom prst="wedgeRectCallout">
            <a:avLst>
              <a:gd name="adj1" fmla="val -97916"/>
              <a:gd name="adj2" fmla="val 7735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5-08-03T13:24:18Z</dcterms:modified>
  <cp:revision>25</cp:revision>
  <dc:subject/>
  <dc:title>PowerPoint Presentation</dc:title>
</cp:coreProperties>
</file>