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2592F3-503E-4AC3-94B6-EB32FB4FBC1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7E603-DBF8-4165-904D-6C118097E83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1D6E63-8DC2-4FAF-AB20-D78E5571CB2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EFDFAD-8CCB-4FF9-A197-E61986FDA35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D0797A-727E-4671-B63C-46E017A3C10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8E53A0-771B-4540-BDC1-B77871E27B1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1AB28B-68FD-410E-9965-21723E3BA48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CB67F8-FD23-4741-8772-78C6C36DE41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72811F-C4FF-4DE8-915B-4D395D3B1E2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83B622-B229-4D7C-A893-8EC6ED5E74C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1A8B3F-4E52-43CB-9E6F-FC5C160A1D7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ones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17560"/>
            <a:ext cx="7737120" cy="1995840"/>
            <a:chOff x="193320" y="441756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1756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0900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6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5-08-03T13:24:18Z</dcterms:modified>
  <cp:revision>25</cp:revision>
  <dc:subject/>
  <dc:title>PowerPoint Presentation</dc:title>
</cp:coreProperties>
</file>