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B3D664-1B63-4792-8CE3-680AB48ECA5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3C6A68-FF3F-4364-8EB0-82E9C4F4F14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D9952-56BD-494C-81A6-8ADD427A255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39DF4F-9FC9-4FD1-BD71-DE730EB564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883A0A-AC09-4444-8722-2DF3322F80D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AB87A3-5A41-418E-B49A-3995ACF31E9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1847CD-6736-4D85-8E9D-BB9E84D0445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88016E-FFE4-40DA-BEBF-1F9D80DEE7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66E27A-1D29-4F53-87EC-983FB2D61BC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8D1AC5-8767-4E3B-B061-E6FCB3B51AE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3D413F-FADC-4822-8D1B-9E35496E7C4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ones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17560"/>
            <a:ext cx="7737120" cy="1995840"/>
            <a:chOff x="193320" y="441756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1756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0900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6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5-08-03T13:24:18Z</dcterms:modified>
  <cp:revision>25</cp:revision>
  <dc:subject/>
  <dc:title>PowerPoint Presentation</dc:title>
</cp:coreProperties>
</file>