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0466-C5BA-441B-BFF9-C584AC577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C2B5-4637-4C6D-9203-42984A2A4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7824-F485-41C1-BD46-97F27A54F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CB50-F0EE-4223-9994-96632F867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E3DC-1B94-4615-AA45-8D7AA099B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27A1-C319-492C-ACF3-848CB3F47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5D82-3EA5-424A-9C60-757A401CD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77CB-D5F8-4CE6-9AF0-5C9446134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B7B7-4D36-4D8B-8600-C31DCBF27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6556-C783-409C-B00F-814CF147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3A0A-C0A4-483F-A4F8-E7E771DE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1B0D-18C0-4174-94C4-4F6EB3651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59245-4D83-4F3C-A8F2-D10B964D1C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720" y="11160"/>
            <a:ext cx="7162560" cy="6832440"/>
            <a:chOff x="990720" y="11160"/>
            <a:chExt cx="7162560" cy="6832440"/>
          </a:xfrm>
        </p:grpSpPr>
        <p:pic>
          <p:nvPicPr>
            <p:cNvPr id="42" name="Zonas%20y%20red%20vial" descr=""/>
            <p:cNvPicPr/>
            <p:nvPr/>
          </p:nvPicPr>
          <p:blipFill>
            <a:blip r:embed="rId1"/>
            <a:stretch/>
          </p:blipFill>
          <p:spPr>
            <a:xfrm>
              <a:off x="990720" y="11160"/>
              <a:ext cx="7162560" cy="683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4038480" y="28036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305240" y="276876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495680" y="28702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317840" y="29592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089240" y="304812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18120" y="22860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9592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092560" y="42926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635360" y="47498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911760" y="464832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654280" y="37972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222640" y="303516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67160" y="17654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68960" y="195588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84600" y="31748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435640" y="238752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740560" y="309888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143680" y="514368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57880" y="519444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038480" y="51814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32120" y="42418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908440" y="313704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254480" y="15112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9T20:31:06Z</dcterms:created>
  <dc:creator>SECTRA</dc:creator>
  <dc:description/>
  <dc:language>en-US</dc:language>
  <cp:lastModifiedBy>SECTRA</cp:lastModifiedBy>
  <dcterms:modified xsi:type="dcterms:W3CDTF">2003-04-09T20:54:34Z</dcterms:modified>
  <cp:revision>3</cp:revision>
  <dc:subject/>
  <dc:title>Presentación de PowerPoint</dc:title>
</cp:coreProperties>
</file>