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2617D-2821-4E86-B09A-A048242AC9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o ment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able producir mentol, no deseable el mentofurano (aumenta su producc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en condiciones de baja luz y otra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punt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fluencia global o espe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fica de reguladores genét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genes estructurales (enzimas proteina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co-factores, disponibilidad de precurs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TRANSPOR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2DCE-239C-4CF3-83C4-83EA17860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170B-014B-42EF-99C3-3CB089D92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1E7C-D51C-4532-B3E0-242E207B0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BA68-0A16-4D39-AEE6-281E428C9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16E9A-C026-4B13-81F3-10365E3CB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26781-1765-4BF6-94A1-26DE8E483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48D9A-7FDD-46AD-9718-145BB1919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1924B-7AA9-4EC1-AB1A-9BF715E72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BD587-5302-4B77-B248-9155D0B71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214C5-B421-4C90-ABCE-C615990C8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503B5-15F6-4D26-BE04-92ED25BB9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63F0-3ABA-4BCA-B5FF-5E8CFD109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15062-A176-4960-B722-1624C901D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9B29D-4DF0-458B-8904-B919B29D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E8E58-0EBC-4DFF-A227-1C22200B9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77129-3A48-4639-B93F-12D535CDA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F7BAE-3389-4C30-853F-861149415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AAE5-F02F-47E9-8AF0-CD74B6932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5F31-289D-4730-88AD-38C06012D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3884-6465-4EF5-8E64-F429F7688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B60E-8616-4C2C-B57B-6E642DFB8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72ED-3400-4232-A20C-C0A80233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72CC-2641-4A46-AD31-578F9BA5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A80A-6576-4669-AE15-EB6DBEA9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D90D4-56A8-4B16-B93F-9810DE5BC1F6}" type="slidenum"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B245A-A3FB-4B86-8F67-0D011A0EA47A}" type="slidenum"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9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" Target="slide10.xml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b7e7ff"/>
                </a:solidFill>
                <a:latin typeface="Arial"/>
              </a:rPr>
              <a:t>INGENIERIA METABOLICA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48360" y="6078600"/>
            <a:ext cx="3995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SD20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BÁRBARA RIBBE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b7e7ff"/>
                </a:solidFill>
                <a:latin typeface="Arial"/>
              </a:rPr>
              <a:t>EJEMPLOS DE OBJETIVOS DE LA INGENIERÍA METABÓLICA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Incrementar productividad del proceso (ej., producción de antibiótico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xtensión de una vía metabólica para producir algo nue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ambio de dirección de algún fluj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Aceleración de una etapa limita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Introducción de nuevos sistemas de transpor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2" action="ppaction://hlinksldjump"/>
          </p:cNvPr>
          <p:cNvSpPr/>
          <p:nvPr/>
        </p:nvSpPr>
        <p:spPr>
          <a:xfrm>
            <a:off x="2895480" y="22096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763120" y="30481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62720" y="38862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562720" y="4800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315200" y="5638680"/>
            <a:ext cx="228600" cy="2304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30400"/>
              <a:gd name="textAreaBottom" fmla="*/ 215640 h 230400"/>
            </a:gdLst>
            <a:ahLst/>
            <a:rect l="textAreaLeft" t="textAreaTop" r="textAreaRight" b="textAreaBottom"/>
            <a:pathLst>
              <a:path w="21600" h="21770">
                <a:moveTo>
                  <a:pt x="0" y="0"/>
                </a:moveTo>
                <a:lnTo>
                  <a:pt x="21600" y="0"/>
                </a:lnTo>
                <a:lnTo>
                  <a:pt x="21600" y="21770"/>
                </a:lnTo>
                <a:lnTo>
                  <a:pt x="0" y="21770"/>
                </a:lnTo>
                <a:close/>
              </a:path>
              <a:path fill="lightenLess" w="21600" h="2177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70">
                <a:moveTo>
                  <a:pt x="21600" y="0"/>
                </a:moveTo>
                <a:lnTo>
                  <a:pt x="21600" y="21770"/>
                </a:lnTo>
                <a:lnTo>
                  <a:pt x="20200" y="20370"/>
                </a:lnTo>
                <a:lnTo>
                  <a:pt x="20200" y="1400"/>
                </a:lnTo>
                <a:close/>
              </a:path>
              <a:path fill="darkenLess" w="21600" h="21770">
                <a:moveTo>
                  <a:pt x="21600" y="21770"/>
                </a:moveTo>
                <a:lnTo>
                  <a:pt x="0" y="21770"/>
                </a:lnTo>
                <a:lnTo>
                  <a:pt x="1400" y="20370"/>
                </a:lnTo>
                <a:lnTo>
                  <a:pt x="20200" y="20370"/>
                </a:lnTo>
                <a:close/>
              </a:path>
              <a:path fill="lighten" w="21600" h="21770">
                <a:moveTo>
                  <a:pt x="0" y="2177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70"/>
                </a:lnTo>
                <a:close/>
              </a:path>
              <a:path fill="darken" w="21600" h="21770">
                <a:moveTo>
                  <a:pt x="3794" y="3878"/>
                </a:moveTo>
                <a:lnTo>
                  <a:pt x="17806" y="10885"/>
                </a:lnTo>
                <a:lnTo>
                  <a:pt x="3794" y="17891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b7e7ff"/>
                </a:solidFill>
                <a:latin typeface="Arial"/>
              </a:rPr>
              <a:t>PROBLEMAS DE LA INGENIERÍA METABÓLICA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Predicci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ón de los efectos al modificar una ví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La expresión de una proteína recombinante en una célula no garantiza su activi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Pueden existir proteasas que las degraden, necesitan tener la estructura correcta, deben estar en el lugar (organelo) correcto, deben tener los sustratos, no encontrarse con inhibidores, etc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b7e7ff"/>
                </a:solidFill>
                <a:latin typeface="Arial"/>
              </a:rPr>
              <a:t>AREAS IMPORTANTES EN INGENIERÍA METABÓLICA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Determinación de mecanismos de control y flujo en las vías menos conocid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Desarrollo de instrumentos para estudiar enzimas y procesos regulatorios en viv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Identificar nuevas herramientas genéticas , como marcadores y regulado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Aumentar los tipos de células huésped usados en Ingeniería Genétic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b7e7ff"/>
                </a:solidFill>
                <a:latin typeface="Arial"/>
              </a:rPr>
              <a:t>AREAS IMPORTANTES EN INGENIERÍA METABÓLICA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Mejorar estabilidad genética de células huésp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Creación de bases de datos y métodos computacionales para analizar vías y modelar el metabolism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Estudiar el mecanismo de transporte de moléculas pequeñas a través de las membranas celula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b7e7ff"/>
                </a:solidFill>
                <a:latin typeface="Arial"/>
              </a:rPr>
              <a:t>ETAPAS EN EL MEJORAMIENTO DE UNA VÍA METABÓLICA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Identificar la vía que se desea mejor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Identificar la reacción que limita la ví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Identificar el tipo de modificación genética más apropiada, cambios en la inhibición, amplificación de la expresión, transporte de sustrat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311640" y="404640"/>
            <a:ext cx="252072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Inhibición de E1 para aumentar la producción de 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La producción sólo aumentará si  E2 es suficiente para utilizar todo el flujo que viene de 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0" y="333360"/>
            <a:ext cx="2268360" cy="4314600"/>
            <a:chOff x="0" y="333360"/>
            <a:chExt cx="2268360" cy="4314600"/>
          </a:xfrm>
        </p:grpSpPr>
        <p:sp>
          <p:nvSpPr>
            <p:cNvPr id="136" name=""/>
            <p:cNvSpPr/>
            <p:nvPr/>
          </p:nvSpPr>
          <p:spPr>
            <a:xfrm>
              <a:off x="900000" y="1916280"/>
              <a:ext cx="43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6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0" y="4005360"/>
              <a:ext cx="431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6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35280" y="3860640"/>
              <a:ext cx="431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6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0" y="297180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Arial"/>
                </a:rPr>
                <a:t>E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92360" y="2971800"/>
              <a:ext cx="5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Arial"/>
                </a:rPr>
                <a:t>E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4360" y="333360"/>
              <a:ext cx="936360" cy="1511280"/>
            </a:xfrm>
            <a:prstGeom prst="downArrow">
              <a:avLst>
                <a:gd name="adj1" fmla="val 50000"/>
                <a:gd name="adj2" fmla="val 40350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1329600">
              <a:off x="468000" y="2637000"/>
              <a:ext cx="503280" cy="1512720"/>
            </a:xfrm>
            <a:prstGeom prst="downArrow">
              <a:avLst>
                <a:gd name="adj1" fmla="val 50000"/>
                <a:gd name="adj2" fmla="val 75143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20454000">
              <a:off x="1258920" y="2671560"/>
              <a:ext cx="503280" cy="1512720"/>
            </a:xfrm>
            <a:prstGeom prst="downArrow">
              <a:avLst>
                <a:gd name="adj1" fmla="val 50000"/>
                <a:gd name="adj2" fmla="val 75143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6659640" y="0"/>
            <a:ext cx="2217600" cy="3219120"/>
            <a:chOff x="6659640" y="0"/>
            <a:chExt cx="2217600" cy="3219120"/>
          </a:xfrm>
        </p:grpSpPr>
        <p:sp>
          <p:nvSpPr>
            <p:cNvPr id="145" name=""/>
            <p:cNvSpPr/>
            <p:nvPr/>
          </p:nvSpPr>
          <p:spPr>
            <a:xfrm>
              <a:off x="7531200" y="1109520"/>
              <a:ext cx="419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6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659640" y="2576520"/>
              <a:ext cx="417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6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459640" y="2492280"/>
              <a:ext cx="417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6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659640" y="1851120"/>
              <a:ext cx="55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Arial"/>
                </a:rPr>
                <a:t>E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298000" y="1851120"/>
              <a:ext cx="55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Arial"/>
                </a:rPr>
                <a:t>E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321680" y="0"/>
              <a:ext cx="907920" cy="1060560"/>
            </a:xfrm>
            <a:prstGeom prst="downArrow">
              <a:avLst>
                <a:gd name="adj1" fmla="val 50000"/>
                <a:gd name="adj2" fmla="val 29203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20454000">
              <a:off x="7172280" y="1693440"/>
              <a:ext cx="1271520" cy="10620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6588000" y="6005520"/>
            <a:ext cx="41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6588000" y="3429000"/>
            <a:ext cx="2197080" cy="3115800"/>
            <a:chOff x="6588000" y="3429000"/>
            <a:chExt cx="2197080" cy="3115800"/>
          </a:xfrm>
        </p:grpSpPr>
        <p:sp>
          <p:nvSpPr>
            <p:cNvPr id="154" name=""/>
            <p:cNvSpPr/>
            <p:nvPr/>
          </p:nvSpPr>
          <p:spPr>
            <a:xfrm>
              <a:off x="7459560" y="4538520"/>
              <a:ext cx="419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6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366040" y="5902200"/>
              <a:ext cx="417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6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588000" y="5280120"/>
              <a:ext cx="55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Arial"/>
                </a:rPr>
                <a:t>E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226360" y="5280120"/>
              <a:ext cx="55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Arial"/>
                </a:rPr>
                <a:t>E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250040" y="3429000"/>
              <a:ext cx="908280" cy="1060560"/>
            </a:xfrm>
            <a:prstGeom prst="downArrow">
              <a:avLst>
                <a:gd name="adj1" fmla="val 50000"/>
                <a:gd name="adj2" fmla="val 29191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20454000">
              <a:off x="7872120" y="4992480"/>
              <a:ext cx="479520" cy="1062000"/>
            </a:xfrm>
            <a:prstGeom prst="downArrow">
              <a:avLst>
                <a:gd name="adj1" fmla="val 50000"/>
                <a:gd name="adj2" fmla="val 55368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¿Dudas, consultas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INFORMACI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  <a:ea typeface="ＭＳ Ｐゴシック"/>
              </a:rPr>
              <a:t>Ó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cha del p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óximo informe/presentació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533520" y="0"/>
            <a:ext cx="3436920" cy="67057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4952880" y="228600"/>
            <a:ext cx="3892680" cy="643248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7e7ff"/>
                </a:solidFill>
                <a:latin typeface="Arial"/>
              </a:rPr>
              <a:t>Incrementar productividad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229600" y="5257800"/>
            <a:ext cx="230040" cy="230040"/>
          </a:xfrm>
          <a:custGeom>
            <a:avLst/>
            <a:gdLst>
              <a:gd name="textAreaLeft" fmla="*/ 14760 w 230040"/>
              <a:gd name="textAreaRight" fmla="*/ 215280 w 230040"/>
              <a:gd name="textAreaTop" fmla="*/ 14760 h 230040"/>
              <a:gd name="textAreaBottom" fmla="*/ 215280 h 23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228600" y="1828800"/>
            <a:ext cx="3276720" cy="2425680"/>
            <a:chOff x="228600" y="1828800"/>
            <a:chExt cx="3276720" cy="2425680"/>
          </a:xfrm>
        </p:grpSpPr>
        <p:grpSp>
          <p:nvGrpSpPr>
            <p:cNvPr id="169" name=""/>
            <p:cNvGrpSpPr/>
            <p:nvPr/>
          </p:nvGrpSpPr>
          <p:grpSpPr>
            <a:xfrm>
              <a:off x="228600" y="1828800"/>
              <a:ext cx="3276720" cy="2425680"/>
              <a:chOff x="228600" y="1828800"/>
              <a:chExt cx="3276720" cy="2425680"/>
            </a:xfrm>
          </p:grpSpPr>
          <p:sp>
            <p:nvSpPr>
              <p:cNvPr id="170" name=""/>
              <p:cNvSpPr/>
              <p:nvPr/>
            </p:nvSpPr>
            <p:spPr>
              <a:xfrm>
                <a:off x="1371600" y="1828800"/>
                <a:ext cx="121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ffff"/>
                    </a:solidFill>
                    <a:latin typeface="Arial"/>
                  </a:rPr>
                  <a:t>Sustrato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828800" y="2286000"/>
                <a:ext cx="152280" cy="609480"/>
              </a:xfrm>
              <a:prstGeom prst="downArrow">
                <a:avLst>
                  <a:gd name="adj1" fmla="val 50000"/>
                  <a:gd name="adj2" fmla="val 100059"/>
                </a:avLst>
              </a:prstGeom>
              <a:solidFill>
                <a:srgbClr val="0099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295280" y="2971800"/>
                <a:ext cx="137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ffff"/>
                    </a:solidFill>
                    <a:latin typeface="Arial"/>
                  </a:rPr>
                  <a:t>Metabolito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1672800">
                <a:off x="1447560" y="3276720"/>
                <a:ext cx="152280" cy="609480"/>
              </a:xfrm>
              <a:prstGeom prst="downArrow">
                <a:avLst>
                  <a:gd name="adj1" fmla="val 50000"/>
                  <a:gd name="adj2" fmla="val 100059"/>
                </a:avLst>
              </a:prstGeom>
              <a:solidFill>
                <a:srgbClr val="0099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19904400">
                <a:off x="2133720" y="3276360"/>
                <a:ext cx="152280" cy="609480"/>
              </a:xfrm>
              <a:prstGeom prst="downArrow">
                <a:avLst>
                  <a:gd name="adj1" fmla="val 50000"/>
                  <a:gd name="adj2" fmla="val 100059"/>
                </a:avLst>
              </a:prstGeom>
              <a:solidFill>
                <a:srgbClr val="0099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28600" y="3886200"/>
                <a:ext cx="1523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ffff"/>
                    </a:solidFill>
                    <a:latin typeface="Arial"/>
                  </a:rPr>
                  <a:t>Subproducto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133720" y="3886200"/>
                <a:ext cx="137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ffff"/>
                    </a:solidFill>
                    <a:latin typeface="Arial"/>
                  </a:rPr>
                  <a:t>Antibiótico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752480" y="3886200"/>
                <a:ext cx="381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ffff"/>
                    </a:solidFill>
                    <a:latin typeface="Arial"/>
                  </a:rPr>
                  <a:t>=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1066680" y="2286000"/>
              <a:ext cx="1676520" cy="1359000"/>
              <a:chOff x="1066680" y="2286000"/>
              <a:chExt cx="1676520" cy="1359000"/>
            </a:xfrm>
          </p:grpSpPr>
          <p:sp>
            <p:nvSpPr>
              <p:cNvPr id="179" name=""/>
              <p:cNvSpPr/>
              <p:nvPr/>
            </p:nvSpPr>
            <p:spPr>
              <a:xfrm>
                <a:off x="1066680" y="3276720"/>
                <a:ext cx="53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ffff"/>
                    </a:solidFill>
                    <a:latin typeface="Arial"/>
                  </a:rPr>
                  <a:t>E2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209680" y="3276720"/>
                <a:ext cx="53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ffff"/>
                    </a:solidFill>
                    <a:latin typeface="Arial"/>
                  </a:rPr>
                  <a:t>E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905120" y="228600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ffff"/>
                    </a:solidFill>
                    <a:latin typeface="Arial"/>
                  </a:rPr>
                  <a:t>E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82" name=""/>
          <p:cNvGrpSpPr/>
          <p:nvPr/>
        </p:nvGrpSpPr>
        <p:grpSpPr>
          <a:xfrm>
            <a:off x="3962520" y="1828800"/>
            <a:ext cx="3276360" cy="2425680"/>
            <a:chOff x="3962520" y="1828800"/>
            <a:chExt cx="3276360" cy="2425680"/>
          </a:xfrm>
        </p:grpSpPr>
        <p:grpSp>
          <p:nvGrpSpPr>
            <p:cNvPr id="183" name=""/>
            <p:cNvGrpSpPr/>
            <p:nvPr/>
          </p:nvGrpSpPr>
          <p:grpSpPr>
            <a:xfrm>
              <a:off x="3962520" y="1828800"/>
              <a:ext cx="3276360" cy="2425680"/>
              <a:chOff x="3962520" y="1828800"/>
              <a:chExt cx="3276360" cy="2425680"/>
            </a:xfrm>
          </p:grpSpPr>
          <p:sp>
            <p:nvSpPr>
              <p:cNvPr id="184" name=""/>
              <p:cNvSpPr/>
              <p:nvPr/>
            </p:nvSpPr>
            <p:spPr>
              <a:xfrm>
                <a:off x="5105520" y="1828800"/>
                <a:ext cx="1218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ffff"/>
                    </a:solidFill>
                    <a:latin typeface="Arial"/>
                  </a:rPr>
                  <a:t>Sustrato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562720" y="2286000"/>
                <a:ext cx="152280" cy="609480"/>
              </a:xfrm>
              <a:prstGeom prst="downArrow">
                <a:avLst>
                  <a:gd name="adj1" fmla="val 50000"/>
                  <a:gd name="adj2" fmla="val 100059"/>
                </a:avLst>
              </a:prstGeom>
              <a:solidFill>
                <a:srgbClr val="0099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029200" y="2971800"/>
                <a:ext cx="137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ffff"/>
                    </a:solidFill>
                    <a:latin typeface="Arial"/>
                  </a:rPr>
                  <a:t>Metabolito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1672800">
                <a:off x="5181120" y="3276360"/>
                <a:ext cx="152640" cy="609480"/>
              </a:xfrm>
              <a:prstGeom prst="downArrow">
                <a:avLst>
                  <a:gd name="adj1" fmla="val 50000"/>
                  <a:gd name="adj2" fmla="val 99823"/>
                </a:avLst>
              </a:prstGeom>
              <a:solidFill>
                <a:srgbClr val="0099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19904400">
                <a:off x="5867280" y="3276360"/>
                <a:ext cx="152640" cy="609480"/>
              </a:xfrm>
              <a:prstGeom prst="downArrow">
                <a:avLst>
                  <a:gd name="adj1" fmla="val 50000"/>
                  <a:gd name="adj2" fmla="val 99823"/>
                </a:avLst>
              </a:prstGeom>
              <a:solidFill>
                <a:srgbClr val="0099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962520" y="3886200"/>
                <a:ext cx="1523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ffff"/>
                    </a:solidFill>
                    <a:latin typeface="Arial"/>
                  </a:rPr>
                  <a:t>Subproducto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867280" y="3886200"/>
                <a:ext cx="137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ffff"/>
                    </a:solidFill>
                    <a:latin typeface="Arial"/>
                  </a:rPr>
                  <a:t>Antibiótico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486400" y="38862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ffff"/>
                    </a:solidFill>
                    <a:latin typeface="Arial"/>
                  </a:rPr>
                  <a:t>&lt;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123880" y="3395520"/>
                <a:ext cx="266400" cy="371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29200" y="358128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4648320" y="2362320"/>
              <a:ext cx="1828800" cy="1282680"/>
              <a:chOff x="4648320" y="2362320"/>
              <a:chExt cx="1828800" cy="1282680"/>
            </a:xfrm>
          </p:grpSpPr>
          <p:sp>
            <p:nvSpPr>
              <p:cNvPr id="195" name=""/>
              <p:cNvSpPr/>
              <p:nvPr/>
            </p:nvSpPr>
            <p:spPr>
              <a:xfrm>
                <a:off x="5638680" y="2362320"/>
                <a:ext cx="53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ffff"/>
                    </a:solidFill>
                    <a:latin typeface="Arial"/>
                  </a:rPr>
                  <a:t>E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648320" y="327672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ffff"/>
                    </a:solidFill>
                    <a:latin typeface="Arial"/>
                  </a:rPr>
                  <a:t>E2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943600" y="3276720"/>
                <a:ext cx="53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ffff"/>
                    </a:solidFill>
                    <a:latin typeface="Arial"/>
                  </a:rPr>
                  <a:t>E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b7e7ff"/>
                </a:solidFill>
                <a:latin typeface="Arial"/>
              </a:rPr>
              <a:t>ANTECEDENT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Las actividades metabólicas de las células funcionan con una red de reacciones enzimáticas </a:t>
            </a:r>
            <a:r>
              <a:rPr b="0" lang="es-MX" sz="2800" spc="-1" strike="noStrike">
                <a:solidFill>
                  <a:srgbClr val="ee941c"/>
                </a:solidFill>
                <a:latin typeface="Arial"/>
              </a:rPr>
              <a:t>reguladas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0" lang="es-MX" sz="2800" spc="-1" strike="noStrike">
                <a:solidFill>
                  <a:srgbClr val="ee941c"/>
                </a:solidFill>
                <a:latin typeface="Arial"/>
              </a:rPr>
              <a:t>acopladas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 y con sistemas de transporte </a:t>
            </a:r>
            <a:r>
              <a:rPr b="0" lang="es-MX" sz="2800" spc="-1" strike="noStrike">
                <a:solidFill>
                  <a:srgbClr val="ee941c"/>
                </a:solidFill>
                <a:latin typeface="Arial"/>
              </a:rPr>
              <a:t>selectivos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572000" y="2133720"/>
            <a:ext cx="4194000" cy="95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2895480" y="304920"/>
            <a:ext cx="5048280" cy="61722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7e7ff"/>
                </a:solidFill>
                <a:latin typeface="Arial"/>
              </a:rPr>
              <a:t>Extensión de una ví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0" name="">
            <a:hlinkClick r:id="rId3" action="ppaction://hlinksldjump"/>
          </p:cNvPr>
          <p:cNvSpPr/>
          <p:nvPr/>
        </p:nvSpPr>
        <p:spPr>
          <a:xfrm>
            <a:off x="8229600" y="5257800"/>
            <a:ext cx="230040" cy="230040"/>
          </a:xfrm>
          <a:custGeom>
            <a:avLst/>
            <a:gdLst>
              <a:gd name="textAreaLeft" fmla="*/ 14760 w 230040"/>
              <a:gd name="textAreaRight" fmla="*/ 215280 w 230040"/>
              <a:gd name="textAreaTop" fmla="*/ 14760 h 230040"/>
              <a:gd name="textAreaBottom" fmla="*/ 215280 h 23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295280" y="1828800"/>
            <a:ext cx="1371600" cy="2425680"/>
            <a:chOff x="1295280" y="1828800"/>
            <a:chExt cx="1371600" cy="2425680"/>
          </a:xfrm>
        </p:grpSpPr>
        <p:sp>
          <p:nvSpPr>
            <p:cNvPr id="202" name=""/>
            <p:cNvSpPr/>
            <p:nvPr/>
          </p:nvSpPr>
          <p:spPr>
            <a:xfrm>
              <a:off x="1371600" y="18288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Sustr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828800" y="2286000"/>
              <a:ext cx="152280" cy="609480"/>
            </a:xfrm>
            <a:prstGeom prst="downArrow">
              <a:avLst>
                <a:gd name="adj1" fmla="val 50000"/>
                <a:gd name="adj2" fmla="val 100059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95280" y="29718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Metaboli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371600" y="38862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Produc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905120" y="236232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E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828800" y="3276720"/>
              <a:ext cx="152280" cy="609480"/>
            </a:xfrm>
            <a:prstGeom prst="downArrow">
              <a:avLst>
                <a:gd name="adj1" fmla="val 50000"/>
                <a:gd name="adj2" fmla="val 100059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905120" y="335268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E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4724280" y="1752480"/>
            <a:ext cx="1600200" cy="3416400"/>
            <a:chOff x="4724280" y="1752480"/>
            <a:chExt cx="1600200" cy="3416400"/>
          </a:xfrm>
        </p:grpSpPr>
        <p:sp>
          <p:nvSpPr>
            <p:cNvPr id="210" name=""/>
            <p:cNvSpPr/>
            <p:nvPr/>
          </p:nvSpPr>
          <p:spPr>
            <a:xfrm>
              <a:off x="4800600" y="175248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Sustr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257800" y="2209680"/>
              <a:ext cx="152280" cy="609840"/>
            </a:xfrm>
            <a:prstGeom prst="downArrow">
              <a:avLst>
                <a:gd name="adj1" fmla="val 50000"/>
                <a:gd name="adj2" fmla="val 100118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724280" y="28954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Metabolito 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800600" y="380988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Metabolito 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334120" y="22860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E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257800" y="3200400"/>
              <a:ext cx="152280" cy="609480"/>
            </a:xfrm>
            <a:prstGeom prst="downArrow">
              <a:avLst>
                <a:gd name="adj1" fmla="val 50000"/>
                <a:gd name="adj2" fmla="val 100059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334120" y="327672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E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257800" y="4191120"/>
              <a:ext cx="152280" cy="609480"/>
            </a:xfrm>
            <a:prstGeom prst="downArrow">
              <a:avLst>
                <a:gd name="adj1" fmla="val 50000"/>
                <a:gd name="adj2" fmla="val 100059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334120" y="419112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E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800600" y="480060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Produc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7e7ff"/>
                </a:solidFill>
                <a:latin typeface="Arial"/>
              </a:rPr>
              <a:t>Cambio de direcció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8229600" y="5257800"/>
            <a:ext cx="230040" cy="230040"/>
          </a:xfrm>
          <a:custGeom>
            <a:avLst/>
            <a:gdLst>
              <a:gd name="textAreaLeft" fmla="*/ 14760 w 230040"/>
              <a:gd name="textAreaRight" fmla="*/ 215280 w 230040"/>
              <a:gd name="textAreaTop" fmla="*/ 14760 h 230040"/>
              <a:gd name="textAreaBottom" fmla="*/ 215280 h 23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981080" y="1676520"/>
            <a:ext cx="1600200" cy="3416040"/>
            <a:chOff x="1981080" y="1676520"/>
            <a:chExt cx="1600200" cy="3416040"/>
          </a:xfrm>
        </p:grpSpPr>
        <p:sp>
          <p:nvSpPr>
            <p:cNvPr id="223" name=""/>
            <p:cNvSpPr/>
            <p:nvPr/>
          </p:nvSpPr>
          <p:spPr>
            <a:xfrm>
              <a:off x="2057400" y="167652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Sustr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514600" y="2133720"/>
              <a:ext cx="152280" cy="609480"/>
            </a:xfrm>
            <a:prstGeom prst="downArrow">
              <a:avLst>
                <a:gd name="adj1" fmla="val 50000"/>
                <a:gd name="adj2" fmla="val 100059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981080" y="28195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Metabolito 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057400" y="373392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Metabolito 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590920" y="220968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E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514600" y="3124080"/>
              <a:ext cx="152280" cy="609840"/>
            </a:xfrm>
            <a:prstGeom prst="downArrow">
              <a:avLst>
                <a:gd name="adj1" fmla="val 50000"/>
                <a:gd name="adj2" fmla="val 100118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590920" y="32004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E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514600" y="4114800"/>
              <a:ext cx="152280" cy="609480"/>
            </a:xfrm>
            <a:prstGeom prst="downArrow">
              <a:avLst>
                <a:gd name="adj1" fmla="val 50000"/>
                <a:gd name="adj2" fmla="val 100059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590920" y="41148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E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057400" y="472428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Metabolito 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5105520" y="1676520"/>
            <a:ext cx="1600200" cy="3416040"/>
            <a:chOff x="5105520" y="1676520"/>
            <a:chExt cx="1600200" cy="3416040"/>
          </a:xfrm>
        </p:grpSpPr>
        <p:sp>
          <p:nvSpPr>
            <p:cNvPr id="234" name=""/>
            <p:cNvSpPr/>
            <p:nvPr/>
          </p:nvSpPr>
          <p:spPr>
            <a:xfrm>
              <a:off x="5181480" y="167652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Sustr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638680" y="2133720"/>
              <a:ext cx="152640" cy="609480"/>
            </a:xfrm>
            <a:prstGeom prst="downArrow">
              <a:avLst>
                <a:gd name="adj1" fmla="val 50000"/>
                <a:gd name="adj2" fmla="val 99823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105520" y="281952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Metabolito 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181480" y="37339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Metabolito 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715000" y="220968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E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715000" y="32004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E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638680" y="3200400"/>
              <a:ext cx="152640" cy="609480"/>
            </a:xfrm>
            <a:prstGeom prst="downArrow">
              <a:avLst>
                <a:gd name="adj1" fmla="val 50000"/>
                <a:gd name="adj2" fmla="val 99823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715000" y="41148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E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181480" y="47242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Metabolito 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638680" y="4114800"/>
              <a:ext cx="152640" cy="609480"/>
            </a:xfrm>
            <a:prstGeom prst="upArrow">
              <a:avLst>
                <a:gd name="adj1" fmla="val 50000"/>
                <a:gd name="adj2" fmla="val 99823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7e7ff"/>
                </a:solidFill>
                <a:latin typeface="Arial"/>
              </a:rPr>
              <a:t>Aceleración etapa limitant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229600" y="5257800"/>
            <a:ext cx="230040" cy="230040"/>
          </a:xfrm>
          <a:custGeom>
            <a:avLst/>
            <a:gdLst>
              <a:gd name="textAreaLeft" fmla="*/ 14760 w 230040"/>
              <a:gd name="textAreaRight" fmla="*/ 215280 w 230040"/>
              <a:gd name="textAreaTop" fmla="*/ 14760 h 230040"/>
              <a:gd name="textAreaBottom" fmla="*/ 215280 h 23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1981080" y="1676520"/>
            <a:ext cx="1600200" cy="3416040"/>
            <a:chOff x="1981080" y="1676520"/>
            <a:chExt cx="1600200" cy="3416040"/>
          </a:xfrm>
        </p:grpSpPr>
        <p:sp>
          <p:nvSpPr>
            <p:cNvPr id="247" name=""/>
            <p:cNvSpPr/>
            <p:nvPr/>
          </p:nvSpPr>
          <p:spPr>
            <a:xfrm>
              <a:off x="2057400" y="167652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Sustr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86000" y="2133720"/>
              <a:ext cx="380880" cy="609480"/>
            </a:xfrm>
            <a:prstGeom prst="downArrow">
              <a:avLst>
                <a:gd name="adj1" fmla="val 50000"/>
                <a:gd name="adj2" fmla="val 40005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981080" y="28195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Metabolito 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057400" y="373392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Metabolito 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590920" y="220968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E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514600" y="3124080"/>
              <a:ext cx="152280" cy="609840"/>
            </a:xfrm>
            <a:prstGeom prst="downArrow">
              <a:avLst>
                <a:gd name="adj1" fmla="val 50000"/>
                <a:gd name="adj2" fmla="val 100118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590920" y="32004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E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286000" y="4114800"/>
              <a:ext cx="380880" cy="609480"/>
            </a:xfrm>
            <a:prstGeom prst="downArrow">
              <a:avLst>
                <a:gd name="adj1" fmla="val 50000"/>
                <a:gd name="adj2" fmla="val 40005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590920" y="41148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E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057400" y="472428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Produc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5029200" y="1676520"/>
            <a:ext cx="1600200" cy="3416040"/>
            <a:chOff x="5029200" y="1676520"/>
            <a:chExt cx="1600200" cy="3416040"/>
          </a:xfrm>
        </p:grpSpPr>
        <p:sp>
          <p:nvSpPr>
            <p:cNvPr id="258" name=""/>
            <p:cNvSpPr/>
            <p:nvPr/>
          </p:nvSpPr>
          <p:spPr>
            <a:xfrm>
              <a:off x="5105520" y="167652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Sustra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4120" y="2133720"/>
              <a:ext cx="380880" cy="609480"/>
            </a:xfrm>
            <a:prstGeom prst="downArrow">
              <a:avLst>
                <a:gd name="adj1" fmla="val 50000"/>
                <a:gd name="adj2" fmla="val 40005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029200" y="281952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Metabolito 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105520" y="373392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Metabolito 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638680" y="220968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E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334120" y="3124080"/>
              <a:ext cx="380880" cy="609840"/>
            </a:xfrm>
            <a:prstGeom prst="downArrow">
              <a:avLst>
                <a:gd name="adj1" fmla="val 50000"/>
                <a:gd name="adj2" fmla="val 40028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638680" y="320040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E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34120" y="4114800"/>
              <a:ext cx="380880" cy="609480"/>
            </a:xfrm>
            <a:prstGeom prst="downArrow">
              <a:avLst>
                <a:gd name="adj1" fmla="val 50000"/>
                <a:gd name="adj2" fmla="val 40005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638680" y="411480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E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105520" y="472428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Produc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7e7ff"/>
                </a:solidFill>
                <a:latin typeface="Arial"/>
              </a:rPr>
              <a:t>Sistemas de transport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229600" y="5257800"/>
            <a:ext cx="230040" cy="230040"/>
          </a:xfrm>
          <a:custGeom>
            <a:avLst/>
            <a:gdLst>
              <a:gd name="textAreaLeft" fmla="*/ 14760 w 230040"/>
              <a:gd name="textAreaRight" fmla="*/ 215280 w 230040"/>
              <a:gd name="textAreaTop" fmla="*/ 14760 h 230040"/>
              <a:gd name="textAreaBottom" fmla="*/ 215280 h 23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1371600" y="1219320"/>
            <a:ext cx="640080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495520" y="0"/>
            <a:ext cx="4792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297160" y="0"/>
            <a:ext cx="5249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124000" y="0"/>
            <a:ext cx="53276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625840" y="0"/>
            <a:ext cx="4216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974960" y="0"/>
            <a:ext cx="4821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b7e7ff"/>
                </a:solidFill>
                <a:latin typeface="Arial"/>
              </a:rPr>
              <a:t>ANTECEDENT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Las redes metabólicas son producto de la evolución, por lo que no son </a:t>
            </a:r>
            <a:r>
              <a:rPr b="0" lang="es-MX" sz="3200" spc="-1" strike="noStrike">
                <a:solidFill>
                  <a:srgbClr val="ee941c"/>
                </a:solidFill>
                <a:latin typeface="Arial"/>
              </a:rPr>
              <a:t>óptimas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para los objetivos prácticos de la biotecnologí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Es necesario y posible mejorar el rendimiento de los procesos aplicando modificaciones genétic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b7e7ff"/>
                </a:solidFill>
                <a:latin typeface="Arial"/>
              </a:rPr>
              <a:t>INGENIERÍA METABÓLIC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La ingeniería metabólica es el </a:t>
            </a:r>
            <a:r>
              <a:rPr b="0" lang="es-MX" sz="3200" spc="-1" strike="noStrike">
                <a:solidFill>
                  <a:srgbClr val="ee941c"/>
                </a:solidFill>
                <a:latin typeface="Arial"/>
              </a:rPr>
              <a:t>mejoramiento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de las actividades celulares usando manipulación de funciones enzimáticas, de transporte y de regulación usando técnicas de DNA recombinan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0" y="1197000"/>
            <a:ext cx="9144000" cy="5048280"/>
            <a:chOff x="0" y="1197000"/>
            <a:chExt cx="9144000" cy="5048280"/>
          </a:xfrm>
        </p:grpSpPr>
        <p:sp>
          <p:nvSpPr>
            <p:cNvPr id="104" name=""/>
            <p:cNvSpPr/>
            <p:nvPr/>
          </p:nvSpPr>
          <p:spPr>
            <a:xfrm>
              <a:off x="2195640" y="1989000"/>
              <a:ext cx="4752720" cy="324036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429000"/>
              <a:ext cx="19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"/>
                </a:rPr>
                <a:t>COMPUTACIÓ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27640" y="1197000"/>
              <a:ext cx="180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"/>
                </a:rPr>
                <a:t>GENÉTIC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093080" y="3429000"/>
              <a:ext cx="205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"/>
                </a:rPr>
                <a:t>MATEMÁTIC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940360" y="5877000"/>
              <a:ext cx="19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"/>
                </a:rPr>
                <a:t>BIOQUÍMIC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71640" y="5877000"/>
              <a:ext cx="27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"/>
                </a:rPr>
                <a:t>BIOLOGÍA CELUL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11280" y="1268280"/>
              <a:ext cx="29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"/>
                </a:rPr>
                <a:t>BIOLOGÍA MOLECUL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1979640" y="5013360"/>
              <a:ext cx="792000" cy="79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042920" y="3789360"/>
              <a:ext cx="865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340000" y="1700280"/>
              <a:ext cx="576360" cy="433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6300720" y="1628640"/>
              <a:ext cx="503280" cy="43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7092720" y="3860640"/>
              <a:ext cx="718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 flipV="1">
              <a:off x="6011640" y="5300640"/>
              <a:ext cx="647640" cy="504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771640" y="2997360"/>
              <a:ext cx="37450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916360" y="2492280"/>
              <a:ext cx="3311280" cy="26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Arial"/>
                </a:rPr>
                <a:t>REDIRIGIR LOS FLUJOS METABÓLICOS PARA OBJETIVOS </a:t>
              </a:r>
              <a:r>
                <a:rPr b="1" lang="es-MX" sz="2400" spc="-1" strike="noStrike">
                  <a:solidFill>
                    <a:srgbClr val="ee941c"/>
                  </a:solidFill>
                  <a:latin typeface="Arial"/>
                </a:rPr>
                <a:t>INDUSTRIALES</a:t>
              </a:r>
              <a:r>
                <a:rPr b="1" lang="es-MX" sz="2400" spc="-1" strike="noStrike">
                  <a:solidFill>
                    <a:srgbClr val="ffffff"/>
                  </a:solidFill>
                  <a:latin typeface="Arial"/>
                </a:rPr>
                <a:t> Y </a:t>
              </a:r>
              <a:r>
                <a:rPr b="1" lang="es-MX" sz="2400" spc="-1" strike="noStrike">
                  <a:solidFill>
                    <a:srgbClr val="ee941c"/>
                  </a:solidFill>
                  <a:latin typeface="Arial"/>
                </a:rPr>
                <a:t>MÉDICO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4T09:32:28Z</dcterms:created>
  <dc:creator>Ana Mercado</dc:creator>
  <dc:description/>
  <dc:language>en-US</dc:language>
  <cp:lastModifiedBy>Dario Sepulveda</cp:lastModifiedBy>
  <dcterms:modified xsi:type="dcterms:W3CDTF">2005-09-20T01:56:14Z</dcterms:modified>
  <cp:revision>12</cp:revision>
  <dc:subject/>
  <dc:title>INGENIERIA METABOLICA</dc:title>
</cp:coreProperties>
</file>