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C958-3AD7-4A01-B392-9D1EC978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o me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ble producir mentol, no deseable el mentofurano (aumenta su produc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condiciones de baja luz y ot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u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luencia global 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a de reguladores gen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enes estructurales (enzimas prote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-factores, disponibilidad de precu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99A-4AAD-4F59-8AB9-4279CF07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11E-2B09-42D2-BA8E-322D26CF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67D-700D-4105-9852-5114C527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C1C-98B2-404C-9498-4804723A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9A2-C627-4BE0-A28C-E813770B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7A27-19D6-428C-AA51-B72BB52C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2A25-2C33-4739-8476-28018AC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03D7-BBF4-4C70-8AC5-0B2A8F7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A97D-DE16-4D19-A74C-CD902E6E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80C7-A3FC-4C40-82EF-69037CF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102B-0846-4AFF-9792-415D267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937-C452-489E-AA92-29DF7DE1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DDD0-6C8D-4042-85C6-AAA6FD8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FA9-4C79-4CF8-92D1-C101452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778-F581-4235-9A4D-C8AB545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FD5-C794-4FE6-BB92-B60A476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EB98-4A2A-49F7-A04B-D2C9466A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A12-0A49-437D-831B-7BEA2575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F89-41EF-469F-9D4F-8646AE1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832-BC8C-4E79-9A19-ED00E687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0C0-9976-4F44-AF72-F79D8261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6EC-DDBD-4597-8CB0-001288A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AE8-8C8C-4114-831F-229DD3E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704-8E78-4F87-A9C6-9B78480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EC28-97FD-40DB-B93B-D1934BD9181B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8072-D715-45E4-AE5D-5829D2AA6C38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7e7ff"/>
                </a:solidFill>
                <a:latin typeface="Arial"/>
              </a:rPr>
              <a:t>INGENIERIA METABOLIC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07860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D20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ÁRBARA RIBB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JEMPLOS DE OBJETIVO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rementar productividad del proceso (ej., producción de antibió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ensión de una vía metabólica para producir alg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dirección de algún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eleración de una etapa limi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de nuevos sistemas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895480" y="2209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3048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638680"/>
            <a:ext cx="228600" cy="2304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21600" h="21770">
                <a:moveTo>
                  <a:pt x="0" y="0"/>
                </a:moveTo>
                <a:lnTo>
                  <a:pt x="21600" y="0"/>
                </a:lnTo>
                <a:lnTo>
                  <a:pt x="21600" y="21770"/>
                </a:lnTo>
                <a:lnTo>
                  <a:pt x="0" y="21770"/>
                </a:lnTo>
                <a:close/>
              </a:path>
              <a:path fill="lightenLess" w="21600" h="21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0">
                <a:moveTo>
                  <a:pt x="21600" y="0"/>
                </a:moveTo>
                <a:lnTo>
                  <a:pt x="21600" y="21770"/>
                </a:lnTo>
                <a:lnTo>
                  <a:pt x="20200" y="20370"/>
                </a:lnTo>
                <a:lnTo>
                  <a:pt x="20200" y="1400"/>
                </a:lnTo>
                <a:close/>
              </a:path>
              <a:path fill="darkenLess" w="21600" h="21770">
                <a:moveTo>
                  <a:pt x="21600" y="21770"/>
                </a:moveTo>
                <a:lnTo>
                  <a:pt x="0" y="21770"/>
                </a:lnTo>
                <a:lnTo>
                  <a:pt x="1400" y="20370"/>
                </a:lnTo>
                <a:lnTo>
                  <a:pt x="20200" y="20370"/>
                </a:lnTo>
                <a:close/>
              </a:path>
              <a:path fill="lighten" w="21600" h="21770">
                <a:moveTo>
                  <a:pt x="0" y="21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0"/>
                </a:lnTo>
                <a:close/>
              </a:path>
              <a:path fill="darken" w="21600" h="21770">
                <a:moveTo>
                  <a:pt x="3794" y="3878"/>
                </a:moveTo>
                <a:lnTo>
                  <a:pt x="17806" y="10885"/>
                </a:lnTo>
                <a:lnTo>
                  <a:pt x="3794" y="1789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PROBLEMA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dic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efectos al modificar una v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presión de una proteína recombinante en una célula no garantiza su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existir proteasas que las degraden, necesitan tener la estructura correcta, deben estar en el lugar (organelo) correcto, deben tener los sustratos, no encontrarse con inhibidor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terminación de mecanismos de control y flujo en las vías menos cono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instrumentos para estudiar enzimas y procesos regulatorios en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nuevas herramientas genéticas , como marcadores y regu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mentar los tipos de células huésped usados en Ingeniería Gen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ar estabilidad genética de células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reación de bases de datos y métodos computacionales para analizar vías y modelar el me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udiar el mecanismo de transporte de moléculas pequeñas a través de las membranas cel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TAPAS EN EL MEJORAMIENTO DE UNA V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vía que se desea mej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reacción que limita la v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el tipo de modificación genética más apropiada, cambios en la inhibición, amplificación de la expresión, transporte de sust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1640" y="404640"/>
            <a:ext cx="252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hibición de E1 para aumentar la producción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producción sólo aumentará si  E2 es suficiente para utilizar todo el flujo que viene d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333360"/>
            <a:ext cx="2268360" cy="4314600"/>
            <a:chOff x="0" y="333360"/>
            <a:chExt cx="2268360" cy="4314600"/>
          </a:xfrm>
        </p:grpSpPr>
        <p:sp>
          <p:nvSpPr>
            <p:cNvPr id="136" name=""/>
            <p:cNvSpPr/>
            <p:nvPr/>
          </p:nvSpPr>
          <p:spPr>
            <a:xfrm>
              <a:off x="900000" y="1916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005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3860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97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333360"/>
              <a:ext cx="936360" cy="1511280"/>
            </a:xfrm>
            <a:prstGeom prst="downArrow">
              <a:avLst>
                <a:gd name="adj1" fmla="val 50000"/>
                <a:gd name="adj2" fmla="val 4035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9600">
              <a:off x="468000" y="263700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54000">
              <a:off x="1258920" y="267156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659640" y="0"/>
            <a:ext cx="2217600" cy="3219120"/>
            <a:chOff x="6659640" y="0"/>
            <a:chExt cx="2217600" cy="3219120"/>
          </a:xfrm>
        </p:grpSpPr>
        <p:sp>
          <p:nvSpPr>
            <p:cNvPr id="145" name=""/>
            <p:cNvSpPr/>
            <p:nvPr/>
          </p:nvSpPr>
          <p:spPr>
            <a:xfrm>
              <a:off x="7531200" y="1109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257652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59640" y="24922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1680" y="0"/>
              <a:ext cx="907920" cy="1060560"/>
            </a:xfrm>
            <a:prstGeom prst="downArrow">
              <a:avLst>
                <a:gd name="adj1" fmla="val 50000"/>
                <a:gd name="adj2" fmla="val 2920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454000">
              <a:off x="7172280" y="1693440"/>
              <a:ext cx="1271520" cy="106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588000" y="6005520"/>
            <a:ext cx="4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588000" y="3429000"/>
            <a:ext cx="2197080" cy="3115800"/>
            <a:chOff x="6588000" y="3429000"/>
            <a:chExt cx="2197080" cy="3115800"/>
          </a:xfrm>
        </p:grpSpPr>
        <p:sp>
          <p:nvSpPr>
            <p:cNvPr id="154" name=""/>
            <p:cNvSpPr/>
            <p:nvPr/>
          </p:nvSpPr>
          <p:spPr>
            <a:xfrm>
              <a:off x="7459560" y="4538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90220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52801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26360" y="5280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50040" y="3429000"/>
              <a:ext cx="908280" cy="1060560"/>
            </a:xfrm>
            <a:prstGeom prst="downArrow">
              <a:avLst>
                <a:gd name="adj1" fmla="val 50000"/>
                <a:gd name="adj2" fmla="val 2919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454000">
              <a:off x="7872120" y="4992480"/>
              <a:ext cx="479520" cy="1062000"/>
            </a:xfrm>
            <a:prstGeom prst="downArrow">
              <a:avLst>
                <a:gd name="adj1" fmla="val 50000"/>
                <a:gd name="adj2" fmla="val 5536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¿Dudas, consult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RMACI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ha del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ximo informe/present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436920" cy="670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92680" cy="6432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Incrementar productiv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828800"/>
            <a:ext cx="3276720" cy="2425680"/>
            <a:chOff x="228600" y="1828800"/>
            <a:chExt cx="3276720" cy="24256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1828800"/>
              <a:ext cx="3276720" cy="2425680"/>
              <a:chOff x="228600" y="1828800"/>
              <a:chExt cx="3276720" cy="242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71600" y="18288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2880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72800">
                <a:off x="1447560" y="327672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904400">
                <a:off x="2133720" y="327636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860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3372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3886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066680" y="2286000"/>
              <a:ext cx="1676520" cy="1359000"/>
              <a:chOff x="1066680" y="2286000"/>
              <a:chExt cx="1676520" cy="1359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962520" y="1828800"/>
            <a:ext cx="3276360" cy="2425680"/>
            <a:chOff x="3962520" y="1828800"/>
            <a:chExt cx="3276360" cy="242568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1828800"/>
              <a:ext cx="3276360" cy="2425680"/>
              <a:chOff x="3962520" y="1828800"/>
              <a:chExt cx="3276360" cy="242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105520" y="18288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72800">
                <a:off x="518112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904400">
                <a:off x="586728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52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8640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3880" y="3395520"/>
                <a:ext cx="26640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9200" y="3581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48320" y="2362320"/>
              <a:ext cx="1828800" cy="1282680"/>
              <a:chOff x="4648320" y="2362320"/>
              <a:chExt cx="1828800" cy="12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5638680" y="2362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8320" y="3276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4360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actividades metabólicas de las células funcionan con una red de reacciones enzimáticas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regu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acop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con sistemas de transporte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selectiv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4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04828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Extensión de una ví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828800"/>
            <a:ext cx="1371600" cy="2425680"/>
            <a:chOff x="1295280" y="1828800"/>
            <a:chExt cx="1371600" cy="2425680"/>
          </a:xfrm>
        </p:grpSpPr>
        <p:sp>
          <p:nvSpPr>
            <p:cNvPr id="202" name=""/>
            <p:cNvSpPr/>
            <p:nvPr/>
          </p:nvSpPr>
          <p:spPr>
            <a:xfrm>
              <a:off x="13716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2860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362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276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1752480"/>
            <a:ext cx="1600200" cy="3416400"/>
            <a:chOff x="4724280" y="1752480"/>
            <a:chExt cx="1600200" cy="3416400"/>
          </a:xfrm>
        </p:grpSpPr>
        <p:sp>
          <p:nvSpPr>
            <p:cNvPr id="210" name=""/>
            <p:cNvSpPr/>
            <p:nvPr/>
          </p:nvSpPr>
          <p:spPr>
            <a:xfrm>
              <a:off x="4800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096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2895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00600" y="3809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2286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32004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41911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191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Cambio de direcci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23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2133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148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1676520"/>
            <a:ext cx="1600200" cy="3416040"/>
            <a:chOff x="5105520" y="1676520"/>
            <a:chExt cx="1600200" cy="3416040"/>
          </a:xfrm>
        </p:grpSpPr>
        <p:sp>
          <p:nvSpPr>
            <p:cNvPr id="234" name=""/>
            <p:cNvSpPr/>
            <p:nvPr/>
          </p:nvSpPr>
          <p:spPr>
            <a:xfrm>
              <a:off x="51814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500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320040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724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114800"/>
              <a:ext cx="152640" cy="609480"/>
            </a:xfrm>
            <a:prstGeom prst="up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Aceleración etapa limita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47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29200" y="1676520"/>
            <a:ext cx="1600200" cy="3416040"/>
            <a:chOff x="5029200" y="1676520"/>
            <a:chExt cx="1600200" cy="3416040"/>
          </a:xfrm>
        </p:grpSpPr>
        <p:sp>
          <p:nvSpPr>
            <p:cNvPr id="258" name=""/>
            <p:cNvSpPr/>
            <p:nvPr/>
          </p:nvSpPr>
          <p:spPr>
            <a:xfrm>
              <a:off x="5105520" y="16765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209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31240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2004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114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552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Sistemas de transpor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55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97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24000" y="0"/>
            <a:ext cx="532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5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redes metabólicas son producto de la evolución, por lo que no son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ópti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para los objetivos prácticos de la biotecn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necesario y posible mejorar el rendimiento de los procesos aplicando modificaciones gené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INGENIERÍA METABÓL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geniería metabólica es el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mejoramien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las actividades celulares usando manipulación de funciones enzimáticas, de transporte y de regulación usando técnicas de DNA recomb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197000"/>
            <a:ext cx="9144000" cy="5048280"/>
            <a:chOff x="0" y="1197000"/>
            <a:chExt cx="9144000" cy="5048280"/>
          </a:xfrm>
        </p:grpSpPr>
        <p:sp>
          <p:nvSpPr>
            <p:cNvPr id="104" name=""/>
            <p:cNvSpPr/>
            <p:nvPr/>
          </p:nvSpPr>
          <p:spPr>
            <a:xfrm>
              <a:off x="2195640" y="1989000"/>
              <a:ext cx="4752720" cy="3240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COMPU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19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GENÉ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3080" y="3429000"/>
              <a:ext cx="20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MATEM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587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QUÍM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587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CE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26828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MOLEC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79640" y="5013360"/>
              <a:ext cx="792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3789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1700280"/>
              <a:ext cx="57636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300720" y="1628640"/>
              <a:ext cx="503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92720" y="3860640"/>
              <a:ext cx="71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1640" y="530064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2997360"/>
              <a:ext cx="374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2492280"/>
              <a:ext cx="331128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DIRIGIR LOS FLUJOS METABÓLICOS PARA OBJETIVOS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INDUSTRIALES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 Y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MÉD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9:32:28Z</dcterms:created>
  <dc:creator>Ana Mercado</dc:creator>
  <dc:description/>
  <dc:language>en-US</dc:language>
  <cp:lastModifiedBy>Dario Sepulveda</cp:lastModifiedBy>
  <dcterms:modified xsi:type="dcterms:W3CDTF">2005-09-20T01:56:14Z</dcterms:modified>
  <cp:revision>12</cp:revision>
  <dc:subject/>
  <dc:title>INGENIERIA METABOLICA</dc:title>
</cp:coreProperties>
</file>