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E513-2243-4546-B6C2-611A75818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o men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able producir mentol, no deseable el mentofurano (aumenta su produc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condiciones de baja luz y otr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un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fluencia global o espe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ica de reguladores gené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genes estructurales (enzimas protein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co-factores, disponibilidad de precur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41F-15CF-4319-9431-A411D578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CF2-543B-4294-9712-4279F2E8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D45-617E-44F7-8AFD-501CEF6B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EEE-F0BC-4A85-AEA3-7E368D8E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832E-3B41-41A8-A493-00C5A1E4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0C78-C90F-4871-9101-F90792AB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1C67-4226-4C86-951C-7C06BCDC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D2F0-3CC8-413F-9F2A-DA51C13F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8B69-D205-4611-A4F6-32ADD58F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8145-39DB-4A17-85F1-B8E12CBE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AD92-E9A5-4E2D-944F-9B39DE8A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D84A-6F49-4FE4-9D79-5B9E3C15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2F7E-E979-424B-9F5D-B286BB21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EFBB-2B33-4985-B6AC-81C0E14F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E16B-A585-4B73-945F-DC670FC6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5B41-ABF0-4F84-9A02-CAA33916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37BC-5861-4614-B6EC-A322A4CD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F3C-29FE-4010-A392-5C4B8F29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D9C-329A-4ABA-BB4F-289D8FCD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63B-C9A2-42E7-AFEC-310F9439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07D-8588-4909-8EBF-5717061E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ABBF-9846-4828-90CF-152EF656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36B-3B82-42B4-98F8-F1DD4027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C35-46B1-4762-B397-3B083E4A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6762-C660-42CF-9F05-EF3F056F4EF1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F697-CD74-4D15-9A9E-EBE44839B975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b7e7ff"/>
                </a:solidFill>
                <a:latin typeface="Arial"/>
              </a:rPr>
              <a:t>INGENIERIA METABOLIC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48360" y="6078600"/>
            <a:ext cx="39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SD20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ÁRBARA RIBB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EJEMPLOS DE OBJETIVOS DE LA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crementar productividad del proceso (ej., producción de antibiótic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xtensión de una vía metabólica para producir algo nue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mbio de dirección de algún flu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eleración de una etapa limi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de nuevos sistemas de transpor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2895480" y="22096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63120" y="3048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886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4800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5638680"/>
            <a:ext cx="228600" cy="2304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30400"/>
              <a:gd name="textAreaBottom" fmla="*/ 215640 h 230400"/>
            </a:gdLst>
            <a:ahLst/>
            <a:rect l="textAreaLeft" t="textAreaTop" r="textAreaRight" b="textAreaBottom"/>
            <a:pathLst>
              <a:path w="21600" h="21770">
                <a:moveTo>
                  <a:pt x="0" y="0"/>
                </a:moveTo>
                <a:lnTo>
                  <a:pt x="21600" y="0"/>
                </a:lnTo>
                <a:lnTo>
                  <a:pt x="21600" y="21770"/>
                </a:lnTo>
                <a:lnTo>
                  <a:pt x="0" y="21770"/>
                </a:lnTo>
                <a:close/>
              </a:path>
              <a:path fill="lightenLess" w="21600" h="217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70">
                <a:moveTo>
                  <a:pt x="21600" y="0"/>
                </a:moveTo>
                <a:lnTo>
                  <a:pt x="21600" y="21770"/>
                </a:lnTo>
                <a:lnTo>
                  <a:pt x="20200" y="20370"/>
                </a:lnTo>
                <a:lnTo>
                  <a:pt x="20200" y="1400"/>
                </a:lnTo>
                <a:close/>
              </a:path>
              <a:path fill="darkenLess" w="21600" h="21770">
                <a:moveTo>
                  <a:pt x="21600" y="21770"/>
                </a:moveTo>
                <a:lnTo>
                  <a:pt x="0" y="21770"/>
                </a:lnTo>
                <a:lnTo>
                  <a:pt x="1400" y="20370"/>
                </a:lnTo>
                <a:lnTo>
                  <a:pt x="20200" y="20370"/>
                </a:lnTo>
                <a:close/>
              </a:path>
              <a:path fill="lighten" w="21600" h="21770">
                <a:moveTo>
                  <a:pt x="0" y="217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70"/>
                </a:lnTo>
                <a:close/>
              </a:path>
              <a:path fill="darken" w="21600" h="21770">
                <a:moveTo>
                  <a:pt x="3794" y="3878"/>
                </a:moveTo>
                <a:lnTo>
                  <a:pt x="17806" y="10885"/>
                </a:lnTo>
                <a:lnTo>
                  <a:pt x="3794" y="17891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PROBLEMAS DE LA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edicci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n de los efectos al modificar una v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expresión de una proteína recombinante en una célula no garantiza su a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ueden existir proteasas que las degraden, necesitan tener la estructura correcta, deben estar en el lugar (organelo) correcto, deben tener los sustratos, no encontrarse con inhibidores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AREAS IMPORTANTES EN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terminación de mecanismos de control y flujo en las vías menos conoci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instrumentos para estudiar enzimas y procesos regulatorios en v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nuevas herramientas genéticas , como marcadores y regu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umentar los tipos de células huésped usados en Ingeniería Gené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AREAS IMPORTANTES EN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ejorar estabilidad genética de células hués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reación de bases de datos y métodos computacionales para analizar vías y modelar el metaboli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tudiar el mecanismo de transporte de moléculas pequeñas a través de las membranas celula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ETAPAS EN EL MEJORAMIENTO DE UNA V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la vía que se desea mejor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la reacción que limita la v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el tipo de modificación genética más apropiada, cambios en la inhibición, amplificación de la expresión, transporte de sustra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11640" y="404640"/>
            <a:ext cx="25207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Inhibición de E1 para aumentar la producción de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a producción sólo aumentará si  E2 es suficiente para utilizar todo el flujo que viene de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333360"/>
            <a:ext cx="2268360" cy="4314600"/>
            <a:chOff x="0" y="333360"/>
            <a:chExt cx="2268360" cy="4314600"/>
          </a:xfrm>
        </p:grpSpPr>
        <p:sp>
          <p:nvSpPr>
            <p:cNvPr id="136" name=""/>
            <p:cNvSpPr/>
            <p:nvPr/>
          </p:nvSpPr>
          <p:spPr>
            <a:xfrm>
              <a:off x="900000" y="191628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00536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5280" y="386064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29718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2360" y="29718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360" y="333360"/>
              <a:ext cx="936360" cy="1511280"/>
            </a:xfrm>
            <a:prstGeom prst="downArrow">
              <a:avLst>
                <a:gd name="adj1" fmla="val 50000"/>
                <a:gd name="adj2" fmla="val 4035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329600">
              <a:off x="468000" y="2637000"/>
              <a:ext cx="503280" cy="1512720"/>
            </a:xfrm>
            <a:prstGeom prst="downArrow">
              <a:avLst>
                <a:gd name="adj1" fmla="val 50000"/>
                <a:gd name="adj2" fmla="val 7514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454000">
              <a:off x="1258920" y="2671560"/>
              <a:ext cx="503280" cy="1512720"/>
            </a:xfrm>
            <a:prstGeom prst="downArrow">
              <a:avLst>
                <a:gd name="adj1" fmla="val 50000"/>
                <a:gd name="adj2" fmla="val 7514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659640" y="0"/>
            <a:ext cx="2217600" cy="3219120"/>
            <a:chOff x="6659640" y="0"/>
            <a:chExt cx="2217600" cy="3219120"/>
          </a:xfrm>
        </p:grpSpPr>
        <p:sp>
          <p:nvSpPr>
            <p:cNvPr id="145" name=""/>
            <p:cNvSpPr/>
            <p:nvPr/>
          </p:nvSpPr>
          <p:spPr>
            <a:xfrm>
              <a:off x="7531200" y="1109520"/>
              <a:ext cx="41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59640" y="257652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59640" y="249228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9640" y="185112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98000" y="185112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21680" y="0"/>
              <a:ext cx="907920" cy="1060560"/>
            </a:xfrm>
            <a:prstGeom prst="downArrow">
              <a:avLst>
                <a:gd name="adj1" fmla="val 50000"/>
                <a:gd name="adj2" fmla="val 2920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454000">
              <a:off x="7172280" y="1693440"/>
              <a:ext cx="1271520" cy="1062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588000" y="6005520"/>
            <a:ext cx="4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588000" y="3429000"/>
            <a:ext cx="2197080" cy="3115800"/>
            <a:chOff x="6588000" y="3429000"/>
            <a:chExt cx="2197080" cy="3115800"/>
          </a:xfrm>
        </p:grpSpPr>
        <p:sp>
          <p:nvSpPr>
            <p:cNvPr id="154" name=""/>
            <p:cNvSpPr/>
            <p:nvPr/>
          </p:nvSpPr>
          <p:spPr>
            <a:xfrm>
              <a:off x="7459560" y="4538520"/>
              <a:ext cx="41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66040" y="590220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88000" y="5280120"/>
              <a:ext cx="5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26360" y="528012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50040" y="3429000"/>
              <a:ext cx="908280" cy="1060560"/>
            </a:xfrm>
            <a:prstGeom prst="downArrow">
              <a:avLst>
                <a:gd name="adj1" fmla="val 50000"/>
                <a:gd name="adj2" fmla="val 2919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454000">
              <a:off x="7872120" y="4992480"/>
              <a:ext cx="479520" cy="1062000"/>
            </a:xfrm>
            <a:prstGeom prst="downArrow">
              <a:avLst>
                <a:gd name="adj1" fmla="val 50000"/>
                <a:gd name="adj2" fmla="val 5536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¿Dudas, consulta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FORMACI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  <a:ea typeface="ＭＳ Ｐゴシック"/>
              </a:rPr>
              <a:t>Ó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cha del p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ximo informe/present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3436920" cy="6705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952880" y="228600"/>
            <a:ext cx="3892680" cy="6432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Incrementar productivid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1828800"/>
            <a:ext cx="3276720" cy="2425680"/>
            <a:chOff x="228600" y="1828800"/>
            <a:chExt cx="3276720" cy="2425680"/>
          </a:xfrm>
        </p:grpSpPr>
        <p:grpSp>
          <p:nvGrpSpPr>
            <p:cNvPr id="169" name=""/>
            <p:cNvGrpSpPr/>
            <p:nvPr/>
          </p:nvGrpSpPr>
          <p:grpSpPr>
            <a:xfrm>
              <a:off x="228600" y="1828800"/>
              <a:ext cx="3276720" cy="2425680"/>
              <a:chOff x="228600" y="1828800"/>
              <a:chExt cx="3276720" cy="2425680"/>
            </a:xfrm>
          </p:grpSpPr>
          <p:sp>
            <p:nvSpPr>
              <p:cNvPr id="170" name=""/>
              <p:cNvSpPr/>
              <p:nvPr/>
            </p:nvSpPr>
            <p:spPr>
              <a:xfrm>
                <a:off x="1371600" y="182880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str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28800" y="228600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95280" y="29718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Metaboli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672800">
                <a:off x="1447560" y="327672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904400">
                <a:off x="2133720" y="327636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8600" y="38862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bproduc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133720" y="38862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Antibiótic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52480" y="3886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066680" y="2286000"/>
              <a:ext cx="1676520" cy="1359000"/>
              <a:chOff x="1066680" y="2286000"/>
              <a:chExt cx="1676520" cy="1359000"/>
            </a:xfrm>
          </p:grpSpPr>
          <p:sp>
            <p:nvSpPr>
              <p:cNvPr id="179" name=""/>
              <p:cNvSpPr/>
              <p:nvPr/>
            </p:nvSpPr>
            <p:spPr>
              <a:xfrm>
                <a:off x="1066680" y="3276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09680" y="3276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05120" y="22860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3962520" y="1828800"/>
            <a:ext cx="3276360" cy="2425680"/>
            <a:chOff x="3962520" y="1828800"/>
            <a:chExt cx="3276360" cy="2425680"/>
          </a:xfrm>
        </p:grpSpPr>
        <p:grpSp>
          <p:nvGrpSpPr>
            <p:cNvPr id="183" name=""/>
            <p:cNvGrpSpPr/>
            <p:nvPr/>
          </p:nvGrpSpPr>
          <p:grpSpPr>
            <a:xfrm>
              <a:off x="3962520" y="1828800"/>
              <a:ext cx="3276360" cy="2425680"/>
              <a:chOff x="3962520" y="1828800"/>
              <a:chExt cx="3276360" cy="2425680"/>
            </a:xfrm>
          </p:grpSpPr>
          <p:sp>
            <p:nvSpPr>
              <p:cNvPr id="184" name=""/>
              <p:cNvSpPr/>
              <p:nvPr/>
            </p:nvSpPr>
            <p:spPr>
              <a:xfrm>
                <a:off x="5105520" y="1828800"/>
                <a:ext cx="121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str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62720" y="228600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029200" y="29718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Metaboli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72800">
                <a:off x="5181120" y="3276360"/>
                <a:ext cx="152640" cy="609480"/>
              </a:xfrm>
              <a:prstGeom prst="downArrow">
                <a:avLst>
                  <a:gd name="adj1" fmla="val 50000"/>
                  <a:gd name="adj2" fmla="val 99823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9904400">
                <a:off x="5867280" y="3276360"/>
                <a:ext cx="152640" cy="609480"/>
              </a:xfrm>
              <a:prstGeom prst="downArrow">
                <a:avLst>
                  <a:gd name="adj1" fmla="val 50000"/>
                  <a:gd name="adj2" fmla="val 99823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962520" y="38862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bproduc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38862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Antibiótic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86400" y="3886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&lt;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23880" y="3395520"/>
                <a:ext cx="266400" cy="37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29200" y="35812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648320" y="2362320"/>
              <a:ext cx="1828800" cy="1282680"/>
              <a:chOff x="4648320" y="2362320"/>
              <a:chExt cx="1828800" cy="1282680"/>
            </a:xfrm>
          </p:grpSpPr>
          <p:sp>
            <p:nvSpPr>
              <p:cNvPr id="195" name=""/>
              <p:cNvSpPr/>
              <p:nvPr/>
            </p:nvSpPr>
            <p:spPr>
              <a:xfrm>
                <a:off x="5638680" y="23623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48320" y="32767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43600" y="3276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7e7ff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s actividades metabólicas de las células funcionan con una red de reacciones enzimáticas </a:t>
            </a:r>
            <a:r>
              <a:rPr b="0" lang="es-MX" sz="2800" spc="-1" strike="noStrike">
                <a:solidFill>
                  <a:srgbClr val="ee941c"/>
                </a:solidFill>
                <a:latin typeface="Arial"/>
              </a:rPr>
              <a:t>regulada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MX" sz="2800" spc="-1" strike="noStrike">
                <a:solidFill>
                  <a:srgbClr val="ee941c"/>
                </a:solidFill>
                <a:latin typeface="Arial"/>
              </a:rPr>
              <a:t>acoplada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y con sistemas de transporte </a:t>
            </a:r>
            <a:r>
              <a:rPr b="0" lang="es-MX" sz="2800" spc="-1" strike="noStrike">
                <a:solidFill>
                  <a:srgbClr val="ee941c"/>
                </a:solidFill>
                <a:latin typeface="Arial"/>
              </a:rPr>
              <a:t>selectiv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9400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5048280" cy="61722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Extensión de una ví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95280" y="1828800"/>
            <a:ext cx="1371600" cy="2425680"/>
            <a:chOff x="1295280" y="1828800"/>
            <a:chExt cx="1371600" cy="2425680"/>
          </a:xfrm>
        </p:grpSpPr>
        <p:sp>
          <p:nvSpPr>
            <p:cNvPr id="202" name=""/>
            <p:cNvSpPr/>
            <p:nvPr/>
          </p:nvSpPr>
          <p:spPr>
            <a:xfrm>
              <a:off x="1371600" y="1828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28800" y="228600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95280" y="29718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71600" y="3886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05120" y="2362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28800" y="32767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5120" y="3352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724280" y="1752480"/>
            <a:ext cx="1600200" cy="3416400"/>
            <a:chOff x="4724280" y="1752480"/>
            <a:chExt cx="1600200" cy="3416400"/>
          </a:xfrm>
        </p:grpSpPr>
        <p:sp>
          <p:nvSpPr>
            <p:cNvPr id="210" name=""/>
            <p:cNvSpPr/>
            <p:nvPr/>
          </p:nvSpPr>
          <p:spPr>
            <a:xfrm>
              <a:off x="4800600" y="1752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2209680"/>
              <a:ext cx="152280" cy="609840"/>
            </a:xfrm>
            <a:prstGeom prst="downArrow">
              <a:avLst>
                <a:gd name="adj1" fmla="val 50000"/>
                <a:gd name="adj2" fmla="val 1001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24280" y="28954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00600" y="3809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4120" y="2286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57800" y="320040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4120" y="3276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57800" y="41911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34120" y="4191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Cambio de direcció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981080" y="1676520"/>
            <a:ext cx="1600200" cy="3416040"/>
            <a:chOff x="1981080" y="1676520"/>
            <a:chExt cx="1600200" cy="3416040"/>
          </a:xfrm>
        </p:grpSpPr>
        <p:sp>
          <p:nvSpPr>
            <p:cNvPr id="223" name=""/>
            <p:cNvSpPr/>
            <p:nvPr/>
          </p:nvSpPr>
          <p:spPr>
            <a:xfrm>
              <a:off x="2057400" y="1676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14600" y="21337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28195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57400" y="3733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90920" y="2209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14600" y="3124080"/>
              <a:ext cx="152280" cy="609840"/>
            </a:xfrm>
            <a:prstGeom prst="downArrow">
              <a:avLst>
                <a:gd name="adj1" fmla="val 50000"/>
                <a:gd name="adj2" fmla="val 1001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0920" y="3200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4600" y="411480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90920" y="4114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7400" y="4724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105520" y="1676520"/>
            <a:ext cx="1600200" cy="3416040"/>
            <a:chOff x="5105520" y="1676520"/>
            <a:chExt cx="1600200" cy="3416040"/>
          </a:xfrm>
        </p:grpSpPr>
        <p:sp>
          <p:nvSpPr>
            <p:cNvPr id="234" name=""/>
            <p:cNvSpPr/>
            <p:nvPr/>
          </p:nvSpPr>
          <p:spPr>
            <a:xfrm>
              <a:off x="5181480" y="1676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38680" y="2133720"/>
              <a:ext cx="152640" cy="609480"/>
            </a:xfrm>
            <a:prstGeom prst="downArrow">
              <a:avLst>
                <a:gd name="adj1" fmla="val 50000"/>
                <a:gd name="adj2" fmla="val 9982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0552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81480" y="37339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15000" y="2209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15000" y="3200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38680" y="3200400"/>
              <a:ext cx="152640" cy="609480"/>
            </a:xfrm>
            <a:prstGeom prst="downArrow">
              <a:avLst>
                <a:gd name="adj1" fmla="val 50000"/>
                <a:gd name="adj2" fmla="val 9982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15000" y="4114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81480" y="47242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38680" y="4114800"/>
              <a:ext cx="152640" cy="609480"/>
            </a:xfrm>
            <a:prstGeom prst="upArrow">
              <a:avLst>
                <a:gd name="adj1" fmla="val 50000"/>
                <a:gd name="adj2" fmla="val 9982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Aceleración etapa limitan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981080" y="1676520"/>
            <a:ext cx="1600200" cy="3416040"/>
            <a:chOff x="1981080" y="1676520"/>
            <a:chExt cx="1600200" cy="3416040"/>
          </a:xfrm>
        </p:grpSpPr>
        <p:sp>
          <p:nvSpPr>
            <p:cNvPr id="247" name=""/>
            <p:cNvSpPr/>
            <p:nvPr/>
          </p:nvSpPr>
          <p:spPr>
            <a:xfrm>
              <a:off x="2057400" y="1676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213372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81080" y="28195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57400" y="3733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0920" y="2209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3124080"/>
              <a:ext cx="152280" cy="609840"/>
            </a:xfrm>
            <a:prstGeom prst="downArrow">
              <a:avLst>
                <a:gd name="adj1" fmla="val 50000"/>
                <a:gd name="adj2" fmla="val 1001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90920" y="3200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86000" y="411480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90920" y="4114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57400" y="4724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029200" y="1676520"/>
            <a:ext cx="1600200" cy="3416040"/>
            <a:chOff x="5029200" y="1676520"/>
            <a:chExt cx="1600200" cy="3416040"/>
          </a:xfrm>
        </p:grpSpPr>
        <p:sp>
          <p:nvSpPr>
            <p:cNvPr id="258" name=""/>
            <p:cNvSpPr/>
            <p:nvPr/>
          </p:nvSpPr>
          <p:spPr>
            <a:xfrm>
              <a:off x="5105520" y="16765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213372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2920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05520" y="3733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38680" y="22096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4120" y="3124080"/>
              <a:ext cx="380880" cy="609840"/>
            </a:xfrm>
            <a:prstGeom prst="downArrow">
              <a:avLst>
                <a:gd name="adj1" fmla="val 50000"/>
                <a:gd name="adj2" fmla="val 4002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38680" y="32004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4120" y="411480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38680" y="41148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05520" y="4724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Sistemas de transpor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4008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9552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97160" y="0"/>
            <a:ext cx="524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24000" y="0"/>
            <a:ext cx="5327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25840" y="0"/>
            <a:ext cx="421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74960" y="0"/>
            <a:ext cx="482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7e7ff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s redes metabólicas son producto de la evolución, por lo que no son </a:t>
            </a:r>
            <a:r>
              <a:rPr b="0" lang="es-MX" sz="3200" spc="-1" strike="noStrike">
                <a:solidFill>
                  <a:srgbClr val="ee941c"/>
                </a:solidFill>
                <a:latin typeface="Arial"/>
              </a:rPr>
              <a:t>óptima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para los objetivos prácticos de la biotecnolo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necesario y posible mejorar el rendimiento de los procesos aplicando modificaciones genét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7e7ff"/>
                </a:solidFill>
                <a:latin typeface="Arial"/>
              </a:rPr>
              <a:t>INGENIERÍA METABÓLIC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ingeniería metabólica es el </a:t>
            </a:r>
            <a:r>
              <a:rPr b="0" lang="es-MX" sz="3200" spc="-1" strike="noStrike">
                <a:solidFill>
                  <a:srgbClr val="ee941c"/>
                </a:solidFill>
                <a:latin typeface="Arial"/>
              </a:rPr>
              <a:t>mejoramient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 las actividades celulares usando manipulación de funciones enzimáticas, de transporte y de regulación usando técnicas de DNA recombin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1197000"/>
            <a:ext cx="9144000" cy="5048280"/>
            <a:chOff x="0" y="1197000"/>
            <a:chExt cx="9144000" cy="5048280"/>
          </a:xfrm>
        </p:grpSpPr>
        <p:sp>
          <p:nvSpPr>
            <p:cNvPr id="104" name=""/>
            <p:cNvSpPr/>
            <p:nvPr/>
          </p:nvSpPr>
          <p:spPr>
            <a:xfrm>
              <a:off x="2195640" y="1989000"/>
              <a:ext cx="4752720" cy="3240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4290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COMPUT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27640" y="11970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GENÉ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93080" y="3429000"/>
              <a:ext cx="20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MATEMÁ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0360" y="58770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BIOQUÍM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71640" y="587700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BIOLOGÍA CEL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1280" y="126828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BIOLOGÍA MOLEC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979640" y="5013360"/>
              <a:ext cx="792000" cy="79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42920" y="3789360"/>
              <a:ext cx="8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40000" y="1700280"/>
              <a:ext cx="57636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300720" y="1628640"/>
              <a:ext cx="503280" cy="43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092720" y="3860640"/>
              <a:ext cx="718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6011640" y="5300640"/>
              <a:ext cx="64764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71640" y="2997360"/>
              <a:ext cx="374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16360" y="2492280"/>
              <a:ext cx="3311280" cy="26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REDIRIGIR LOS FLUJOS METABÓLICOS PARA OBJETIVOS </a:t>
              </a:r>
              <a:r>
                <a:rPr b="1" lang="es-MX" sz="2400" spc="-1" strike="noStrike">
                  <a:solidFill>
                    <a:srgbClr val="ee941c"/>
                  </a:solidFill>
                  <a:latin typeface="Arial"/>
                </a:rPr>
                <a:t>INDUSTRIALES</a:t>
              </a: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 Y </a:t>
              </a:r>
              <a:r>
                <a:rPr b="1" lang="es-MX" sz="2400" spc="-1" strike="noStrike">
                  <a:solidFill>
                    <a:srgbClr val="ee941c"/>
                  </a:solidFill>
                  <a:latin typeface="Arial"/>
                </a:rPr>
                <a:t>MÉDIC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9:32:28Z</dcterms:created>
  <dc:creator>Ana Mercado</dc:creator>
  <dc:description/>
  <dc:language>en-US</dc:language>
  <cp:lastModifiedBy>Dario Sepulveda</cp:lastModifiedBy>
  <dcterms:modified xsi:type="dcterms:W3CDTF">2005-09-20T01:56:14Z</dcterms:modified>
  <cp:revision>12</cp:revision>
  <dc:subject/>
  <dc:title>INGENIERIA METABOLICA</dc:title>
</cp:coreProperties>
</file>