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3B0A-FF4F-4E36-B9C0-285427616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o me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able producir mentol, no deseable el mentofurano (aumenta su produc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condiciones de baja luz y otr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u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luencia global 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a de reguladores gené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genes estructurales (enzimas protein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co-factores, disponibilidad de precur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5BE-FFC6-4E00-BBC3-10E9DD71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C26-07DC-43A4-B414-64746328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346-A8D3-47E1-A8DD-8375CD67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BD1-13DC-460F-AF27-783620EC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415C-970C-4CB1-87DF-3D2132EB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0E40-6ECD-444A-B626-6EAB0EB1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C772-9C4F-4508-B999-3495EE2F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8431-4BF5-4117-AC7D-4DEB27C6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96B9-9B28-4E8D-A9FD-673368A2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66E2-1A74-4A98-B08C-82918E0C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36A7-A2C1-4317-9116-D5F928EA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2DD-4795-4E82-9E00-47563C9E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FB8A-54DF-46C8-96F9-EA7AD18E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89C4-C05E-4A15-BA16-30354571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DACA-F2AB-4F0D-A670-3B77970A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D04A-77F3-4948-A6E6-6C766A73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468B-1D2C-4B67-B934-3ACB50E8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4BF-DEC1-45A5-AE69-0671DF53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76D-C71A-4DEC-9C65-4B524F02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B19-F7DF-4C0D-991F-AE0B6220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05D-C7F0-4FE5-A072-7A4D38A5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8DD-A0BA-4867-AFEA-535B76F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9AE-B738-4B97-8C9E-1A50CBD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353-7524-41EB-95D7-C2F62744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AD22-8589-41E6-98F9-40F7A05836AA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5412-435F-49F6-90DF-25972559E575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7e7ff"/>
                </a:solidFill>
                <a:latin typeface="Arial"/>
              </a:rPr>
              <a:t>INGENIERIA METABOLIC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6078600"/>
            <a:ext cx="39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D20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ÁRBARA RIBB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JEMPLOS DE OBJETIVO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rementar productividad del proceso (ej., producción de antibió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tensión de una vía metabólica para producir algo nue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mbio de dirección de algún flu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eleración de una etapa limi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de nuevos sistemas de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2895480" y="2209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63120" y="3048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800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638680"/>
            <a:ext cx="228600" cy="2304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30400"/>
              <a:gd name="textAreaBottom" fmla="*/ 215640 h 230400"/>
            </a:gdLst>
            <a:ahLst/>
            <a:rect l="textAreaLeft" t="textAreaTop" r="textAreaRight" b="textAreaBottom"/>
            <a:pathLst>
              <a:path w="21600" h="21770">
                <a:moveTo>
                  <a:pt x="0" y="0"/>
                </a:moveTo>
                <a:lnTo>
                  <a:pt x="21600" y="0"/>
                </a:lnTo>
                <a:lnTo>
                  <a:pt x="21600" y="21770"/>
                </a:lnTo>
                <a:lnTo>
                  <a:pt x="0" y="21770"/>
                </a:lnTo>
                <a:close/>
              </a:path>
              <a:path fill="lightenLess" w="21600" h="21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70">
                <a:moveTo>
                  <a:pt x="21600" y="0"/>
                </a:moveTo>
                <a:lnTo>
                  <a:pt x="21600" y="21770"/>
                </a:lnTo>
                <a:lnTo>
                  <a:pt x="20200" y="20370"/>
                </a:lnTo>
                <a:lnTo>
                  <a:pt x="20200" y="1400"/>
                </a:lnTo>
                <a:close/>
              </a:path>
              <a:path fill="darkenLess" w="21600" h="21770">
                <a:moveTo>
                  <a:pt x="21600" y="21770"/>
                </a:moveTo>
                <a:lnTo>
                  <a:pt x="0" y="21770"/>
                </a:lnTo>
                <a:lnTo>
                  <a:pt x="1400" y="20370"/>
                </a:lnTo>
                <a:lnTo>
                  <a:pt x="20200" y="20370"/>
                </a:lnTo>
                <a:close/>
              </a:path>
              <a:path fill="lighten" w="21600" h="21770">
                <a:moveTo>
                  <a:pt x="0" y="21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70"/>
                </a:lnTo>
                <a:close/>
              </a:path>
              <a:path fill="darken" w="21600" h="21770">
                <a:moveTo>
                  <a:pt x="3794" y="3878"/>
                </a:moveTo>
                <a:lnTo>
                  <a:pt x="17806" y="10885"/>
                </a:lnTo>
                <a:lnTo>
                  <a:pt x="3794" y="17891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PROBLEMA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dicci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los efectos al modificar una v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expresión de una proteína recombinante en una célula no garantiza su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den existir proteasas que las degraden, necesitan tener la estructura correcta, deben estar en el lugar (organelo) correcto, deben tener los sustratos, no encontrarse con inhibidores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terminación de mecanismos de control y flujo en las vías menos conoc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instrumentos para estudiar enzimas y procesos regulatorios en v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nuevas herramientas genéticas , como marcadores y regu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umentar los tipos de células huésped usados en Ingeniería Gené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ejorar estabilidad genética de células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reación de bases de datos y métodos computacionales para analizar vías y modelar el metabo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tudiar el mecanismo de transporte de moléculas pequeñas a través de las membranas celul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TAPAS EN EL MEJORAMIENTO DE UNA V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vía que se desea mejor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reacción que limita la v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el tipo de modificación genética más apropiada, cambios en la inhibición, amplificación de la expresión, transporte de sustra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11640" y="404640"/>
            <a:ext cx="2520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nhibición de E1 para aumentar la producción de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producción sólo aumentará si  E2 es suficiente para utilizar todo el flujo que viene d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333360"/>
            <a:ext cx="2268360" cy="4314600"/>
            <a:chOff x="0" y="333360"/>
            <a:chExt cx="2268360" cy="4314600"/>
          </a:xfrm>
        </p:grpSpPr>
        <p:sp>
          <p:nvSpPr>
            <p:cNvPr id="136" name=""/>
            <p:cNvSpPr/>
            <p:nvPr/>
          </p:nvSpPr>
          <p:spPr>
            <a:xfrm>
              <a:off x="900000" y="191628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00536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3860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29718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29718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360" y="333360"/>
              <a:ext cx="936360" cy="1511280"/>
            </a:xfrm>
            <a:prstGeom prst="downArrow">
              <a:avLst>
                <a:gd name="adj1" fmla="val 50000"/>
                <a:gd name="adj2" fmla="val 4035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29600">
              <a:off x="468000" y="263700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454000">
              <a:off x="1258920" y="267156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659640" y="0"/>
            <a:ext cx="2217600" cy="3219120"/>
            <a:chOff x="6659640" y="0"/>
            <a:chExt cx="2217600" cy="3219120"/>
          </a:xfrm>
        </p:grpSpPr>
        <p:sp>
          <p:nvSpPr>
            <p:cNvPr id="145" name=""/>
            <p:cNvSpPr/>
            <p:nvPr/>
          </p:nvSpPr>
          <p:spPr>
            <a:xfrm>
              <a:off x="7531200" y="1109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257652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59640" y="249228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964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9800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21680" y="0"/>
              <a:ext cx="907920" cy="1060560"/>
            </a:xfrm>
            <a:prstGeom prst="downArrow">
              <a:avLst>
                <a:gd name="adj1" fmla="val 50000"/>
                <a:gd name="adj2" fmla="val 2920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454000">
              <a:off x="7172280" y="1693440"/>
              <a:ext cx="1271520" cy="106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588000" y="6005520"/>
            <a:ext cx="4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588000" y="3429000"/>
            <a:ext cx="2197080" cy="3115800"/>
            <a:chOff x="6588000" y="3429000"/>
            <a:chExt cx="2197080" cy="3115800"/>
          </a:xfrm>
        </p:grpSpPr>
        <p:sp>
          <p:nvSpPr>
            <p:cNvPr id="154" name=""/>
            <p:cNvSpPr/>
            <p:nvPr/>
          </p:nvSpPr>
          <p:spPr>
            <a:xfrm>
              <a:off x="7459560" y="4538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66040" y="590220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8000" y="5280120"/>
              <a:ext cx="5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26360" y="5280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50040" y="3429000"/>
              <a:ext cx="908280" cy="1060560"/>
            </a:xfrm>
            <a:prstGeom prst="downArrow">
              <a:avLst>
                <a:gd name="adj1" fmla="val 50000"/>
                <a:gd name="adj2" fmla="val 2919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454000">
              <a:off x="7872120" y="4992480"/>
              <a:ext cx="479520" cy="1062000"/>
            </a:xfrm>
            <a:prstGeom prst="downArrow">
              <a:avLst>
                <a:gd name="adj1" fmla="val 50000"/>
                <a:gd name="adj2" fmla="val 5536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¿Dudas, consulta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FORMACI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cha del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ximo informe/present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436920" cy="670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3892680" cy="6432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Incrementar productivid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828800"/>
            <a:ext cx="3276720" cy="2425680"/>
            <a:chOff x="228600" y="1828800"/>
            <a:chExt cx="3276720" cy="242568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1828800"/>
              <a:ext cx="3276720" cy="2425680"/>
              <a:chOff x="228600" y="1828800"/>
              <a:chExt cx="3276720" cy="2425680"/>
            </a:xfrm>
          </p:grpSpPr>
          <p:sp>
            <p:nvSpPr>
              <p:cNvPr id="170" name=""/>
              <p:cNvSpPr/>
              <p:nvPr/>
            </p:nvSpPr>
            <p:spPr>
              <a:xfrm>
                <a:off x="1371600" y="18288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2880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9528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72800">
                <a:off x="1447560" y="327672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904400">
                <a:off x="2133720" y="327636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860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3372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52480" y="3886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066680" y="2286000"/>
              <a:ext cx="1676520" cy="1359000"/>
              <a:chOff x="1066680" y="2286000"/>
              <a:chExt cx="1676520" cy="1359000"/>
            </a:xfrm>
          </p:grpSpPr>
          <p:sp>
            <p:nvSpPr>
              <p:cNvPr id="179" name=""/>
              <p:cNvSpPr/>
              <p:nvPr/>
            </p:nvSpPr>
            <p:spPr>
              <a:xfrm>
                <a:off x="1066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9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22860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962520" y="1828800"/>
            <a:ext cx="3276360" cy="2425680"/>
            <a:chOff x="3962520" y="1828800"/>
            <a:chExt cx="3276360" cy="2425680"/>
          </a:xfrm>
        </p:grpSpPr>
        <p:grpSp>
          <p:nvGrpSpPr>
            <p:cNvPr id="183" name=""/>
            <p:cNvGrpSpPr/>
            <p:nvPr/>
          </p:nvGrpSpPr>
          <p:grpSpPr>
            <a:xfrm>
              <a:off x="3962520" y="1828800"/>
              <a:ext cx="3276360" cy="2425680"/>
              <a:chOff x="3962520" y="1828800"/>
              <a:chExt cx="3276360" cy="2425680"/>
            </a:xfrm>
          </p:grpSpPr>
          <p:sp>
            <p:nvSpPr>
              <p:cNvPr id="184" name=""/>
              <p:cNvSpPr/>
              <p:nvPr/>
            </p:nvSpPr>
            <p:spPr>
              <a:xfrm>
                <a:off x="5105520" y="1828800"/>
                <a:ext cx="121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272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2920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72800">
                <a:off x="518112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9904400">
                <a:off x="586728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6252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86400" y="3886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&lt;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23880" y="3395520"/>
                <a:ext cx="266400" cy="37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9200" y="3581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648320" y="2362320"/>
              <a:ext cx="1828800" cy="1282680"/>
              <a:chOff x="4648320" y="2362320"/>
              <a:chExt cx="1828800" cy="1282680"/>
            </a:xfrm>
          </p:grpSpPr>
          <p:sp>
            <p:nvSpPr>
              <p:cNvPr id="195" name=""/>
              <p:cNvSpPr/>
              <p:nvPr/>
            </p:nvSpPr>
            <p:spPr>
              <a:xfrm>
                <a:off x="5638680" y="23623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48320" y="32767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4360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actividades metabólicas de las células funcionan con una red de reacciones enzimáticas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regu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acop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con sistemas de transporte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selectiv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9400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5048280" cy="6172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Extensión de una ví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1828800"/>
            <a:ext cx="1371600" cy="2425680"/>
            <a:chOff x="1295280" y="1828800"/>
            <a:chExt cx="1371600" cy="2425680"/>
          </a:xfrm>
        </p:grpSpPr>
        <p:sp>
          <p:nvSpPr>
            <p:cNvPr id="202" name=""/>
            <p:cNvSpPr/>
            <p:nvPr/>
          </p:nvSpPr>
          <p:spPr>
            <a:xfrm>
              <a:off x="13716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22860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5280" y="2971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3886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5120" y="2362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3276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3352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724280" y="1752480"/>
            <a:ext cx="1600200" cy="3416400"/>
            <a:chOff x="4724280" y="1752480"/>
            <a:chExt cx="1600200" cy="3416400"/>
          </a:xfrm>
        </p:grpSpPr>
        <p:sp>
          <p:nvSpPr>
            <p:cNvPr id="210" name=""/>
            <p:cNvSpPr/>
            <p:nvPr/>
          </p:nvSpPr>
          <p:spPr>
            <a:xfrm>
              <a:off x="4800600" y="1752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22096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4280" y="28954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00600" y="3809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2286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7800" y="32004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3276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7800" y="41911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34120" y="4191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Cambio de direcci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23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14600" y="2133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41148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05520" y="1676520"/>
            <a:ext cx="1600200" cy="3416040"/>
            <a:chOff x="5105520" y="1676520"/>
            <a:chExt cx="1600200" cy="3416040"/>
          </a:xfrm>
        </p:grpSpPr>
        <p:sp>
          <p:nvSpPr>
            <p:cNvPr id="234" name=""/>
            <p:cNvSpPr/>
            <p:nvPr/>
          </p:nvSpPr>
          <p:spPr>
            <a:xfrm>
              <a:off x="518148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8680" y="213372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37339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500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500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8680" y="320040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1480" y="4724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4114800"/>
              <a:ext cx="152640" cy="609480"/>
            </a:xfrm>
            <a:prstGeom prst="up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Aceleración etapa limitan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47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600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029200" y="1676520"/>
            <a:ext cx="1600200" cy="3416040"/>
            <a:chOff x="5029200" y="1676520"/>
            <a:chExt cx="1600200" cy="3416040"/>
          </a:xfrm>
        </p:grpSpPr>
        <p:sp>
          <p:nvSpPr>
            <p:cNvPr id="258" name=""/>
            <p:cNvSpPr/>
            <p:nvPr/>
          </p:nvSpPr>
          <p:spPr>
            <a:xfrm>
              <a:off x="5105520" y="16765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52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22096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31240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8680" y="32004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412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41148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552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Sistemas de transpor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008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9552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9716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24000" y="0"/>
            <a:ext cx="5327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5840" y="0"/>
            <a:ext cx="42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7496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s redes metabólicas son producto de la evolución, por lo que no son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óptima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para los objetivos prácticos de la biotecn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necesario y posible mejorar el rendimiento de los procesos aplicando modificaciones gené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INGENIERÍA METABÓL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ingeniería metabólica es el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mejoramient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las actividades celulares usando manipulación de funciones enzimáticas, de transporte y de regulación usando técnicas de DNA recombin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197000"/>
            <a:ext cx="9144000" cy="5048280"/>
            <a:chOff x="0" y="1197000"/>
            <a:chExt cx="9144000" cy="5048280"/>
          </a:xfrm>
        </p:grpSpPr>
        <p:sp>
          <p:nvSpPr>
            <p:cNvPr id="104" name=""/>
            <p:cNvSpPr/>
            <p:nvPr/>
          </p:nvSpPr>
          <p:spPr>
            <a:xfrm>
              <a:off x="2195640" y="1989000"/>
              <a:ext cx="4752720" cy="3240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429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COMPUT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197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GENÉ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93080" y="3429000"/>
              <a:ext cx="20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MATEMÁ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360" y="587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QUÍM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71640" y="587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CE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126828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MOLEC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79640" y="5013360"/>
              <a:ext cx="79200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42920" y="378936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40000" y="1700280"/>
              <a:ext cx="57636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300720" y="1628640"/>
              <a:ext cx="50328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92720" y="3860640"/>
              <a:ext cx="718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011640" y="5300640"/>
              <a:ext cx="647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71640" y="2997360"/>
              <a:ext cx="374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16360" y="2492280"/>
              <a:ext cx="3311280" cy="26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REDIRIGIR LOS FLUJOS METABÓLICOS PARA OBJETIVOS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INDUSTRIALES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 Y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MÉDIC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9:32:28Z</dcterms:created>
  <dc:creator>Ana Mercado</dc:creator>
  <dc:description/>
  <dc:language>en-US</dc:language>
  <cp:lastModifiedBy>Dario Sepulveda</cp:lastModifiedBy>
  <dcterms:modified xsi:type="dcterms:W3CDTF">2005-09-20T01:56:14Z</dcterms:modified>
  <cp:revision>12</cp:revision>
  <dc:subject/>
  <dc:title>INGENIERIA METABOLICA</dc:title>
</cp:coreProperties>
</file>