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44D9-EB90-43A9-B3F5-7DE2B4ED6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o men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able producir mentol, no deseable el mentofurano (aumenta su produc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condiciones de baja luz y otr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un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luencia global 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a de reguladores gené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genes estructurales (enzimas protein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co-factores, disponibilidad de precur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ED1-8FC8-4308-86B3-3F78179D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CDB-0212-49E2-BA98-11C18EBB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53F-6F16-4B7D-9B59-B84A9C86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B8A-C99E-43C8-B1D4-2277EB51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2E34-2756-4BCD-87DF-9E0B5F30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2DB1-5BAB-4861-BEC2-79C3D2BE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AF82-AFA9-4AF5-9A3E-E20B1ABB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79D1-9F85-4D98-9237-180794DD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3D8A-A2F2-4214-A02A-7B7A35C6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CAEF-ACCB-4E80-AC90-7F99258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454E-EEE4-485A-B17A-B288522A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B47-E4D7-45E0-B39A-09011169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DDBD-A6D0-479F-87AE-3975500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65D0-A6A9-4F1E-8616-8764394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17F0-4049-4AFC-9133-84DBCC90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22AA-A9E6-4DB5-A77B-343EE8B8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6C03-E513-412B-908E-F25CEE17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15E-E3D6-467B-B29D-23AF6848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AF4-4B1D-497D-845E-CA735DE6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05A-7774-400F-9FE3-45FC8BE1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DDF-644E-43B8-8440-8543D2A1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832-A87F-4BEF-84BD-751B222D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F7C-EB33-4B31-B41F-C1B21E41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E96-FF8C-4F4C-B81E-4BB95CEF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CAFC-5EB9-434D-B827-B8B2CBEC9362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5860-903B-4746-8573-AD86E5320678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b7e7ff"/>
                </a:solidFill>
                <a:latin typeface="Arial"/>
              </a:rPr>
              <a:t>INGENIERIA METABOLIC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6078600"/>
            <a:ext cx="39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D20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ÁRBARA RIBB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EJEMPLOS DE OBJETIVOS DE LA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rementar productividad del proceso (ej., producción de antibiót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tensión de una vía metabólica para producir algo nue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mbio de dirección de algún flu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eleración de una etapa limi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de nuevos sistemas de transp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2895480" y="2209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63120" y="3048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886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4800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638680"/>
            <a:ext cx="228600" cy="2304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30400"/>
              <a:gd name="textAreaBottom" fmla="*/ 215640 h 230400"/>
            </a:gdLst>
            <a:ahLst/>
            <a:rect l="textAreaLeft" t="textAreaTop" r="textAreaRight" b="textAreaBottom"/>
            <a:pathLst>
              <a:path w="21600" h="21770">
                <a:moveTo>
                  <a:pt x="0" y="0"/>
                </a:moveTo>
                <a:lnTo>
                  <a:pt x="21600" y="0"/>
                </a:lnTo>
                <a:lnTo>
                  <a:pt x="21600" y="21770"/>
                </a:lnTo>
                <a:lnTo>
                  <a:pt x="0" y="21770"/>
                </a:lnTo>
                <a:close/>
              </a:path>
              <a:path fill="lightenLess" w="21600" h="21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70">
                <a:moveTo>
                  <a:pt x="21600" y="0"/>
                </a:moveTo>
                <a:lnTo>
                  <a:pt x="21600" y="21770"/>
                </a:lnTo>
                <a:lnTo>
                  <a:pt x="20200" y="20370"/>
                </a:lnTo>
                <a:lnTo>
                  <a:pt x="20200" y="1400"/>
                </a:lnTo>
                <a:close/>
              </a:path>
              <a:path fill="darkenLess" w="21600" h="21770">
                <a:moveTo>
                  <a:pt x="21600" y="21770"/>
                </a:moveTo>
                <a:lnTo>
                  <a:pt x="0" y="21770"/>
                </a:lnTo>
                <a:lnTo>
                  <a:pt x="1400" y="20370"/>
                </a:lnTo>
                <a:lnTo>
                  <a:pt x="20200" y="20370"/>
                </a:lnTo>
                <a:close/>
              </a:path>
              <a:path fill="lighten" w="21600" h="21770">
                <a:moveTo>
                  <a:pt x="0" y="21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70"/>
                </a:lnTo>
                <a:close/>
              </a:path>
              <a:path fill="darken" w="21600" h="21770">
                <a:moveTo>
                  <a:pt x="3794" y="3878"/>
                </a:moveTo>
                <a:lnTo>
                  <a:pt x="17806" y="10885"/>
                </a:lnTo>
                <a:lnTo>
                  <a:pt x="3794" y="17891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PROBLEMAS DE LA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dicci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los efectos al modificar una v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expresión de una proteína recombinante en una célula no garantiza su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den existir proteasas que las degraden, necesitan tener la estructura correcta, deben estar en el lugar (organelo) correcto, deben tener los sustratos, no encontrarse con inhibidores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AREAS IMPORTANTES EN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terminación de mecanismos de control y flujo en las vías menos conoc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instrumentos para estudiar enzimas y procesos regulatorios en v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nuevas herramientas genéticas , como marcadores y regu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umentar los tipos de células huésped usados en Ingeniería Gené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AREAS IMPORTANTES EN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ejorar estabilidad genética de células hués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reación de bases de datos y métodos computacionales para analizar vías y modelar el metabol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tudiar el mecanismo de transporte de moléculas pequeñas a través de las membranas celul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ETAPAS EN EL MEJORAMIENTO DE UNA V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la vía que se desea mejor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la reacción que limita la v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el tipo de modificación genética más apropiada, cambios en la inhibición, amplificación de la expresión, transporte de sustra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11640" y="404640"/>
            <a:ext cx="2520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nhibición de E1 para aumentar la producción de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producción sólo aumentará si  E2 es suficiente para utilizar todo el flujo que viene de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333360"/>
            <a:ext cx="2268360" cy="4314600"/>
            <a:chOff x="0" y="333360"/>
            <a:chExt cx="2268360" cy="4314600"/>
          </a:xfrm>
        </p:grpSpPr>
        <p:sp>
          <p:nvSpPr>
            <p:cNvPr id="136" name=""/>
            <p:cNvSpPr/>
            <p:nvPr/>
          </p:nvSpPr>
          <p:spPr>
            <a:xfrm>
              <a:off x="900000" y="191628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00536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5280" y="3860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29718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29718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360" y="333360"/>
              <a:ext cx="936360" cy="1511280"/>
            </a:xfrm>
            <a:prstGeom prst="downArrow">
              <a:avLst>
                <a:gd name="adj1" fmla="val 50000"/>
                <a:gd name="adj2" fmla="val 4035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29600">
              <a:off x="468000" y="2637000"/>
              <a:ext cx="503280" cy="1512720"/>
            </a:xfrm>
            <a:prstGeom prst="downArrow">
              <a:avLst>
                <a:gd name="adj1" fmla="val 50000"/>
                <a:gd name="adj2" fmla="val 7514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454000">
              <a:off x="1258920" y="2671560"/>
              <a:ext cx="503280" cy="1512720"/>
            </a:xfrm>
            <a:prstGeom prst="downArrow">
              <a:avLst>
                <a:gd name="adj1" fmla="val 50000"/>
                <a:gd name="adj2" fmla="val 7514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659640" y="0"/>
            <a:ext cx="2217600" cy="3219120"/>
            <a:chOff x="6659640" y="0"/>
            <a:chExt cx="2217600" cy="3219120"/>
          </a:xfrm>
        </p:grpSpPr>
        <p:sp>
          <p:nvSpPr>
            <p:cNvPr id="145" name=""/>
            <p:cNvSpPr/>
            <p:nvPr/>
          </p:nvSpPr>
          <p:spPr>
            <a:xfrm>
              <a:off x="7531200" y="1109520"/>
              <a:ext cx="41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257652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59640" y="249228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9640" y="1851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98000" y="1851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21680" y="0"/>
              <a:ext cx="907920" cy="1060560"/>
            </a:xfrm>
            <a:prstGeom prst="downArrow">
              <a:avLst>
                <a:gd name="adj1" fmla="val 50000"/>
                <a:gd name="adj2" fmla="val 2920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454000">
              <a:off x="7172280" y="1693440"/>
              <a:ext cx="1271520" cy="106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588000" y="6005520"/>
            <a:ext cx="4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588000" y="3429000"/>
            <a:ext cx="2197080" cy="3115800"/>
            <a:chOff x="6588000" y="3429000"/>
            <a:chExt cx="2197080" cy="3115800"/>
          </a:xfrm>
        </p:grpSpPr>
        <p:sp>
          <p:nvSpPr>
            <p:cNvPr id="154" name=""/>
            <p:cNvSpPr/>
            <p:nvPr/>
          </p:nvSpPr>
          <p:spPr>
            <a:xfrm>
              <a:off x="7459560" y="4538520"/>
              <a:ext cx="41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66040" y="590220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88000" y="5280120"/>
              <a:ext cx="5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26360" y="5280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50040" y="3429000"/>
              <a:ext cx="908280" cy="1060560"/>
            </a:xfrm>
            <a:prstGeom prst="downArrow">
              <a:avLst>
                <a:gd name="adj1" fmla="val 50000"/>
                <a:gd name="adj2" fmla="val 2919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454000">
              <a:off x="7872120" y="4992480"/>
              <a:ext cx="479520" cy="1062000"/>
            </a:xfrm>
            <a:prstGeom prst="downArrow">
              <a:avLst>
                <a:gd name="adj1" fmla="val 50000"/>
                <a:gd name="adj2" fmla="val 5536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¿Dudas, consulta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FORMACI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cha del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ximo informe/present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436920" cy="670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3892680" cy="6432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Incrementar productivid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828800"/>
            <a:ext cx="3276720" cy="2425680"/>
            <a:chOff x="228600" y="1828800"/>
            <a:chExt cx="3276720" cy="242568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1828800"/>
              <a:ext cx="3276720" cy="2425680"/>
              <a:chOff x="228600" y="1828800"/>
              <a:chExt cx="3276720" cy="2425680"/>
            </a:xfrm>
          </p:grpSpPr>
          <p:sp>
            <p:nvSpPr>
              <p:cNvPr id="170" name=""/>
              <p:cNvSpPr/>
              <p:nvPr/>
            </p:nvSpPr>
            <p:spPr>
              <a:xfrm>
                <a:off x="1371600" y="182880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str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28800" y="228600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9528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Metaboli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72800">
                <a:off x="1447560" y="327672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904400">
                <a:off x="2133720" y="327636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8600" y="3886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b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33720" y="38862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Antibiótic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52480" y="3886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066680" y="2286000"/>
              <a:ext cx="1676520" cy="1359000"/>
              <a:chOff x="1066680" y="2286000"/>
              <a:chExt cx="1676520" cy="1359000"/>
            </a:xfrm>
          </p:grpSpPr>
          <p:sp>
            <p:nvSpPr>
              <p:cNvPr id="179" name=""/>
              <p:cNvSpPr/>
              <p:nvPr/>
            </p:nvSpPr>
            <p:spPr>
              <a:xfrm>
                <a:off x="106668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968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120" y="22860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3962520" y="1828800"/>
            <a:ext cx="3276360" cy="2425680"/>
            <a:chOff x="3962520" y="1828800"/>
            <a:chExt cx="3276360" cy="2425680"/>
          </a:xfrm>
        </p:grpSpPr>
        <p:grpSp>
          <p:nvGrpSpPr>
            <p:cNvPr id="183" name=""/>
            <p:cNvGrpSpPr/>
            <p:nvPr/>
          </p:nvGrpSpPr>
          <p:grpSpPr>
            <a:xfrm>
              <a:off x="3962520" y="1828800"/>
              <a:ext cx="3276360" cy="2425680"/>
              <a:chOff x="3962520" y="1828800"/>
              <a:chExt cx="3276360" cy="2425680"/>
            </a:xfrm>
          </p:grpSpPr>
          <p:sp>
            <p:nvSpPr>
              <p:cNvPr id="184" name=""/>
              <p:cNvSpPr/>
              <p:nvPr/>
            </p:nvSpPr>
            <p:spPr>
              <a:xfrm>
                <a:off x="5105520" y="1828800"/>
                <a:ext cx="121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str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62720" y="228600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2920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Metaboli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72800">
                <a:off x="5181120" y="3276360"/>
                <a:ext cx="152640" cy="609480"/>
              </a:xfrm>
              <a:prstGeom prst="downArrow">
                <a:avLst>
                  <a:gd name="adj1" fmla="val 50000"/>
                  <a:gd name="adj2" fmla="val 99823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9904400">
                <a:off x="5867280" y="3276360"/>
                <a:ext cx="152640" cy="609480"/>
              </a:xfrm>
              <a:prstGeom prst="downArrow">
                <a:avLst>
                  <a:gd name="adj1" fmla="val 50000"/>
                  <a:gd name="adj2" fmla="val 99823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62520" y="3886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b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38862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Antibiótic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86400" y="3886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&lt;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23880" y="3395520"/>
                <a:ext cx="266400" cy="37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9200" y="3581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648320" y="2362320"/>
              <a:ext cx="1828800" cy="1282680"/>
              <a:chOff x="4648320" y="2362320"/>
              <a:chExt cx="1828800" cy="1282680"/>
            </a:xfrm>
          </p:grpSpPr>
          <p:sp>
            <p:nvSpPr>
              <p:cNvPr id="195" name=""/>
              <p:cNvSpPr/>
              <p:nvPr/>
            </p:nvSpPr>
            <p:spPr>
              <a:xfrm>
                <a:off x="5638680" y="23623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48320" y="32767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4360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actividades metabólicas de las células funcionan con una red de reacciones enzimáticas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regulad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acoplad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y con sistemas de transporte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selectiv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9400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5048280" cy="6172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Extensión de una ví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95280" y="1828800"/>
            <a:ext cx="1371600" cy="2425680"/>
            <a:chOff x="1295280" y="1828800"/>
            <a:chExt cx="1371600" cy="2425680"/>
          </a:xfrm>
        </p:grpSpPr>
        <p:sp>
          <p:nvSpPr>
            <p:cNvPr id="202" name=""/>
            <p:cNvSpPr/>
            <p:nvPr/>
          </p:nvSpPr>
          <p:spPr>
            <a:xfrm>
              <a:off x="13716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22860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5280" y="2971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1600" y="3886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5120" y="2362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8800" y="32767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3352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724280" y="1752480"/>
            <a:ext cx="1600200" cy="3416400"/>
            <a:chOff x="4724280" y="1752480"/>
            <a:chExt cx="1600200" cy="3416400"/>
          </a:xfrm>
        </p:grpSpPr>
        <p:sp>
          <p:nvSpPr>
            <p:cNvPr id="210" name=""/>
            <p:cNvSpPr/>
            <p:nvPr/>
          </p:nvSpPr>
          <p:spPr>
            <a:xfrm>
              <a:off x="4800600" y="1752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22096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24280" y="28954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00600" y="3809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4120" y="2286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7800" y="32004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3276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7800" y="41911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34120" y="4191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Cambio de direcció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81080" y="1676520"/>
            <a:ext cx="1600200" cy="3416040"/>
            <a:chOff x="1981080" y="1676520"/>
            <a:chExt cx="1600200" cy="3416040"/>
          </a:xfrm>
        </p:grpSpPr>
        <p:sp>
          <p:nvSpPr>
            <p:cNvPr id="223" name=""/>
            <p:cNvSpPr/>
            <p:nvPr/>
          </p:nvSpPr>
          <p:spPr>
            <a:xfrm>
              <a:off x="205740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14600" y="21337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28195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5740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9092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14600" y="31240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92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41148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09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740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105520" y="1676520"/>
            <a:ext cx="1600200" cy="3416040"/>
            <a:chOff x="5105520" y="1676520"/>
            <a:chExt cx="1600200" cy="3416040"/>
          </a:xfrm>
        </p:grpSpPr>
        <p:sp>
          <p:nvSpPr>
            <p:cNvPr id="234" name=""/>
            <p:cNvSpPr/>
            <p:nvPr/>
          </p:nvSpPr>
          <p:spPr>
            <a:xfrm>
              <a:off x="518148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38680" y="2133720"/>
              <a:ext cx="152640" cy="609480"/>
            </a:xfrm>
            <a:prstGeom prst="down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5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37339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500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500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8680" y="3200400"/>
              <a:ext cx="152640" cy="609480"/>
            </a:xfrm>
            <a:prstGeom prst="down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1480" y="4724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8680" y="4114800"/>
              <a:ext cx="152640" cy="609480"/>
            </a:xfrm>
            <a:prstGeom prst="up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Aceleración etapa limitan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1676520"/>
            <a:ext cx="1600200" cy="3416040"/>
            <a:chOff x="1981080" y="1676520"/>
            <a:chExt cx="1600200" cy="3416040"/>
          </a:xfrm>
        </p:grpSpPr>
        <p:sp>
          <p:nvSpPr>
            <p:cNvPr id="247" name=""/>
            <p:cNvSpPr/>
            <p:nvPr/>
          </p:nvSpPr>
          <p:spPr>
            <a:xfrm>
              <a:off x="205740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21337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1080" y="28195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740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31240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9092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6000" y="41148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09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029200" y="1676520"/>
            <a:ext cx="1600200" cy="3416040"/>
            <a:chOff x="5029200" y="1676520"/>
            <a:chExt cx="1600200" cy="3416040"/>
          </a:xfrm>
        </p:grpSpPr>
        <p:sp>
          <p:nvSpPr>
            <p:cNvPr id="258" name=""/>
            <p:cNvSpPr/>
            <p:nvPr/>
          </p:nvSpPr>
          <p:spPr>
            <a:xfrm>
              <a:off x="5105520" y="16765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21337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920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552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22096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31240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8680" y="32004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4120" y="41148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41148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552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Sistemas de transpor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008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9552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9716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24000" y="0"/>
            <a:ext cx="5327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5840" y="0"/>
            <a:ext cx="42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7496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s redes metabólicas son producto de la evolución, por lo que no son </a:t>
            </a:r>
            <a:r>
              <a:rPr b="0" lang="es-MX" sz="3200" spc="-1" strike="noStrike">
                <a:solidFill>
                  <a:srgbClr val="ee941c"/>
                </a:solidFill>
                <a:latin typeface="Arial"/>
              </a:rPr>
              <a:t>óptima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para los objetivos prácticos de la biotecn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necesario y posible mejorar el rendimiento de los procesos aplicando modificaciones gené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INGENIERÍA METABÓL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ingeniería metabólica es el </a:t>
            </a:r>
            <a:r>
              <a:rPr b="0" lang="es-MX" sz="3200" spc="-1" strike="noStrike">
                <a:solidFill>
                  <a:srgbClr val="ee941c"/>
                </a:solidFill>
                <a:latin typeface="Arial"/>
              </a:rPr>
              <a:t>mejoramient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las actividades celulares usando manipulación de funciones enzimáticas, de transporte y de regulación usando técnicas de DNA recombin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1197000"/>
            <a:ext cx="9144000" cy="5048280"/>
            <a:chOff x="0" y="1197000"/>
            <a:chExt cx="9144000" cy="5048280"/>
          </a:xfrm>
        </p:grpSpPr>
        <p:sp>
          <p:nvSpPr>
            <p:cNvPr id="104" name=""/>
            <p:cNvSpPr/>
            <p:nvPr/>
          </p:nvSpPr>
          <p:spPr>
            <a:xfrm>
              <a:off x="2195640" y="1989000"/>
              <a:ext cx="4752720" cy="3240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429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COMPUT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1197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GENÉ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93080" y="3429000"/>
              <a:ext cx="20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MATEMÁ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0360" y="5877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QUÍM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71640" y="587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LOGÍA CE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126828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LOGÍA MOLEC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79640" y="5013360"/>
              <a:ext cx="79200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42920" y="378936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40000" y="1700280"/>
              <a:ext cx="57636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300720" y="1628640"/>
              <a:ext cx="503280" cy="4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92720" y="3860640"/>
              <a:ext cx="718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011640" y="5300640"/>
              <a:ext cx="6476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71640" y="2997360"/>
              <a:ext cx="374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16360" y="2492280"/>
              <a:ext cx="3311280" cy="26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REDIRIGIR LOS FLUJOS METABÓLICOS PARA OBJETIVOS </a:t>
              </a:r>
              <a:r>
                <a:rPr b="1" lang="es-MX" sz="2400" spc="-1" strike="noStrike">
                  <a:solidFill>
                    <a:srgbClr val="ee941c"/>
                  </a:solidFill>
                  <a:latin typeface="Arial"/>
                </a:rPr>
                <a:t>INDUSTRIALES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 Y </a:t>
              </a:r>
              <a:r>
                <a:rPr b="1" lang="es-MX" sz="2400" spc="-1" strike="noStrike">
                  <a:solidFill>
                    <a:srgbClr val="ee941c"/>
                  </a:solidFill>
                  <a:latin typeface="Arial"/>
                </a:rPr>
                <a:t>MÉDIC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9:32:28Z</dcterms:created>
  <dc:creator>Ana Mercado</dc:creator>
  <dc:description/>
  <dc:language>en-US</dc:language>
  <cp:lastModifiedBy>Dario Sepulveda</cp:lastModifiedBy>
  <dcterms:modified xsi:type="dcterms:W3CDTF">2005-09-20T01:56:14Z</dcterms:modified>
  <cp:revision>12</cp:revision>
  <dc:subject/>
  <dc:title>INGENIERIA METABOLICA</dc:title>
</cp:coreProperties>
</file>