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5D8BA-A96A-468A-89DA-20C03417A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A2538-8DA4-4497-8AA8-855FC2465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C2562-85DC-425F-8F6D-7A466E02E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210D1-E03F-4C9F-9412-2B8694D63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60870-89B3-41D7-A06C-8614A38DB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789A1-C5F1-470C-8F60-915D89B24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2BDA7-BBAF-4DAF-AAD2-06EB191F9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07231-D274-41A2-8156-0B7A8471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7624F-5839-485B-ACFA-1ACECAB1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E384-E1E5-47FA-8EB3-E98BAF84A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1AB2-E712-40F5-B93F-D22F2F2FE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A59A-B237-4A48-8AB1-44773455B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F19E-CF61-44E5-AA19-52830F47D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5-08-29T12:37:34Z</dcterms:modified>
  <cp:revision>95</cp:revision>
  <dc:subject/>
  <dc:title>Presentación de PowerPoint</dc:title>
</cp:coreProperties>
</file>