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B3EF6-E2B0-48EB-AF34-6CAB9AE1E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C8F46-B9CA-49B9-A5FA-1CE1576D6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2D52C-5F4F-4D87-8466-07CB2DF0D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415AC-5B41-4AFB-99E0-C4C2F9BCC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2970F-B6FE-485E-93C8-9D099D63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639E6-3C43-414E-8E20-DEC1CD1E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08A3-1E3A-406A-B6C0-C654FE07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D25DA-598A-4721-B796-FF370E25F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7373-EEB1-4C9D-B36A-5B2215802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BCA2-F840-438F-AA80-248C25DC5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DC7CA-B391-4ECA-B081-65F0B8102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A7498-BB1E-4CFC-BD54-767012ED4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A83C-68DF-4220-9D28-4ECEF1656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5-08-29T12:37:34Z</dcterms:modified>
  <cp:revision>95</cp:revision>
  <dc:subject/>
  <dc:title>Presentación de PowerPoint</dc:title>
</cp:coreProperties>
</file>