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D69E2-56BA-4291-8522-21E2A8DA5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8BF3E-C413-41B3-B608-0D77BBC7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36F71-F5E9-4A49-9C16-F0F94970B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50804-C1DB-4999-8740-17B8B8A10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C2372-6BC3-4F1B-BD4C-985DE6B8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75EB-04A2-4379-BEC2-4D6B11E58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B545-D588-48CC-82BD-A53FDDBE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0EA87-E2C9-4F04-AE96-A62B13B83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9B5F7-F106-4BF2-AD5C-525508607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796F-E160-4B81-B7DB-A01706F99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04D9-52AD-494C-93DC-75C9AA96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4367-1E89-4B1C-9677-A2A9F2C95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CC0D-6E3D-4183-B7A0-D983D0BC3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5-08-29T12:37:34Z</dcterms:modified>
  <cp:revision>95</cp:revision>
  <dc:subject/>
  <dc:title>Presentación de PowerPoint</dc:title>
</cp:coreProperties>
</file>