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255-C4D8-4464-8621-362694AF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9A1-4E35-4477-A48F-F87624B2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88B-EC56-47A1-A68B-CBF8A17D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D4E-B2C8-4A7A-8538-60C90F83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7B66-F324-4F8D-9A37-474901AA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0AAC-4E23-488C-86CA-3ABAB92A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77D-1777-428A-9543-7D15F4B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F40B-044A-40CA-B46C-0F6E3F8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1026-CFC6-477D-A040-A7AC33A4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18AB-4A07-4391-83C1-74F4CC4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03A1-AF2F-4D00-8008-0C8D271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F82-9CBF-429E-929D-9B9D5B3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D02-7B2F-49DF-BE28-B9C31CA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0FE-898C-49BD-AD70-A5FB755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8ACB-FD65-4990-AB88-DC8A1E65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3EA-B8A7-4C9C-8CB9-675F5A72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C28-0642-494D-996D-D18C2771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4B3-5A40-411E-9831-C91C2CF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D2F-1DF3-4444-BDF8-5B3F75FA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37C-BD8D-42D9-B286-C2E3621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BA85-C77A-4D35-A50B-EE646C17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187-88E2-45C5-BE7A-D512EDE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6CC-44D6-4589-8BFC-C0F4D1F7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3E3-B874-4D27-98B2-B720E7B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66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1120" y="657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3800" y="65736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1079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5040" y="1079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549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448-88C8-40F7-9E9A-94D303AC3A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B84A-1C75-4599-9397-143733212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ndimiento por sub nive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C - 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416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experimentos no encuentran evidencia de esta interacción. (WMC Leinster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everance Marker Tria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, Massmin 2004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76720" y="4076640"/>
                <a:ext cx="22302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92360" y="530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pinión 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de la taj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168560"/>
            <a:ext cx="5913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95840" cy="5564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3284640"/>
                <a:ext cx="280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87280" y="2205000"/>
                <a:ext cx="1584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804000" y="3068640"/>
            <a:ext cx="0" cy="259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00720" y="3068640"/>
            <a:ext cx="2304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773360"/>
            <a:ext cx="1296720" cy="129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165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0920" y="4724280"/>
                <a:ext cx="3477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0072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92000" y="26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S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ho galería de producción: 5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o galería de producción: 4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 material tronado: int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o galería de producción: p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del mineral: 5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estéril: 2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metría conve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61080" cy="40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8172360" y="227664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95640" y="2276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916280"/>
            <a:ext cx="287964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se estima en 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80%*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bicación de subniveles en la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=25*2/3=16.7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oxi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 = 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45120" y="1125360"/>
            <a:ext cx="4898880" cy="544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48360" y="371628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3716280"/>
            <a:ext cx="0" cy="24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421000"/>
            <a:ext cx="3024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´= 8,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8,8 + 4 – 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t&lt;11/2 &lt; 5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&lt;5.5/2 &lt;2.75 m =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ht = 25 &gt; 18 u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&lt;11/0.65 &lt; 1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conviene que estén un poco más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=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Solución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422100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149720"/>
            <a:ext cx="172908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844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10920" y="4653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11280" y="2276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09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3068640"/>
            <a:ext cx="6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332000" y="3284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716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03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5264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0400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9308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2764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1672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94036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170028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2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m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os son metodologías de calculo preliminares, para hacer estudio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i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un diseño más avanzado se utilizan modelos de flujo computacionales para determinar la geometría del elipsoide de extra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28480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238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osición gene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8920" y="1352520"/>
            <a:ext cx="6649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ción de la geometr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933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ñ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asado en el flujo gravit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puestos (Kvap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o: Las leyes del flujo gravitacional son independientes del tamaño de los fragmentos de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de flujo de mineral a granel se puede estudiar en modelos de arena o gr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ESTUDIO DE MODELOS DE SI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524320" cy="396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540160" cy="42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144792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4479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60199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 independiente de ángulo 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ometría simplific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69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efectivo de tira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987640" cy="2760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75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5761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mensiones del elipsoide de extrac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22560" y="1413000"/>
            <a:ext cx="4899240" cy="544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1773360"/>
            <a:ext cx="36720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ce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20 – 30 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ualmente existen minas con los subniveles más se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3384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spaciamiento vertical de subnive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552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39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racción de los elipsoides de mov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40% W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ica 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6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7:38:01Z</dcterms:created>
  <dc:creator>Pablo Abalos Aguirre</dc:creator>
  <dc:description/>
  <dc:language>en-US</dc:language>
  <cp:lastModifiedBy>Pablo Abalos Aguirre</cp:lastModifiedBy>
  <dcterms:modified xsi:type="dcterms:W3CDTF">2005-09-29T23:10:28Z</dcterms:modified>
  <cp:revision>31</cp:revision>
  <dc:subject/>
  <dc:title>Hundimiento por sub niveles</dc:title>
</cp:coreProperties>
</file>