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C6D-092B-4204-94C8-AFFB99D7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2F0-A9BE-4880-80E3-B845F9C8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064-EEC0-4D7C-B017-BB142FBB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6632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16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15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6632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16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0FF-FEBE-4637-BBAE-CC77D7A5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DB5A-3818-482D-95AF-49727231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27E3-2FBD-417D-AFFD-DFE03A76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8481-0B53-476D-89B3-0E514F30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0708-5901-4116-B25A-F8E7C2C6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723B-1FB3-4589-AD8F-6222A9AC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669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E521-D5AE-4B4C-832B-D13ACAE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78F2-6CD3-4E9F-9327-E99F7A32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9D8-EBB9-4CDC-A4D7-2DBC2F9C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D9CE-3EBF-4068-B2CF-5CAE6FEA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7D82-C578-4371-B2B7-3B4D031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F11E-357A-4717-A871-90FBFDE1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7CFF-563B-4FE6-910B-2C2B0104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6632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16640" y="134100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15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6632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16640" y="3843720"/>
            <a:ext cx="25239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89E4-96AC-4D20-809A-2B373487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EF2-32B8-43CF-B126-F48604CF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7C0-0B8A-48E0-809A-816E82E3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AF81-9AE8-4AED-BD51-BA41AC0E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669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CB6-0CD0-47A4-ABA5-AC790876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D80-945D-496D-B6BA-2F55A7E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32520" y="384372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FD4-8B92-4EA2-829A-EC192161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2520" y="1341000"/>
            <a:ext cx="3825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5640" y="3843720"/>
            <a:ext cx="78390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301-9F1F-48DB-A816-58509B5B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664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11120" y="65736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3800" y="65736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34960" y="107964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05040" y="107964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55640" y="54936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97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57DB-AE47-4F18-A4D0-7A12B66CA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2361-69CE-4CA5-9962-BBFA02FE37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undimiento por sub nive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C - DISE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paciamiento horizontal de subnive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1341000"/>
            <a:ext cx="7416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uevos experimentos no encuentran evidencia de esta interacción. (WMC Leinster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everance Marker Tria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, Massmin 2004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276720" y="4076640"/>
                <a:ext cx="22302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692360" y="5300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pinión pers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cho de la taj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168560"/>
            <a:ext cx="5913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95840" cy="5564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3284640"/>
                <a:ext cx="2808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187280" y="2205000"/>
                <a:ext cx="1584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6804000" y="3068640"/>
            <a:ext cx="0" cy="2592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00720" y="3068640"/>
            <a:ext cx="23047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1773360"/>
            <a:ext cx="1296720" cy="129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773360"/>
            <a:ext cx="165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lu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0920" y="4724280"/>
                <a:ext cx="3477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30072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492000" y="263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jemplo SL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cho galería de producción: 5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o galería de producción: 4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sidad material tronado: inter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o galería de producción: pl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y del mineral: 5 g/ton 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y estéril: 2 g/ton 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ometría conve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5761080" cy="4056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8172360" y="2276640"/>
            <a:ext cx="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995640" y="2276640"/>
            <a:ext cx="417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916280"/>
            <a:ext cx="287964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tura de extracción se estima en 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 = 80%*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 = 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bicación de subniveles en la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s=25*2/3=16.7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roxi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s = 16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ción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45120" y="1125360"/>
            <a:ext cx="4898880" cy="5445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148360" y="3716280"/>
            <a:ext cx="30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72360" y="3716280"/>
            <a:ext cx="0" cy="2449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421000"/>
            <a:ext cx="3024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´= 8,8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t = 8,8 + 4 – 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Wt = 1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t&lt;11/2 &lt; 5.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&lt;5.5/2 &lt;2.75 m = 2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o ht = 25 &gt; 18 us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d &lt;11/0.65 &lt; 16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o conviene que estén un poco más ju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d = 1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Solución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85264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285264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422100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4149720"/>
            <a:ext cx="172908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1844640"/>
            <a:ext cx="50328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10920" y="4653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11280" y="227628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109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3068640"/>
            <a:ext cx="68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332000" y="3284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71628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403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03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8000" y="285264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04000" y="220500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93080" y="2205000"/>
            <a:ext cx="792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27640" y="220500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16720" y="2205000"/>
            <a:ext cx="792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940360" y="2205000"/>
            <a:ext cx="79236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170028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2.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alm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os son metodologías de calculo preliminares, para hacer estudios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ti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 un diseño más avanzado se utilizan modelos de flujo computacionales para determinar la geometría del elipsoide de extra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os computacio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528480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os computacion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318120" cy="5091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4238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posición gener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58920" y="1352520"/>
            <a:ext cx="66499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ción de la geometr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93388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eño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8390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asado en el flujo gravita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upuestos (Kvap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uesto: Las leyes del flujo gravitacional son independientes del tamaño de los fragmentos de mat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o de flujo de mineral a granel se puede estudiar en modelos de arena o gr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ESTUDIO DE MODELOS DE SI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2524320" cy="3962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2540160" cy="421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372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144792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14479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6019920"/>
            <a:ext cx="4648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 independiente de ángulo f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ometría simplific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3691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cho efectivo de tira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987640" cy="2760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75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5761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imensiones del elipsoide de extracció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22560" y="1413000"/>
            <a:ext cx="4899240" cy="544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1773360"/>
            <a:ext cx="36720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ce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ltura de extracción 20 – 30 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ctualmente existen minas con los subniveles más sepa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33843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spaciamiento vertical de subnive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8552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66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paciamiento horizontal de subnive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839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eracción de los elipsoides de mov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WT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40% W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mplica enton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5040360" cy="2666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79640" y="558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gene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7:38:01Z</dcterms:created>
  <dc:creator>Pablo Abalos Aguirre</dc:creator>
  <dc:description/>
  <dc:language>en-US</dc:language>
  <cp:lastModifiedBy>Pablo Abalos Aguirre</cp:lastModifiedBy>
  <dcterms:modified xsi:type="dcterms:W3CDTF">2005-09-29T23:10:28Z</dcterms:modified>
  <cp:revision>31</cp:revision>
  <dc:subject/>
  <dc:title>Hundimiento por sub niveles</dc:title>
</cp:coreProperties>
</file>