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666-9343-4D02-8502-E70C94D9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0D2-C270-45FA-B172-268A8B61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20C-6744-4DA9-9958-95297851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CDA-181F-4B78-8499-40AB95B7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0619-E55C-4AB1-A070-EA308CAD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E8B-B3E3-430E-8B1F-A5D23670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728-BFAB-4CC7-A298-81B303AA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848-BBA7-4C87-A3DC-23732FB9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B11-F1AA-4715-995C-141EFFE9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0AE-DE5B-4FDA-B895-7929888C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0AE-9B1A-4D7E-B5EB-B1C253F4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1E4-1C0D-4BF4-9DD2-6E4A5351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A03F-A5D5-4C02-9E1B-A89C6D58D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mensionamiento de flotas de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baldes/tolva. 1min/balde =&gt; 3min/tolva (tiempo de carguío por cam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dad cargado 10km/h. Distancia 2.5km =&gt; 0.25h (tiempo de viaje carg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dad descargado 15km/h. Distancia 2.5km =&gt; 0.16h (tiempo de viaje descarg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scarga 1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ando los tiempos anteriores, se obtiene un total de 28.6min para el ciclo del camión (cargar, transportar, descargar y volver al punto de carguí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ste tiempo, considerando que la pala demora 3min en cargar cada camión, ésta puede cargar un total de 28.6/3 = 9.5 ~ 10 cam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onsecuencia, cada pala tener 11 camiones para satisfacer la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ilidad 80%. Utilización 95% =&gt; 11/(0.8*0.95) = 14.4 ~15 camiones/pala (efectivamen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e calculó un total de 5 palas, se tiene en consecuencia un total de 75 camiones de 240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a flota de camiones calculada es una solución aproximada pues las distancias de transporte no son constantes y la asignación de camiones, gracias a los sistemas DISPATCH puede optimizarse de modo que se mejoren tiempos de espera y otras pérd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perforación debe llevarse adelantada al proceso de carguío para que estos tengan cierta holgura e independencia, es por esto que los rendimientos de las perforadoras deben calcularse en unidades mensuales y no diarias. Para estimar el número necesario de perforadoras debe considerar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da pozo de tronadura remueve un total de 10*9.5*15*2.7 = 3848t. Se perforan 17 metros por pozo (pasadura) =&gt; 226t/m perfo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000tpd. 30d/mes =&gt; 12000000t/mes (requerimiento de tonelaje mensu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6t/m. 12000000t/mes =&gt;12000000/226 = 53097 m/mes (necesidad de perfor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m/h. 9h/turno. 2turnos/d. Disponibilidad 85%. 30d/mes =&gt; 27540 m/mes (rendimiento de perfor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097m/mes. 27540 m/mes (cada perforadora) =&gt; 53097/27540 = 1.9 ~ 2 perforad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ad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5 palas de 44yd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75 camiones de 240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 perforadoras (60m/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nder a grandes rasgos como se dimensiona una flota de equipos de perforación, carguío y transporte para una mina a cielo abie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nder como influyen las capacidades, disponibilidades, rendimientos en el número de equipos a utiliz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ecedentes general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ilidad: es el porcentaje del tiempo total en que el equipo está disponible mecánicamente para ser utilizado para su labor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ación: porcentaje del tiempo disponible en que el equipo está efectivamente siendo utilizado para su labor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ecedentes general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dimiento: es el grado de productividad que un equipo tiene en su labor principal, debe ser medido en unidades consecuentes a esta labor y el objetivo que tenga la medición de este. Por ejemplo: una pala de cables tiene una capacidad de mover 80000 toneladas por día de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a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mina a cielo abierto debe mover diariamente un total de 400000 t de material (mineral y estéril) desde el rajo. Se pide dimensionar los equipos necesarios (palas, camiones y perforadoras) considerando los siguientes parámet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trabajan dos turnos por día de 12 horas cada u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a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las mecánicas: capacidad del balde de 44yd3, factor de llenado de 90%, densidad del material 2.7t/m3, disponibilidad 90%, utilización 95%, tiempo por baldada 1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miones: capacidad de la tolva de 240t, distancia media de transporte de 2.5km, velocidad media cargado 10km/h, velocidad media descargado 15km/h, tiempo de aculatamiento 1min, disponibilidad 80%, utilización 9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rforadoras: burden 10m, espaciamiento 9.5m, altura de banco 15m, velocidad de perforación 60m/h, disponibilidad 8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imeramente se debe estimar el rendimiento de la pala de cables en toneladas por día, suponiendo que siempre tiene material para cargar (lo que depende de la perforación y tronadura) y camión para recibir. Para lo que se debe considerar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4yd3 = 33.6m3. Densidad 2.7t/m3 =&gt; 90.8t. Llenado 90% =&gt; 81.7 t/bal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empo por baldada 1min =&gt; 4903 t/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 horas trabajadas por turno =&gt; 49030t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 turnos por día. Utilización 95% =&gt; 83841 tpd (corresponde al rendimiento efectivo del equip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necesito mover 400000tpd y cada pala mueve 83841tpd calculo el número de palas requeridas como: 400000/83841=4.7 ~ 5 palas de 44 yd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calcular el número de camiones necesario, se estima cuantos camiones necesito por pala, para que esta esté trabajando continuamente. Considerar lo sigui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1.7t/balde. 240t/tolva =&gt; 3 baldes/tolva (número de baldadas para cargar un cam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1:53:43Z</dcterms:created>
  <dc:creator>Invitado</dc:creator>
  <dc:description/>
  <dc:language>en-US</dc:language>
  <cp:lastModifiedBy>Invitado</cp:lastModifiedBy>
  <dcterms:modified xsi:type="dcterms:W3CDTF">2005-06-13T05:36:36Z</dcterms:modified>
  <cp:revision>44</cp:revision>
  <dc:subject/>
  <dc:title>REGLAMENTO DE SEGURIDAD MINERA (Decreto Supremo 72)</dc:title>
</cp:coreProperties>
</file>