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3F0-F88F-4BF9-AF31-45649FDC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32F-05D2-4E05-93BF-8A29A6F2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BE3-63FE-4E6D-B1C7-9E6EA130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CFB-9247-4A31-9AF9-D5C44E23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316-A6CE-4882-84D3-A723C049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542-8215-4DD3-BDA3-9AD52FD6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C2E-36AC-4C44-80C6-27674C09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38A-6402-4B5B-A01B-B7D530FA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30D-0CD3-4047-9756-BC1CA38C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B72-2D70-4B54-9C21-7754F116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F7C-1D79-447D-ADFF-879663F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AD5-514F-4B2D-BEA1-282A9EB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83B3-DF46-4B78-89C4-8D2594612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mulación de un 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 operativo en producción (3 equipos en espera de operad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 en perforación de produc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2, LHD-3,LHD-4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e Simba a mantención. Un Simba en perfora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de tronadura comienzan a cargar tiros (dos camionet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camionetas en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, LHD-3 salen a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tra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drillas de tronadura 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completa de perforación oper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drilla 1 se retira, cuadrilla 2 termina conexiones finales para tronar. Se trasladan en camio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equipos operativos ni operadores al interior mina (para simplificar, pues SLC permite tronar en distintos niveles sin interrumpir la operación en ot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onadura, 5 galerías en distintos niveles (final de la hora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 esta lo suficiente mente alejado (continua opera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ntilación por tronadura, no hay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4, LHD-5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, 1 en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 se suma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 termina actividades al final de la hora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LHD-1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de perforación inactiva por salida de tu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udal horario requerid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181080" y="1268280"/>
          <a:ext cx="8242560" cy="48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268280"/>
                    <a:ext cx="82425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on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ramente la demanda por aire al interior mina es variable en el tiempo, aunque las operaciones estén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emanda por aire refleja directamente el nivel de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terminar la variabilidad horaria de la demanda de aire al interior mina según las diferentes actividades real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dremos que la calidad de aire no se ve afectada, esto es, nos interesaremos sólo por la variabilidad horaria de la CANTIDAD demandada de 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alizaremos esta variabilidad en base a actividades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upondrá un circuito de ventilación que debe satisfacer el conjunto de esta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na explotada mediante SLC (Sub Level Cav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considera un turno de 8 h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5 equipos LHD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72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(por cada LHD; rango habitual 126-84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, depende del tamaño del equi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3 equipos Simba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Sólo el operador, es un equipo eléc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onad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a cargo (3 personas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 por explosivos: 71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galería de producción tronada (60-75 min de ventilación apro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 con 3 equipos en mantención de capacidad, 6 personas en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de ventilación: 30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ara ventilación de gases (es variable, depende de las actividades que se realic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hículos men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 camionetas para el desplazamiento de jefes de turno y monitores e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0.26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caballo de potencia, supondremos P=120H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 (legislación exige como mínimo 3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18:22:04Z</dcterms:created>
  <dc:creator>Familia</dc:creator>
  <dc:description/>
  <dc:language>en-US</dc:language>
  <cp:lastModifiedBy>Familia</cp:lastModifiedBy>
  <dcterms:modified xsi:type="dcterms:W3CDTF">2005-09-07T16:01:12Z</dcterms:modified>
  <cp:revision>25</cp:revision>
  <dc:subject/>
  <dc:title>Simulación de un turno</dc:title>
</cp:coreProperties>
</file>