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7BC8-1E0B-4AB3-B75E-BDB0C276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12AB-E8A3-4F21-80E6-6C95B401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527-3151-4FF6-B296-04E7A6B9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C1DF-2A2A-4BF1-A1EA-1A364E12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AA13-0A70-4ECA-91CC-77302A07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277D-A9F7-4FE1-9558-B7316A9A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9690-FB3B-4A64-A3DA-43EC0623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1FE8-2B43-4BF0-954E-9FD9FF1F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EDA4-3137-4AD5-A0DD-9561E9A3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2EE1-FA50-498C-973F-A400CA9B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02B-ECBF-4F5E-B965-5945B75C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78B5-A15C-48FB-B638-53733EFD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A62F-F0F6-401B-B0F2-F346E7CB9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mulación de un tu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1 operativo en producción (3 equipos en espera de operado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5 en manten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Simba en perforación de producción (resto de la flota en reserv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3 camionetas en terreno (1 persona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1, LHD-2, LHD-3,LHD-4 ope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5 en manten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ale Simba a mantención. Un Simba en perforación (resto de la flota en reserv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cuadrillas de tronadura comienzan a cargar tiros (dos camionet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5 camionetas en terre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2, LHD-3 salen a mantención preven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5 entra en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adrillas de tronadura trabaj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ota completa de perforación opera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ora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drilla 1 se retira, cuadrilla 2 termina conexiones finales para tronar. Se trasladan en camion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 hay equipos operativos ni operadores al interior mina (para simplificar, pues SLC permite tronar en distintos niveles sin interrumpir la operación en otr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onadura, 5 galerías en distintos niveles (final de la hora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tención esta lo suficiente mente alejado (continua operacion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ntilación por tronadura, no hay actividad en la m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1, LHD-4, LHD-5 ope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Simbas operativos, 1 en mantención preven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3 camionetas en terreno (1 persona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2 se suma a la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Simbas ope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camionetas en terreno (1 persona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ntención termina actividades al final de la hora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ólo LHD-1 en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ota de perforación inactiva por salida de tu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camionetas en terreno (1persona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udal horario requerido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-181080" y="1268280"/>
          <a:ext cx="8242560" cy="488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268280"/>
                    <a:ext cx="824256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clusion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aramente la demanda por aire al interior mina es variable en el tiempo, aunque las operaciones estén previamente planific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demanda por aire refleja directamente el nivel de actividad en la m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blema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terminar la variabilidad horaria de la demanda de aire al interior mina según las diferentes actividades realiz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pondremos que la calidad de aire no se ve afectada, esto es, nos interesaremos sólo por la variabilidad horaria de la CANTIDAD demandada de a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blema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nalizaremos esta variabilidad en base a actividades previamente planific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supondrá un circuito de ventilación que debe satisfacer el conjunto de estas activ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ina explotada mediante SLC (Sub Level Cav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considera un turno de 8 ho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du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ota total de 5 equipos LHD (con su respectivo oper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 de ventilación: 720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(por cada LHD; rango habitual 126-840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, depende del tamaño del equip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foración de produ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ota total de 3 equipos Simba (con su respectivo oper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 de ventilación: Sólo el operador, es un equipo eléctr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ronadu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cuadrillas a cargo (3 personas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 de ventilación por explosivos: 710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or galería de producción tronada (60-75 min de ventilación aprox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nten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ller con 3 equipos en mantención de capacidad, 6 personas en 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s de ventilación: 300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ara ventilación de gases (es variable, depende de las actividades que se realic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hículos men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6 camionetas para el desplazamiento de jefes de turno y monitores en gen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 de ventilación: 0.26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or caballo de potencia, supondremos P=120H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s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5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or persona (legislación exige como mínimo 3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or perso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8T18:22:04Z</dcterms:created>
  <dc:creator>Familia</dc:creator>
  <dc:description/>
  <dc:language>en-US</dc:language>
  <cp:lastModifiedBy>Familia</cp:lastModifiedBy>
  <dcterms:modified xsi:type="dcterms:W3CDTF">2005-09-07T16:01:12Z</dcterms:modified>
  <cp:revision>25</cp:revision>
  <dc:subject/>
  <dc:title>Simulación de un turno</dc:title>
</cp:coreProperties>
</file>