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6D9-3237-451E-BC97-D3261BB9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05B8-E815-4EB4-9CAB-877C37B7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67A-233D-44CD-852A-3FA3F0C7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FCA-3E48-40D6-9B1B-6317B7BC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9D5-70CE-4C97-A928-15799A4E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5CD-C4A9-4037-B0AA-3E5BDF81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FCE-FAF8-4020-985E-6F0C6FDA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E58-080E-4983-8381-560235FA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D15-7719-4FFC-8131-DF095603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7E0-8D17-454B-A8AB-B45826DC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AD0-FE56-435A-A38E-E4FAA421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24C-CFE8-4782-8758-DAA5FA6B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0405-D588-439A-A9E7-BC50A0F8B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mulación de un 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 operativo en producción (3 equipos en espera de operad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 en perforación de produc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2, LHD-3,LHD-4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e Simba a mantención. Un Simba en perfora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de tronadura comienzan a cargar tiros (dos camionet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camionetas en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, LHD-3 salen a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tra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drillas de tronadura 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completa de perforación oper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drilla 1 se retira, cuadrilla 2 termina conexiones finales para tronar. Se trasladan en camio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equipos operativos ni operadores al interior mina (para simplificar, pues SLC permite tronar en distintos niveles sin interrumpir la operación en ot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onadura, 5 galerías en distintos niveles (final de la hora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 esta lo suficiente mente alejado (continua opera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ilación por tronadura, no hay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4, LHD-5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, 1 en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 se suma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 termina actividades al final de la hora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LHD-1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de perforación inactiva por salida de tu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udal horario requerid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181080" y="1268280"/>
          <a:ext cx="824256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268280"/>
                    <a:ext cx="8242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ramente la demanda por aire al interior mina es variable en el tiempo, aunque las operaciones estén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emanda por aire refleja directamente el nivel de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terminar la variabilidad horaria de la demanda de aire al interior mina según las diferentes actividades real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dremos que la calidad de aire no se ve afectada, esto es, nos interesaremos sólo por la variabilidad horaria de la CANTIDAD demandada de 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alizaremos esta variabilidad en base a actividades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upondrá un circuito de ventilación que debe satisfacer el conjunto de esta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na explotada mediante SLC (Sub Level Cav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considera un turno de 8 h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5 equipos LHD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72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(por cada LHD; rango habitual 126-84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, depende del tamaño del equi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3 equipos Simba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Sólo el operador, es un equipo eléc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onad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a cargo (3 personas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 por explosivos: 71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galería de producción tronada (60-75 min de ventilación apro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 con 3 equipos en mantención de capacidad, 6 personas en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de ventilación: 30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ara ventilación de gases (es variable, depende de las actividades que se realic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hículos men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 camionetas para el desplazamiento de jefes de turno y monitores e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0.26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caballo de potencia, supondremos P=120H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 (legislación exige como mínimo 3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18:22:04Z</dcterms:created>
  <dc:creator>Familia</dc:creator>
  <dc:description/>
  <dc:language>en-US</dc:language>
  <cp:lastModifiedBy>Familia</cp:lastModifiedBy>
  <dcterms:modified xsi:type="dcterms:W3CDTF">2005-09-07T16:01:12Z</dcterms:modified>
  <cp:revision>25</cp:revision>
  <dc:subject/>
  <dc:title>Simulación de un turno</dc:title>
</cp:coreProperties>
</file>