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619-94D2-4775-A00C-86C1190C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AB9-8C3B-4DA8-AF4C-445931ED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5BE-40D2-4EC8-8650-9F06E410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D41-F477-484F-8104-EEADAF7B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2D99-A076-4125-B1DC-34E92E6B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098-66AC-4B04-89F6-3365046B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FD99-4762-40AF-83FF-0E6D9610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C6DC-0D8F-43B9-9909-EBDD3F1B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C0E6-FFFC-4812-BCF3-8130FC5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679E-8252-4F75-AD2F-77155463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82DE-5E2F-4219-A956-D739381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5CF-1FE3-4535-9BD0-803242AB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C4EE-240C-48B8-A584-C3D3BA19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C7E6-A37C-4B4B-9A08-8A053EE7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44E5-3576-4F78-B5AF-919B5FA9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0E15-2243-4DB8-8D0C-CF309B10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34AA-70B0-494B-B35D-5548E52B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91C-C1C0-4080-8780-05BFF8E5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5B0-2861-4CE3-AFED-1E89AFEA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3F2-D1C1-4903-83D2-D245C997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599-F343-4393-BD20-34D07698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79F-729A-495F-9CF7-27A49992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F41-85D8-4662-AA0A-17D05AE1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67C-9818-4125-9FAC-390E7C86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ADF-C4CD-4940-9E00-38F4F5DF2857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AA0B-A030-4A1B-8040-5DCA7E81FEF7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(II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sarrollado en 1971 por el Servicio Geológico de US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z para establecer relaciones causa-efecto de acuerdo con las características propia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100 posibles actividades y 88 factores ambientales susceptibles de verse modificados por 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es evaluación sino identificación de los impa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cación de las interacciones existentes, excluyendo filas y columnas vacías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ada celda, marcada con una diagonal, admite 2 valor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gnitud: valoración del impacto o d la alteración potencial a ser provocada; grado, extensión o escala; se coloca en la mitad superior izquierda; se califica 1 al 10 de menor a mayor, anteponiendo el signo (+ o -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mportancia: valor ponderal que da el peso relativo del potencial impacto; hace referencia a la relevancia del impacto y a al extensión de la zona afectada; de 1 a 10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Ventajas: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Fuerza a considerar todos los potenciales impact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2 dimensiones: magnitud e importanci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Permite comparación de alternativ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Sirve como resumen de inform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Desventajas: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Difícil reproducibilidad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No toma en cuenta interacciones entre factor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No distingue corto y largo plaz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Efectos no exclusivos o finales; tomados más de una vez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sarrollado en 1972 para la planificación y gestión de recursos hídricos en U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puede usar con 2 fines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edir impacto de uso de recursos hídr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lanificar proyectos con mínimo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basa en una lista de indicadores de impactos: 78 parámetros o factore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Ordenados en 18 componentes ambiental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41911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pecies y pobl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Hábitat y comunidad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sistem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a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suel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uid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4114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el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Bio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Objetivos artesan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pos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alores educ. y cientif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alores histór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ul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ens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ilos de vi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atelle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Agrupados en 4 categorías ambiental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logí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spectos estét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spectos de interés huma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Niveles de información progresiv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ategorías </a:t>
            </a:r>
            <a:r>
              <a:rPr b="0" lang="es-E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ponentes </a:t>
            </a:r>
            <a:r>
              <a:rPr b="0" lang="es-E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arámetr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rámetros evalúan en unidades comparables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rámetr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presentan la calidad del medio ambien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ácilmente medibles en terre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ponden a las exigencia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bles a nivel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Transformar datos en UIA (unidades de impacto ambiental)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Objetivos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scribir y analizar el proyecto: perturbación que generará el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finir y valorar el medio sobre el que va a tener efectos el proyecto: el objetivo de una EIA consiste en minimizar y/o anular las posibles consecuencias ambientales de los proyect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ever los efectos ambientales generados y evaluarlos para poder juzgar la idoneidad de la ob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terminar medidas minimizadoras, correctoras y compensator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Estructura de oper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cisión de realizar un EIA: exigencia de la legislación vigente o presentación volunta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onstitución de un grupo de trabajo multidisciplinari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Estructura metodológ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finición del contenido del EI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Requerimient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decuadas a la identificación de impacto y comparación de op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ficientemente independiente de puntos de vista personales del personal evaluador y sus sesg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nómico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inco grup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étodos “ad hoc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Técnicas gráficas mediante mapas y superposi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agram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do de metodologías aplicables (complementari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étodos analógicos: se remite a la información de proyectos existentes del mismo tipo; información obtenida en la medición y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: base sistemática y reproducib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 enfocada a decis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nálisis ambiental costo-benefici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Opinión de expert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istemas expertos: recoge el conocimientos de expertos en áreas temáticas específicas y de actualidad a través de reglas o experiencias prácticas en entornos de sistemas informát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Índices o indicad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uebas de laboratorios y modelos a escal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ción de pais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visión bibliográfic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álculos de balances de mate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ces de interacción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udios de camp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d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perposición de map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otografías y fotomont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delización cualit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delización cuantit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ción de riesg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strucción de escenari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xtrapolación de tendenci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Listas de cheque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Útiles en la fase de identificación de los impac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 de componentes o factores ambientales y de actividade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 contenido cambia según el tipo de proyecto y el medio de actu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2 tipos de componentes: ambientales (medio físico, biológico, humano) y del proyecto (actividad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propicia el establecimiento de de los vínculos causa-efecto y generalmente no incluye una interpretación global del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34:12Z</dcterms:modified>
  <cp:revision>218</cp:revision>
  <dc:subject/>
  <dc:title>PROGRAMAS DE COOPERACION</dc:title>
</cp:coreProperties>
</file>