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0A4-E9D7-408C-A2CF-3E5BA337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F0E-AF7A-45E7-A99E-D3C3D6E1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B2B-3A90-47BE-B8F9-957837A2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C74-A457-4728-B142-B36DDD3A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58AC-EA54-451E-AFBB-49428B30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0B37-43C0-412D-9647-AE488598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3F35-3EA9-470A-9F6F-2E684006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829B-CF29-4A6C-9A73-80700CEA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8E28-74E0-4391-80AF-0CC7B86B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6874-4601-4494-90FA-9B1C113A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91EF-835E-4578-9862-264B8A1C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73B-1CA4-43AA-BFF7-6507A23E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0EA5-8E32-4D7E-BEA1-E3CD3780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6251-C665-4681-BB4F-4C55B499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7402-06CB-4F09-B0F5-1638BB64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C668-3964-461C-BF5F-93F418E0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B4E8-09D4-4A2A-88E8-8D1F1CE4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274-903D-4E20-A6D2-A78FD9DD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6F4-ECB7-480C-BDEC-1D763A4A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16F-4932-4F39-B0DE-7CB7935E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BD8-7E87-4069-8899-D1183349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47D8-DBA5-4F6A-A18F-9532B0C5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11E-A327-449A-947B-9079B6D9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A3C-B427-4726-84CF-1931224D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5616-1AAA-45BD-9D34-C20089D6BB44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F2B3-81A6-4A94-9386-36E6E47E784F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s de gestión ambiental SGA (III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74240" y="919080"/>
            <a:ext cx="4909680" cy="5205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b5249"/>
                </a:solidFill>
                <a:latin typeface="Times New Roman"/>
              </a:rPr>
              <a:t>Etapa de Implementación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752480"/>
            <a:ext cx="8305920" cy="4724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Times New Roman"/>
              </a:rPr>
              <a:t>Preparar una estructura clara para implementar el SGA (conformación de grupos de trabajo a cargo de un coordinador) a fin de asegurar que todo el personal conozca sus responsabilidades y cómo sus operaciones cotidianas afectan el medio ambiente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Times New Roman"/>
              </a:rPr>
              <a:t>Preparar controles operacionales para asegurar que los riesgos ambientales sean controlados a través de los procedimientos y instrucciones de trabajo</a:t>
            </a: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Establecer canales de comunicación claros entre los trabajadores y la gerencia, como también entre  la empresa y sus accionistas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Producir un nivel mínimo de documentación necesario controlar y mantener el sistema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Crear y mantener archivos de desempeño ambiental y cumplimiento de las regulaciones ambientales, por ejemplo: consumo de  energía y agua, notas de movimiento de desechos, descarga de efluente, etc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905040"/>
            <a:ext cx="7925040" cy="10688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efinición de responsabilidades ambientales en la empres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460840"/>
            <a:ext cx="3886200" cy="100872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Cuál serra mi responsabilidad ambiental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Documentarl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3070080"/>
            <a:ext cx="4343400" cy="11912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Analizar estructura organizacional y plan ambient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72200" y="2286000"/>
            <a:ext cx="1600200" cy="2819520"/>
          </a:xfrm>
          <a:prstGeom prst="rect">
            <a:avLst/>
          </a:prstGeom>
          <a:ln w="9360">
            <a:solidFill>
              <a:srgbClr val="5b5249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914400" y="5203800"/>
            <a:ext cx="3352680" cy="11912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terminar responsables de cumplir con metas ambienta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4495680"/>
            <a:ext cx="0" cy="762120"/>
          </a:xfrm>
          <a:prstGeom prst="line">
            <a:avLst/>
          </a:prstGeom>
          <a:ln w="7632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ORGANIGRAMA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480" y="1981080"/>
          <a:ext cx="82296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82296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Capacitación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057400"/>
            <a:ext cx="7772400" cy="426708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ben identificarse aquella asociada a impactos significativos y asegurarse de realizarl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Identificar necesidades de capacitación y priorizarl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Establecer y mantener procedimientos  para que los empleados o colaboradores tomen conciencia de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Importancia política ambiental, procedimientos ambientales, requisitos SG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Impactos ambientales de su labor derivados de un comportamiento person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Funciones y responsabilidades dentro del SGA (normal, anorm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Consecuencia en caso de no seguir procedimiento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Capacitación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32004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dentificar necesidades de capacitació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3434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Registrar la capacitación entregad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495288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Verificar la efectividad de la capacitación entregad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638680"/>
            <a:ext cx="784836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Revisar el contenido y programa de la capacitación entregad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5146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Comparar con educación y experiencia del trabajador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18288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dentificar competencia para efectuar lab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80988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dentificar los cursos o programas de capacitación adecuado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Plan de Comunicacio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Se deben elaborar procedimientos para 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municación interna entre los diferentes niveles y departamentos de la organiz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municación externa, considerar asuntos relativos a impactos significativ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nsiderar comunicación con la autoridad para aspectos críticos y planes de emergenc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municación externa puede realizarce a través de reportes anuales, comunicados de prensa, etc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Plan de Comunicacio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municación intern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Generación a través de: Charlas, comunicados, trípticos,  vídeos, reportes, avisos, etc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Recepción a través de:  Acceso directo coordinador SGA o responsable por unidad, Buzones de sugerencia, libro de comentarios, etc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municación extern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Identificación de partes interesada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Establecer mecanismos de comunicación con partes interesada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ocum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5238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l nivel de detalle de la documentación debe ser suficiente para describir los elementos centrales del SGA y su interacción, y proporcionar indicación sobre dónde obtener información más detallada sobre el funcionamiento de partes específicas del sistema de Gestión ambiental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.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documentación puede integrarse con la documentación de otros sistemas llevados a cabo por la organización. No tiene que estar en la forma de un solo manua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ocum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documentación relacionada puede incluir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a)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información de procesos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b)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diagramas organizacionales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c)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normas internas y los procedimientos de operación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d)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planes de emergencia del sitio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ocum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Jerarquización de Documen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ivel1 - Manual de gestión ambient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ivel2 - Procedimientos específ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ivel3 - Instrucciones de trabajo, registros y formularios, monitoreo de los resultados, etc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1960" y="304920"/>
            <a:ext cx="7163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b5249"/>
                </a:solidFill>
                <a:latin typeface="Times New Roman"/>
              </a:rPr>
              <a:t>Implementación y Operación / SG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5720" y="1295280"/>
            <a:ext cx="285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Organización Inici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82120" y="2133720"/>
            <a:ext cx="1706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5680" y="2971800"/>
            <a:ext cx="5138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claración de La Política Ambient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80320" y="3962520"/>
            <a:ext cx="1877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4876920"/>
            <a:ext cx="4136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Implementación y Oper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3800" y="5867280"/>
            <a:ext cx="5196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Medición y Evaluación del Desempeñ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175248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2590920"/>
            <a:ext cx="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505320"/>
            <a:ext cx="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4419720"/>
            <a:ext cx="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533412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927600"/>
            <a:ext cx="1447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b5249"/>
                </a:solidFill>
                <a:latin typeface="Times New Roman"/>
              </a:rPr>
              <a:t>Revisión y Mejoramient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1523880"/>
            <a:ext cx="11588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u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G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ocum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Aspectos a consider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ocumentos elegibles y ordenad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rocedimiento y responsabilidad para crear y modificar docum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o generar excesiva documen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videncia de cumplimient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ocum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Manual de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isponible a “todos enla organiz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 mayor a Men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ferencia a otroa documen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6920" y="654120"/>
            <a:ext cx="71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b5249"/>
                </a:solidFill>
                <a:latin typeface="Times New Roman"/>
              </a:rPr>
              <a:t>Implementación y Operación / SG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1040" y="12952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Organización Inici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7440" y="21337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1000" y="297180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claración de La Política Ambient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5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5960" y="487692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Implementación y Oper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9480" y="58672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Medición y Evaluación del Desempeñ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2666880"/>
            <a:ext cx="2971800" cy="3353040"/>
          </a:xfrm>
          <a:custGeom>
            <a:avLst/>
            <a:gdLst/>
            <a:ahLst/>
            <a:rect l="l" t="t" r="r" b="b"/>
            <a:pathLst>
              <a:path w="1968" h="2160">
                <a:moveTo>
                  <a:pt x="624" y="2160"/>
                </a:moveTo>
                <a:lnTo>
                  <a:pt x="0" y="2160"/>
                </a:lnTo>
                <a:lnTo>
                  <a:pt x="0" y="0"/>
                </a:lnTo>
                <a:lnTo>
                  <a:pt x="1968" y="0"/>
                </a:lnTo>
              </a:path>
            </a:pathLst>
          </a:custGeom>
          <a:noFill/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17524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2590920"/>
            <a:ext cx="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3505320"/>
            <a:ext cx="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4419720"/>
            <a:ext cx="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334120"/>
            <a:ext cx="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9276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b5249"/>
                </a:solidFill>
                <a:latin typeface="Times New Roman"/>
              </a:rPr>
              <a:t>Revisión y Mejoramient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0120" y="1523880"/>
            <a:ext cx="115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u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G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Monitoreo y Registros Ambient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organización establecerá y mantendrá procedimientos documentados para monitorear y medir, periódicamente, las características importantes de sus operaciones y actividades que puedan tener un impacto significativo en el ambiente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.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sto incluirá el registro de información para seguir el desempeño, controles operacionales pertinentes y conformidad con los objetivos y metas medioambientales de la organización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76212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Elaboración de Plan de Monitor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6920" y="1778040"/>
            <a:ext cx="58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b5249"/>
                </a:solidFill>
                <a:latin typeface="Times New Roman"/>
              </a:rPr>
              <a:t>Identifique áreas a ser monitoreada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32004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b5249"/>
                </a:solidFill>
                <a:latin typeface="Times New Roman"/>
              </a:rPr>
              <a:t>Elabore un programa de Monitoreo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8680" y="4673520"/>
            <a:ext cx="61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b5249"/>
                </a:solidFill>
                <a:latin typeface="Times New Roman"/>
              </a:rPr>
              <a:t>Lleve a cabo el programa de monitoreo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2438280"/>
            <a:ext cx="0" cy="60984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3886200"/>
            <a:ext cx="0" cy="68580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Plan de Monitore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ctividades específicas ser supervisada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frecuencia de y calendario de monitoreo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sponsabilidad de monitorear cada área de actividad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sultado monitor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municación monitor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gistr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Necesarios para demostrar requisitos generales y determinados por la organizaciòn (cumplimiento con met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Mantenerlos apropiadamente y facilmente disponib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s la mejor forma de analizar como han sido manejado los aspectos ambient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senciales para el seguimiento y certificaciò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gistr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</a:rPr>
              <a:t>Registros del SGA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Aspectos ambient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</a:rPr>
              <a:t>Registros legales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permisos, autorizaciones, cumplimiento, productos quìmicos, monitoreos exigidos, quejas, salud poblaciòn, procedimi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cciones correctiv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Hay que algunos pasos clave que deben seguirse como parte de las acciones correctivas y preventivas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)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dentifique por qué ocurrió un incumplimiento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b)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iseñe un plan de la respuesta adecuado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)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nstale medidas preventivas para prevenir una recurrencia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) Documentar cambio en procedimi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cciones correctiv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l objetivo de estas medidas debe ser restaurar lo más pronto posible el cumplimiento con objetivos declarados; establezca, y donde posible mitigue, cualquier daño medioambiental que se pueda haber causado; aplique acciones correctivas que armonicen con otros aspectos de la operación de la empresa como Salud Ocupacional, Seguridad o Calida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66680" y="838080"/>
            <a:ext cx="67820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Identificación Aspectos Clav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676520"/>
            <a:ext cx="7635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5b5249"/>
                </a:solidFill>
                <a:uFillTx/>
                <a:latin typeface="Times New Roman"/>
              </a:rPr>
              <a:t>Identificar los aspectos ambientales clave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 - La revisión apunta a identificar los aspectos ambientales importantes en los que debe centrarse una serie de medidas de mejora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809880"/>
            <a:ext cx="76359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5b5249"/>
                </a:solidFill>
                <a:uFillTx/>
                <a:latin typeface="Times New Roman"/>
              </a:rPr>
              <a:t>Actuar en asuntos prioritarios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 - Una revisión identificará a menudo áreas donde se ha contravenido la legislación ambiental o donde existe el potencial para un daño ambiental serio. Debe tomarse acción rápida sobre estos problem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5080" y="1981080"/>
            <a:ext cx="33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1400" y="4191120"/>
            <a:ext cx="33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Situaciones de emergenc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dentificar aspectos ambientales asociados a situaciones anorm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stablecer y mantener procedimientos para esta identificar la eventualidad y la respuesta a accidentes y emergencias de forma de prevenir impac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Verificarlos despuès de emergenci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ben verificarse periodicamente los procedimi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uditoría del SG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organización establecerá y mantendrá programas y procedimientos para las auditorías de SGA  periódicas a ser llevado a cabo, a fin de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a)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determinar sí el SGA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Verifica objetvo polìti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Verifica Met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Ha sido mantenido adecuadamen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uditoría del SG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l programa de la auditoría de la organización, se basará en la importancia ambiental de la actividad involucrada y los resultados de las auditorías anteriores. Para ser comprensivo, los procedimientos de la auditoría cubrirán el alcance de la auditoría, frecuencia y metodologías, así como las responsabilidades y requisitos para dirigir las auditorías e informar resultados.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uditoría del SG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tapas Básica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Conformación de equip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Definición de alca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Acción correctiv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visión de Gerenc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dirección de la organización debe, a intervalos que determina, revisar el sistema de Gestión ambiental, para asegurar su continuamente su conveniencia, suficiencia y efectividad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l proceso de Revisión de Gestión asegurará que se recolecte la información necesaria para permitir que el Cuerpo Ejecutivo lleve a cabo esta evaluación. La revisión será documentad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visión de Gerenc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revisión de Gestión se abordará la posible necesidad de cambios a la política, objetivos y otros elementos del sistema de Gestión medioambiental, a la luz de los resultados de la auditoría al sistema de Gestión ambiental, circunstancias cambiantes y el compromiso a mejora incesa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303560" y="995400"/>
            <a:ext cx="7387560" cy="5205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Determinación de Objetivos (Preguntas Clav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80880" y="2124000"/>
            <a:ext cx="8534520" cy="4040280"/>
            <a:chOff x="380880" y="2124000"/>
            <a:chExt cx="8534520" cy="4040280"/>
          </a:xfrm>
        </p:grpSpPr>
        <p:sp>
          <p:nvSpPr>
            <p:cNvPr id="297" name=""/>
            <p:cNvSpPr/>
            <p:nvPr/>
          </p:nvSpPr>
          <p:spPr>
            <a:xfrm>
              <a:off x="1210680" y="2165400"/>
              <a:ext cx="2509560" cy="45972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¿Dónde Estamos?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14400" y="4867200"/>
              <a:ext cx="3505320" cy="82548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¿Dónde Queremos Estar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o Dónde Queremos ir?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66880" y="2657520"/>
              <a:ext cx="0" cy="68580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666880" y="4181040"/>
              <a:ext cx="0" cy="68580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0880" y="3343320"/>
              <a:ext cx="4648320" cy="82548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Brecha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“</a:t>
              </a: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Oportunidad de Mejoramiento”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91320" y="2124000"/>
              <a:ext cx="2743200" cy="118980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Situación Actual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5b5249"/>
                  </a:solidFill>
                  <a:latin typeface="Times New Roman"/>
                </a:rPr>
                <a:t>Incumplimiento Legislación Ambiental, Sanciones y multas constantes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34120" y="4486320"/>
              <a:ext cx="3581280" cy="167796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Objetivo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(Situación Deseada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5b5249"/>
                  </a:solidFill>
                  <a:latin typeface="Times New Roman"/>
                </a:rPr>
                <a:t>Estándares ISO 14000, empresa con reconocimiento internacional por su desempeño ambiental</a:t>
              </a: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733560" y="2352600"/>
              <a:ext cx="20574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419720" y="509580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1851120"/>
            <a:ext cx="4952880" cy="11912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Las Metas en general son resultados específicos esperados en un periodo de tiempo determinado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3276720"/>
            <a:ext cx="4952880" cy="33858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Meta Ambiental: Requisito detallado de desempeño, cuantificado cuando ello sea posible, aplicable a la organización o a partes de ella, producto de los objetivos ambientales y que es necesario establecer y ordenar a fin de alcanzar esos objetivos (Definición ISO 14001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39480" y="995400"/>
            <a:ext cx="1838880" cy="5205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Las Meta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2362320" cy="5257800"/>
          </a:xfrm>
          <a:prstGeom prst="rect">
            <a:avLst/>
          </a:prstGeom>
          <a:ln w="9360">
            <a:solidFill>
              <a:srgbClr val="5b524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060280" y="863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Pasos para la Construcción de una me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70200" y="1488960"/>
            <a:ext cx="613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Identificación del Resultado Fin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Cuantificación de la meta (preferiblement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Fecha o lapso en que se alcanzará la me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Condición limitan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Recurso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3581280"/>
            <a:ext cx="739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Resultado final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Disminuir las emisiones SO</a:t>
            </a:r>
            <a:r>
              <a:rPr b="0" lang="es-ES_tradnl" sz="1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39625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Cuantificación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n un 50%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43434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echa               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nero del 200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4724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actor limitante  : 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umento del contenido de azufre en concentrado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5105520"/>
            <a:ext cx="7391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La meta sería: Disminuir las emisiones de SO</a:t>
            </a:r>
            <a:r>
              <a:rPr b="0" lang="es-ES_tradnl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 para enero del 200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060280" y="863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Pasos para la Construcción de una me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73440" y="1488960"/>
            <a:ext cx="584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Identificación del Resultado Fin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Cuantificación de la me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Fecha o lapso en que se alcanzará la me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Condición limitan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Recursos necesari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358128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Resultado final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Revegetar las áreas afectadas por la operació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396252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Cuantificación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50 hectáreas deberán ser rehabilitad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434340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echa               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nero del 200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472428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actor limitante  : 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Factibilidad de preparación de las áreas y especi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5105520"/>
            <a:ext cx="739152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La meta sería: Revegetar 50 hectáreas a enero del 200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914400"/>
            <a:ext cx="7010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gistro aspectos ambient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676520"/>
            <a:ext cx="7331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Uno de las áreas más importantes de ISO 14001 es la identificación y evaluación de Aspectos Ambientales. La norma dicta a lo siguiente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i="1" lang="es-ES" sz="2400" spc="-1" strike="noStrike">
                <a:solidFill>
                  <a:srgbClr val="5b5249"/>
                </a:solidFill>
                <a:latin typeface="Times New Roman"/>
              </a:rPr>
              <a:t>La organización establecerá y mantendrá un procedimiento para identificar los aspectos ambientales de sus actividades o servicios que puede controlar y sobre los cuales cabe esperarse que tenga influencia, para determinar aquéllos que tienen o pueden tener impactos significativos en el medio ambiente.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5b5249"/>
                </a:solidFill>
                <a:latin typeface="Times New Roman"/>
              </a:rPr>
              <a:t>La organización asegurará que los aspectos relacionados a estos impactos significativos sean considerados al formular sus objetivos ambientales. La organización mantendrá esta información actualizada.”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440800" y="711360"/>
            <a:ext cx="49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Elaboración de Plan Ambient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1143000"/>
            <a:ext cx="725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Corresponde a como llevar a cabo una me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e debe elaborar un Plan general ambient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be incluir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Descripción de Actividades por realiza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Duración de cada sub-actvidad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Carta de Programación, indicando recursos y    responsab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Indicadores de avan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358128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Resultado final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Revegetar las áreas afectadas por la operació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396252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Cuantificación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50 hectáreas deberan ser rehabilitad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434340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echa               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nero del 200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080" y="472428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actor limitante  : 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Factibilidad de preparación de las áreas y especi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5105520"/>
            <a:ext cx="739152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La meta sería: Revegetar 50 hectáreas a enero del 200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25240" y="990720"/>
            <a:ext cx="86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lan Ambiental/ (Cumplimiento de Emisiones de Riles con Reg.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2004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Actividad 5 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mplementación de medidas de mejoramien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358128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6 : Modificación de procesos y sistemas de recolección de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43434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8: Instalación planta de tratamien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472428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9  : Monitoreo de efluen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510552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10: Verificación de la norm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25146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3 : Comparación con la Regulación existente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2 : Monitoreo y aforo de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175248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1: Elaboración de estudio de caracterización y generación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281952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Actividad 4 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studio de alternativ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396252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Actividad 7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nstalación planta pilo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518560" y="9144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b5249"/>
                </a:solidFill>
                <a:latin typeface="Times New Roman"/>
              </a:rPr>
              <a:t>Etapa de Implementación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Times New Roman"/>
              </a:rPr>
              <a:t>Preparar una estructura clara para implementar el SGA (conformación de grupos de trabajo a cargo de un coordinador) a fin de asegurar que todo el personal conozca sus responsabilidades y cómo sus operaciones cotidianas afectan el medio ambiente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1125"/>
              </a:spcBef>
              <a:buClr>
                <a:srgbClr val="a50021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5249"/>
                </a:solidFill>
                <a:latin typeface="Times New Roman"/>
              </a:rPr>
              <a:t>Preparar controles operacionales para asegurar que los riesgos ambientales sean controlados a través de los procedimientos y instrucciones de trabajo</a:t>
            </a: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1125"/>
              </a:spcBef>
              <a:buClr>
                <a:srgbClr val="a50021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Establecer canales de comunicación claros entre los trabajadores y la gerencia, como también entre  la empresa y sus accionistas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1125"/>
              </a:spcBef>
              <a:buClr>
                <a:srgbClr val="a50021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Producir un nivel mínimo de documentación necesario controlar y mantener el sistema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1125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Crear y mantener archivos de desempeño ambiental y cumplimiento de las regulaciones ambientales, por ejemplo: consumo de  energía y agua, notas de movimiento de desechos, descarga de efluente, etc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990720"/>
            <a:ext cx="7010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Política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209680"/>
            <a:ext cx="73310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be ser documentada, implementada y mantenida, además de ser comunicada a todos los emplead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429000"/>
            <a:ext cx="7331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e debe encontrar a disposición del públ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429000" y="2620800"/>
            <a:ext cx="110808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838080"/>
            <a:ext cx="7010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gistro aspectos ambient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514520"/>
            <a:ext cx="7331040" cy="53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5249"/>
                </a:solidFill>
                <a:latin typeface="Times New Roman"/>
              </a:rPr>
              <a:t>Registro de Aspectos Ambientales debe prepararse sobre la base de la Revisión Ambiental Inicial trabajando sistemáticamente a través del informe. En contraste con la Revisión Ambiental Inicial, el Registro de Aspectos Ambientales es un documento “vivo”. Esto significa que la compañía debe mantener el registro actualizad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5249"/>
                </a:solidFill>
                <a:latin typeface="Times New Roman"/>
              </a:rPr>
              <a:t>Es recomendable que los aspectos se identifiquen y sean agrupados dentro de alguna las categorías listadas a continuación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Producción de residuo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Emisiones al aire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Descarga de Efluent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Uso de agua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Uso de energía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Contaminación del suelo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Ruido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Materias Primas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91960" y="828720"/>
            <a:ext cx="8622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lan Ambiental/ (Cumplimiento de Emisiones de Riles con Reg.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20040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5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mplementación de medidas de mejoramien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58128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6 : Modificación de procesos y sistemas de recolección de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34340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8: Instalación planta de tratamien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472428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9  : Monitoreo de efluen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10552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10: Verificación de la norm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51460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3 : Comparación con la Regulación existente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2 : Monitoreo y aforo de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75248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1: Elaboración de estudio de caracterización y generación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81952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4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studio de alternativ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7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nstalación planta pilo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7280" y="2306520"/>
            <a:ext cx="40471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Implementación SGA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943520"/>
            <a:ext cx="41911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Sistema de Gestión de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3699000"/>
            <a:ext cx="3276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Los Sistemas de Gestión Ambiental permiten  desarrollar, implementar, lograr, revisar y mantener la Política Ambienta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971800" y="2971800"/>
            <a:ext cx="0" cy="190512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705720" y="1143000"/>
            <a:ext cx="2025360" cy="2133720"/>
          </a:xfrm>
          <a:prstGeom prst="rect">
            <a:avLst/>
          </a:prstGeom>
          <a:ln w="9360">
            <a:solidFill>
              <a:srgbClr val="5b5249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921240" y="1025640"/>
            <a:ext cx="4650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b5249"/>
                </a:solidFill>
                <a:latin typeface="Times New Roman"/>
              </a:rPr>
              <a:t>Implementación / SG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914400"/>
            <a:ext cx="7772400" cy="76212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Estructura y Responsabilidad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e deben definir, documentar y comunicar las funciones, responsabilidades y autoridades para facilitar gestión ambient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e debe incentivar el liderazgo y motivación de los emplead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Nombramiento de uno o varios representantes específicos de gerencia de forma de asegurar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a)Requerimientos SGA se han implementado de acuerdo a política ambient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b)Informar efectividad SGA a la gerencia de forma de revisar y mejorar sistem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1T04:31:14Z</dcterms:created>
  <dc:creator>Jacques Wiertz</dc:creator>
  <dc:description/>
  <dc:language>en-US</dc:language>
  <cp:lastModifiedBy>ING. Minas </cp:lastModifiedBy>
  <dcterms:modified xsi:type="dcterms:W3CDTF">2004-11-12T14:17:47Z</dcterms:modified>
  <cp:revision>6</cp:revision>
  <dc:subject/>
  <dc:title>Sin título de diapositiva</dc:title>
</cp:coreProperties>
</file>