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F50-33B4-4632-8946-44EE142D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715-5848-47B9-A75D-7F70E57C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DAA-0643-408B-B422-598B1891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8B5-7484-46BA-BF23-7C82366B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06E-AD84-46EA-B796-6E3EFB74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5107-7B34-479C-BB03-F438C05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ED3B-BF1E-4CAC-A062-B894596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670-E6A9-4F73-A21F-FD6E3FC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9E5-35F4-41B7-AF42-73214E9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20DA-F9C9-4110-8D9A-A32B2E8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702B-A412-4012-885B-FDE6F8D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F21-251E-48E4-941D-57CCAFE4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B1E-D057-4426-8A6F-2458CB8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010D-EEB7-414A-915D-0EF66BE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A64-5047-4832-9D85-A258E05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8296-1841-4354-96A6-A5C3C852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24E-51C7-4387-9BF1-310F028D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FA2-AD0F-4173-8478-DBF80673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A91-28B9-4BE0-BDC7-E66CA9E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E07-1173-4BA0-A498-CBAA585A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8C2-A3F5-4A1F-9D18-683CFE03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9C8-133C-423C-ADA3-838F4F8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9E3-5052-4026-9161-DA6CBC2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83B-C11A-4C8F-8436-90A4D7C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455-13EA-4B4C-AA4E-2E3A23D985E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83F-414D-427F-B249-7C66B8FFD014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 (I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4240" y="919080"/>
            <a:ext cx="49096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905040"/>
            <a:ext cx="7925040" cy="10688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efinición de responsabilidades ambientales en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460840"/>
            <a:ext cx="3886200" cy="1008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uál serra mi responsabilidad ambiental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Documentarl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70080"/>
            <a:ext cx="434340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nalizar estructura organizacional y plan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1600200" cy="28195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914400" y="5203800"/>
            <a:ext cx="33526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terminar responsables de cumplir con meta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0" cy="762120"/>
          </a:xfrm>
          <a:prstGeom prst="line">
            <a:avLst/>
          </a:prstGeom>
          <a:ln w="7632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ORGANIGRAM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98108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n identificarse aquella asociada a impactos significativos y asegurarse de realizarl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r necesidades de capacitación y priorizarl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stablecer y mantener procedimientos  para que los empleados o colaboradores tomen conciencia d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ortancia política ambiental, procedimientos ambientales, requisitos SG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actos ambientales de su labor derivados de un comportamiento perso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Funciones y responsabilidades dentro del SGA (normal, anorm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onsecuencia en caso de no seguir procedimient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necesidades de capacit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gistrar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952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Verificar la efectividad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isar el contenido y programa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Comparar con educación y experiencia del trabajador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8288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competencia para efectuar lab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809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los cursos o programas de capacitación adecu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Se deben elaborar procedimientos para 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 entre los diferentes niveles y departamentos de 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municación externa, considerar asuntos relativos a impactos significat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siderar comunicación con la autoridad para aspectos críticos y planes de emerg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 puede realizarce a través de reportes anuales, comunicados de prensa, etc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Generación a través de: Charlas, comunicados, trípticos,  vídeos, reportes, avis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Recepción a través de:  Acceso directo coordinador SGA o responsable por unidad, Buzones de sugerencia, libro de comentari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dentificación de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Establecer mecanismos de comunicación con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nivel de detalle de la documentación debe ser suficiente para describir los elementos centrales del SGA y su interacción, y proporcionar indicación sobre dónde obtener información más detallada sobre el funcionamiento de partes específicas del sistema de Gestión ambient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puede integrarse con la documentación de otros sistemas llevados a cabo por la organización. No tiene que estar en la forma de un solo manu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relacionada puede incluir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información de proces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iagramas organizacionale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ormas internas y los procedimientos de operación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lanes de emergencia del siti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Jerarquizac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1 - Manual de gestió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2 - Procedimientos específ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3 - Instrucciones de trabajo, registros y formularios, monitoreo de los resultados, etc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1960" y="304920"/>
            <a:ext cx="7163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5720" y="1295280"/>
            <a:ext cx="285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2120" y="213372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680" y="297180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0320" y="396252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7692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3800" y="586728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s a consider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ocumentos elegibles y orden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ocedimiento y responsabilidad para crear y modificar docu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generar excesiv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idencia de cumplimien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Manual de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ponible a “todos en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 mayor a Men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ferencia a otro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6920" y="65412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1040" y="129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7440" y="2133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1000" y="297180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5960" y="48769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9480" y="5867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6880"/>
            <a:ext cx="2971800" cy="335304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Monitoreo y Registr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cedimientos documentados para monitorear y medir, periódicamente, las características importantes de sus operaciones y actividades que puedan tener un impacto significativo en el ambient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o incluirá el registro de información para seguir el desempeño, controles operacionales pertinentes y conformidad con los objetivos y metas medioambientales de la organiz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7621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de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6920" y="177804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Identifique áreas a ser monitore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3200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labore un programa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8680" y="467352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Lleve a cabo el programa de monitore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438280"/>
            <a:ext cx="0" cy="60984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86200"/>
            <a:ext cx="0" cy="68580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ctividades específicas ser supervis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recuencia de y calendario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sabilidad de monitorear cada área de activida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ultado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unicación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ecesarios para demostrar requisitos generales y determinados por la organizaciòn (cumplimiento con met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Mantenerlos apropiadamente y facilmente disponi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 la mejor forma de analizar como han sido manejado los 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enciales para el seguimiento y certificaciò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del SGA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legales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ermisos, autorizaciones, cumplimiento, productos quìmicos, monitoreos exigidos, quejas, salud poblaciòn,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ay que algunos pasos clave que deben seguirse como parte de las acciones correctivas y preventiva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que por qué ocurrió un incumplimient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eñe un plan de la respuesta adecuad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nstale medidas preventivas para prevenir una recurrenci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) Documentar cambio en proced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 objetivo de estas medidas debe ser restaurar lo más pronto posible el cumplimiento con objetivos declarados; establezca, y donde posible mitigue, cualquier daño medioambiental que se pueda haber causado; aplique acciones correctivas que armonicen con otros aspectos de la operación de la empresa como Salud Ocupacional, Seguridad o Cal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838080"/>
            <a:ext cx="678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dentificación Aspectos Cla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676520"/>
            <a:ext cx="7635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Identificar los aspectos ambientales clave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La revisión apunta a identificar los aspectos ambientales importantes en los que debe centrarse una serie de medidas de mejor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809880"/>
            <a:ext cx="7635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Actuar en asuntos prioritario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Una revisión identificará a menudo áreas donde se ha contravenido la legislación ambiental o donde existe el potencial para un daño ambiental serio. Debe tomarse acción rápida sobre estos problem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080" y="19810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400" y="419112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tuaciones de emerg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r aspectos ambientales asociados a situaciones anorm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ablecer y mantener procedimientos para esta identificar la eventualidad y la respuesta a accidentes y emergencias de forma de prevenir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erificarlos despuès de emergenc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ben verificarse periodicamente los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gramas y procedimientos para las auditorías de SGA  periódicas a ser llevado a cabo, a fin d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terminar sí el SGA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objetvo polìti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Me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Ha sido mantenido adecuadam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grama de la auditoría de la organización, se basará en la importancia ambiental de la actividad involucrada y los resultados de las auditorías anteriores. Para ser comprensivo, los procedimientos de la auditoría cubrirán el alcance de la auditoría, frecuencia y metodologías, así como las responsabilidades y requisitos para dirigir las auditorías e informar resultados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tapas Básica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onformación de equi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finición de alc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cción correc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irección de la organización debe, a intervalos que determina, revisar el sistema de Gestión ambiental, para asegurar su continuamente su conveniencia, suficiencia y efectividad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ceso de Revisión de Gestión asegurará que se recolecte la información necesaria para permitir que el Cuerpo Ejecutivo lleve a cabo esta evaluación. La revisión será documenta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revisión de Gestión se abordará la posible necesidad de cambios a la política, objetivos y otros elementos del sistema de Gestión medioambiental, a la luz de los resultados de la auditoría al sistema de Gestión ambiental, circunstancias cambiantes y el compromiso a mejora incesa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03560" y="995400"/>
            <a:ext cx="738756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Determinación de Objetivos (Preguntas Clav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2124000"/>
            <a:ext cx="8534520" cy="4040280"/>
            <a:chOff x="380880" y="2124000"/>
            <a:chExt cx="8534520" cy="4040280"/>
          </a:xfrm>
        </p:grpSpPr>
        <p:sp>
          <p:nvSpPr>
            <p:cNvPr id="297" name=""/>
            <p:cNvSpPr/>
            <p:nvPr/>
          </p:nvSpPr>
          <p:spPr>
            <a:xfrm>
              <a:off x="1210680" y="2165400"/>
              <a:ext cx="2509560" cy="45972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Estamos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4867200"/>
              <a:ext cx="3505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Queremos Estar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 Dónde Queremos ir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6880" y="265752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666880" y="418104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3343320"/>
              <a:ext cx="4648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Brecha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“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portunidad de Mejoramiento”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1320" y="2124000"/>
              <a:ext cx="2743200" cy="1189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Situación Actual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Incumplimiento Legislación Ambiental, Sanciones y multas constante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4120" y="4486320"/>
              <a:ext cx="3581280" cy="167796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bjetiv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(Situación Deseada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Estándares ISO 14000, empresa con reconocimiento internacional por su desempeño ambiental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733560" y="2352600"/>
              <a:ext cx="2057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19720" y="509580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1851120"/>
            <a:ext cx="49528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as Metas en general son resultados específicos esperados en un periodo de tiempo determinad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276720"/>
            <a:ext cx="4952880" cy="3385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ta Ambiental: Requisito detallado de desempeño, cuantificado cuando ello sea posible, aplicable a la organización o a partes de ella, producto de los objetivos ambientales y que es necesario establecer y ordenar a fin de alcanzar esos objetivos (Definición ISO 14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9480" y="995400"/>
            <a:ext cx="18388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Las Met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362320" cy="525780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0200" y="1488960"/>
            <a:ext cx="613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 (preferiblement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581280"/>
            <a:ext cx="739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Disminuir las emisiones SO</a:t>
            </a:r>
            <a:r>
              <a:rPr b="0" lang="es-ES_tradnl" sz="1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 un 50%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umento del contenido de azufre en concentr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0552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Disminuir las emisiones de SO</a:t>
            </a:r>
            <a:r>
              <a:rPr b="0" lang="es-ES_tradnl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para enero del 200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1488960"/>
            <a:ext cx="58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necesari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á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91440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76520"/>
            <a:ext cx="7331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Uno de las áreas más importantes de ISO 14001 es la identificación y evaluación de Aspectos Ambientales. La norma dicta a lo siguiente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establecerá y mantendrá un procedimiento para identificar los aspectos ambientales de sus actividades o servicios que puede controlar y sobre los cuales cabe esperarse que tenga influencia, para determinar aquéllos que tienen o pueden tener impactos significativos en el medio ambiente.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asegurará que los aspectos relacionados a estos impactos significativos sean considerados al formular sus objetivos ambientales. La organización mantendrá esta información actualizada.”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440800" y="71136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143000"/>
            <a:ext cx="725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rresponde a como llevar a cabo un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laborar un Plan general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inclui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escripción de Actividades por realiza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uración de cada sub-actvida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arta de Programación, indicando recursos y    responsab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Indicadores de avan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a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25240" y="99072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5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4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7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18560" y="9144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99072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olítica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09680"/>
            <a:ext cx="7331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ser documentada, implementada y mantenida, además de ser comunicada a todos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429000"/>
            <a:ext cx="733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ncontrar a disposición del públ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29000" y="2620800"/>
            <a:ext cx="11080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83808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14520"/>
            <a:ext cx="7331040" cy="53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Registro de Aspectos Ambientales debe prepararse sobre la base de la Revisión Ambiental Inicial trabajando sistemáticamente a través del informe. En contraste con la Revisión Ambiental Inicial, el Registro de Aspectos Ambientales es un documento “vivo”. Esto significa que la compañía debe mantener el registro actualiza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Es recomendable que los aspectos se identifiquen y sean agrupados dentro de alguna las categorías listadas a continuación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Producción de residuo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Emisiones al air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Descarga de Efluent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agu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energí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Contaminación del suel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Ruid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Materias Prima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1960" y="828720"/>
            <a:ext cx="862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5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4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7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280" y="2306520"/>
            <a:ext cx="4047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mplementación SG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943520"/>
            <a:ext cx="4191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stema de Gestión de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699000"/>
            <a:ext cx="3276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os Sistemas de Gestión Ambiental permiten  desarrollar, implementar, lograr, revisar y mantener la Política Ambienta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971800" y="2971800"/>
            <a:ext cx="0" cy="1905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2025360" cy="21337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921240" y="1025640"/>
            <a:ext cx="4650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Estructura y Responsabilidad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n definir, documentar y comunicar las funciones, responsabilidades y autoridades para facilitar gestión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incentivar el liderazgo y motivación de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Nombramiento de uno o varios representantes específicos de gerencia de forma de asegura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)Requerimientos SGA se han implementado de acuerdo a política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b)Informar efectividad SGA a la gerencia de forma de revisar y mejorar siste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1T04:31:14Z</dcterms:created>
  <dc:creator>Jacques Wiertz</dc:creator>
  <dc:description/>
  <dc:language>en-US</dc:language>
  <cp:lastModifiedBy>ING. Minas </cp:lastModifiedBy>
  <dcterms:modified xsi:type="dcterms:W3CDTF">2004-11-12T14:17:47Z</dcterms:modified>
  <cp:revision>6</cp:revision>
  <dc:subject/>
  <dc:title>Sin título de diapositiva</dc:title>
</cp:coreProperties>
</file>