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7DC-AF90-472C-93B0-C8ED6D25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5F9-7D31-4D0B-B2C4-3FB021DC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BC7-5444-49E5-9406-E5852036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B21-F5C6-4B67-BAF8-B3783DAB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3015-2D87-4E4F-B2EA-9A084C38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0E77-3E80-4633-A63A-3B8A05E3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E1ED-EB89-4B2B-A9B3-35F74907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1B15-8E52-48B1-AE45-68A1B5FC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1E6C-9D3C-44E6-BAA7-E2025C3B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2C31-41C6-452A-9CC8-5045B8DC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9176-487B-4542-9D56-B051542D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D5E-C119-4764-9BC6-DC9E5854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3905-6EA5-4943-A62B-32EFF8E0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C104-13A0-4590-A520-E651A574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2098-13DA-4FCD-8DC0-3B25A1CA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FD6A-C770-4B8F-BAD5-C27317D6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657D-B35C-4179-AE03-FB6A520F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FDB-307B-4CA9-B419-4F980605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FD4-3A73-43F3-BA71-EB065C97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D76-DC1E-4EA5-8D4C-92041391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39C-408D-4391-9470-0AF97E94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F2DE-A106-4C16-BFCD-113F2C02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884-B68B-4D69-839D-C557FC65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7CD-A2FE-48B7-8748-75A99F03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6343-2C67-432F-AF69-E446B5928387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996D-C47B-418C-9D2E-5F89D7E647B3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s de gestión ambiental SGA (II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Política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Cuenta con el respaldo de la gerencia gener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Debe ser documentada, implementada y actualizad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Debe ser comunicada o todos los emplead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Debe ser públic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Política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claración formal de intenciones y principio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mpromiso al mejoramiento continu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mpromiso a la prevención de la contamin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mpromiso a cumplir la legisl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porciona un marco para la acción y para establecer metas y objetivo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Principi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tilización de recursos, atendiendo a tasas sostenibles por el medi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tuar las actividades en territorios y en ecosistemas con una alta capacidad de acogida para aquell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a emisión de efluentes por una actividad no sobrepasará la capacidad de recepción o asimilación del medio ambie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eocupación por los agentes y actividades que repercuten negativamente sobre el medio ambiente, adoptándose frente  a ellos una posición más orientada a la 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evenc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que a la 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orrec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Sistema de gestión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quella parte del sistema general de gestión que comprende la estructura organizativa, las responsabilidades, las prácticas, los procedimientos, los procesos y los recursos para determinar y llevar a cabo la política medioambiental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(Reglamento de la Unión Europea Nº1.836/1993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3048120"/>
            <a:ext cx="3200400" cy="3429000"/>
          </a:xfrm>
          <a:custGeom>
            <a:avLst/>
            <a:gdLst/>
            <a:ahLst/>
            <a:rect l="l" t="t" r="r" b="b"/>
            <a:pathLst>
              <a:path w="1968" h="2160">
                <a:moveTo>
                  <a:pt x="624" y="2160"/>
                </a:moveTo>
                <a:lnTo>
                  <a:pt x="0" y="2160"/>
                </a:lnTo>
                <a:lnTo>
                  <a:pt x="0" y="0"/>
                </a:lnTo>
                <a:lnTo>
                  <a:pt x="1968" y="0"/>
                </a:lnTo>
              </a:path>
            </a:pathLst>
          </a:custGeom>
          <a:noFill/>
          <a:ln w="9360">
            <a:solidFill>
              <a:srgbClr val="5b524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400440" y="3048120"/>
            <a:ext cx="114300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45000" y="1600200"/>
            <a:ext cx="2818800" cy="45972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Organización inici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82120" y="2438280"/>
            <a:ext cx="1706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80320" y="4267080"/>
            <a:ext cx="1877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5181480"/>
            <a:ext cx="4136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Implementación y Oper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3080" y="6172200"/>
            <a:ext cx="5078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Medición y evaluación del desempeñ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2057400"/>
            <a:ext cx="0" cy="3049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28954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38098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47242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563868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232160"/>
            <a:ext cx="1447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Revisión y Mejoramiento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2374920"/>
            <a:ext cx="121932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u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G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4960" y="3276720"/>
            <a:ext cx="5020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eclaración de la Política Ambiental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Implementación y operación de SG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400440" y="6705720"/>
            <a:ext cx="114300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Revisión inicial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80880" y="1905120"/>
            <a:ext cx="8534520" cy="4039920"/>
            <a:chOff x="380880" y="1905120"/>
            <a:chExt cx="8534520" cy="4039920"/>
          </a:xfrm>
        </p:grpSpPr>
        <p:sp>
          <p:nvSpPr>
            <p:cNvPr id="114" name=""/>
            <p:cNvSpPr/>
            <p:nvPr/>
          </p:nvSpPr>
          <p:spPr>
            <a:xfrm>
              <a:off x="1209960" y="1946160"/>
              <a:ext cx="2442240" cy="45972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¿Dónde estamos?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4647960"/>
              <a:ext cx="3505320" cy="82548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¿Dónde queremos estar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o dónde queremos ir?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6880" y="2438280"/>
              <a:ext cx="0" cy="68544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666880" y="3962160"/>
              <a:ext cx="0" cy="68544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3124080"/>
              <a:ext cx="4648320" cy="82548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Brecha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“</a:t>
              </a: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Oportunidad de mejoramiento”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1320" y="1905120"/>
              <a:ext cx="2743200" cy="118980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Situación actual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b5249"/>
                  </a:solidFill>
                  <a:latin typeface="Times New Roman"/>
                </a:rPr>
                <a:t>Incumplimiento legislación ambiental, sanciones y multas constantes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34120" y="4267080"/>
              <a:ext cx="3581280" cy="167796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Objetivo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(Situación deseada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b5249"/>
                  </a:solidFill>
                  <a:latin typeface="Times New Roman"/>
                </a:rPr>
                <a:t>Estándares ISO 14000, empresa con reconocimiento internacional por su desempeño ambiental</a:t>
              </a: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733560" y="2133360"/>
              <a:ext cx="20574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419720" y="487656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Diagnóstico o revisión ambiental inici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Revisión de prácticas y procedimientos de gestión ambiental existent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Revisión de aspectos ambientales significativo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Revisión de accidentes e incidentes medioambientales previo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Revisión de legislación y reglamentos relevant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Principios básicos SG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umplimiento de las normas legales y de la política ambiental de la empres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nidad de gestión ambiental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laboración de procedimientos operativo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valuación de impacto ambiental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horro de recurs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iorización de la prevención antes que la correc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inimización de residuos en orige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egularidad de auditorías ambient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apacitación e informa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Revisión inici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Se realiza una auditoría ambiental para identificar los aspectos ambientales claves y determinar el desempeño ambiental actual de la empres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Auditoría en 2 etapas: interna y extern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Se involucra al personal de la empres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Se forma un equipo de auditorí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Identificación de aspectos cla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5b5249"/>
                </a:solidFill>
                <a:uFillTx/>
                <a:latin typeface="Times New Roman"/>
              </a:rPr>
              <a:t>Identificar los aspectos ambientales clave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- La revisión apunta a identificar los aspectos ambientales importantes en los que debe centrarse una serie de medidas de mejor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5b5249"/>
                </a:solidFill>
                <a:uFillTx/>
                <a:latin typeface="Times New Roman"/>
              </a:rPr>
              <a:t>Actuar en asuntos prioritarios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- Una revisión identificará a menudo áreas donde se ha contravenido la legislación ambiental o donde existe el potencial para un daño ambiental serio. Debe tomarse acción rápida sobre estos problem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Registro de aspectos ambiental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i="1" lang="es-ES" sz="2400" spc="-1" strike="noStrike">
                <a:solidFill>
                  <a:srgbClr val="5b5249"/>
                </a:solidFill>
                <a:latin typeface="Times New Roman"/>
              </a:rPr>
              <a:t>La organización establecerá y mantendrá un procedimiento para identificar los aspectos ambientales de sus actividades o servicios que puede controlar y sobre los cuales cabe esperarse que tenga influencia, para determinar aquellos que tienen o pueden tener impactos significativos en el medio ambiente.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5b5249"/>
                </a:solidFill>
                <a:latin typeface="Times New Roman"/>
              </a:rPr>
              <a:t>La organización asegurará que los aspectos relacionados a estos impactos significativos sean considerados al formular sus objetivos ambientales. La organización mantendrá esta información actualizada.”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(ISO 14001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10-01T19:42:42Z</dcterms:modified>
  <cp:revision>298</cp:revision>
  <dc:subject/>
  <dc:title>PROGRAMAS DE COOPERACION</dc:title>
</cp:coreProperties>
</file>