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AED9-5AC7-4961-8EC7-AAC775E7C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9DBA-BAB3-4E1C-80B5-309329F85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93FD-A174-41F7-8A4C-A8692B588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1CE2-81E5-4AE3-BFE3-14C5D0C19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F429B-94E4-4B88-A196-A35E104A5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E7565-691B-4A3A-933D-1D3E40572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45DF7-EC56-4133-B77C-64012C314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56CE2-E26A-490E-9DED-2CD232D95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88AA3-8C3D-4E04-BF7A-3002F8969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83D42-35F5-42C1-8B19-9CBEE57D6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62433-D6AF-4375-95D4-9EFA6621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1F14-0AC0-4EAC-BAFF-1C1CAE786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B41BD-FC3E-4E77-ACE4-8C40E2A6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9C28C-50F1-40B2-AC9F-AA664C0B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C956A-2E18-41F9-B8D9-4FA9959DA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E6233-572B-4502-97AC-8062F3872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61B32-FD71-48F3-8EAF-23B0B19A7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2C07-8564-45D8-997B-527C73352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B485-6045-422E-B9B8-4A6143740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3B55-6FE6-4743-9778-AC051D33A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2CD6-C5B5-48C5-A5C8-2C30F4703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4778-114D-4BB4-8025-BC90D2EF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BCD9-9008-4F75-98C0-A2CC5F92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CEDD-5E53-44B4-BB79-45880DDC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1CBD8-37A0-4457-9411-535EDEDA43DA}" type="slidenum">
              <a:rPr b="0" lang="es-E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4F0BD-B55A-467A-8568-E377DA418E71}" type="slidenum"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2a3d7a"/>
                </a:solidFill>
                <a:latin typeface="Times New Roman"/>
              </a:rPr>
              <a:t>Gestión Ambiental en Minería MI55D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38080" y="4495320"/>
            <a:ext cx="74678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b5249"/>
                </a:solidFill>
                <a:latin typeface="Times New Roman"/>
              </a:rPr>
              <a:t>Capítulo 7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b5249"/>
                </a:solidFill>
                <a:latin typeface="Times New Roman"/>
              </a:rPr>
              <a:t>Sistemas de gestión ambiental SGA (II)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Política ambiental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Cuenta con el respaldo de la gerencia genera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Debe ser documentada, implementada y actualizad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Debe ser comunicada o todos los empleado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Debe ser públic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a3d7a"/>
                </a:solidFill>
                <a:latin typeface="Times New Roman"/>
              </a:rPr>
              <a:t>Política ambiental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eclaración formal de intenciones y principio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Compromiso al mejoramiento continu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Compromiso a la prevención de la contaminació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Compromiso a cumplir la legislació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roporciona un marco para la acción y para establecer metas y objetivo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Principios básico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807696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Utilización de recursos, atendiendo a tasas sostenibles por el medio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Situar las actividades en territorios y en ecosistemas con una alta capacidad de acogida para aquella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La emisión de efluentes por una actividad no sobrepasará la capacidad de recepción o asimilación del medio ambient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Preocupación por los agentes y actividades que repercuten negativamente sobre el medio ambiente, adoptándose frente  a ellos una posición más orientada a la </a:t>
            </a:r>
            <a:r>
              <a:rPr b="0" i="1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prevención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que a la </a:t>
            </a:r>
            <a:r>
              <a:rPr b="0" i="1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corrección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Sistema de gestión ambiental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“</a:t>
            </a:r>
            <a:r>
              <a:rPr b="0" lang="es-ES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Aquella parte del sistema general de gestión que comprende la estructura organizativa, las responsabilidades, las prácticas, los procedimientos, los procesos y los recursos para determinar y llevar a cabo la política medioambiental”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(Reglamento de la Unión Europea Nº1.836/1993)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990720" y="3048120"/>
            <a:ext cx="3200400" cy="3429000"/>
          </a:xfrm>
          <a:custGeom>
            <a:avLst/>
            <a:gdLst/>
            <a:ahLst/>
            <a:rect l="l" t="t" r="r" b="b"/>
            <a:pathLst>
              <a:path w="1968" h="2160">
                <a:moveTo>
                  <a:pt x="624" y="2160"/>
                </a:moveTo>
                <a:lnTo>
                  <a:pt x="0" y="2160"/>
                </a:lnTo>
                <a:lnTo>
                  <a:pt x="0" y="0"/>
                </a:lnTo>
                <a:lnTo>
                  <a:pt x="1968" y="0"/>
                </a:lnTo>
              </a:path>
            </a:pathLst>
          </a:custGeom>
          <a:noFill/>
          <a:ln w="9360">
            <a:solidFill>
              <a:srgbClr val="5b524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400440" y="3048120"/>
            <a:ext cx="1143000" cy="0"/>
          </a:xfrm>
          <a:prstGeom prst="line">
            <a:avLst/>
          </a:prstGeom>
          <a:ln w="12600">
            <a:solidFill>
              <a:srgbClr val="5b524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745000" y="1600200"/>
            <a:ext cx="2818800" cy="45972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Organización inicia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82120" y="2438280"/>
            <a:ext cx="1706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Diagnóstico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80320" y="4267080"/>
            <a:ext cx="18770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Planificació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62320" y="5181480"/>
            <a:ext cx="41367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Implementación y Operació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3080" y="6172200"/>
            <a:ext cx="5078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Medición y evaluación del desempeño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91120" y="2057400"/>
            <a:ext cx="0" cy="30492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91120" y="2895480"/>
            <a:ext cx="0" cy="38124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91120" y="3809880"/>
            <a:ext cx="0" cy="38124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91120" y="4724280"/>
            <a:ext cx="0" cy="38124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91120" y="5638680"/>
            <a:ext cx="0" cy="45720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4232160"/>
            <a:ext cx="144792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249"/>
                </a:solidFill>
                <a:latin typeface="Times New Roman"/>
              </a:rPr>
              <a:t>Revisión y Mejoramiento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543800" y="2374920"/>
            <a:ext cx="1219320" cy="448308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Etapa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de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u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SG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24960" y="3276720"/>
            <a:ext cx="50209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Declaración de la Política Ambiental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a3d7a"/>
                </a:solidFill>
                <a:latin typeface="Times New Roman"/>
              </a:rPr>
              <a:t>Implementación y operación de SGA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400440" y="6705720"/>
            <a:ext cx="1143000" cy="0"/>
          </a:xfrm>
          <a:prstGeom prst="line">
            <a:avLst/>
          </a:prstGeom>
          <a:ln w="12600">
            <a:solidFill>
              <a:srgbClr val="5b524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Revisión inicial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80880" y="1905120"/>
            <a:ext cx="8534520" cy="4039920"/>
            <a:chOff x="380880" y="1905120"/>
            <a:chExt cx="8534520" cy="4039920"/>
          </a:xfrm>
        </p:grpSpPr>
        <p:sp>
          <p:nvSpPr>
            <p:cNvPr id="114" name=""/>
            <p:cNvSpPr/>
            <p:nvPr/>
          </p:nvSpPr>
          <p:spPr>
            <a:xfrm>
              <a:off x="1209960" y="1946160"/>
              <a:ext cx="2442240" cy="459720"/>
            </a:xfrm>
            <a:prstGeom prst="rect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Times New Roman"/>
                </a:rPr>
                <a:t>¿Dónde estamos?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14400" y="4647960"/>
              <a:ext cx="3505320" cy="825480"/>
            </a:xfrm>
            <a:prstGeom prst="rect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Times New Roman"/>
                </a:rPr>
                <a:t>¿Dónde queremos estar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Times New Roman"/>
                </a:rPr>
                <a:t>o dónde queremos ir?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666880" y="2438280"/>
              <a:ext cx="0" cy="685440"/>
            </a:xfrm>
            <a:prstGeom prst="line">
              <a:avLst/>
            </a:prstGeom>
            <a:ln w="5724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2666880" y="3962160"/>
              <a:ext cx="0" cy="685440"/>
            </a:xfrm>
            <a:prstGeom prst="line">
              <a:avLst/>
            </a:prstGeom>
            <a:ln w="5724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0880" y="3124080"/>
              <a:ext cx="4648320" cy="825480"/>
            </a:xfrm>
            <a:prstGeom prst="rect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Times New Roman"/>
                </a:rPr>
                <a:t>Brecha 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Times New Roman"/>
                </a:rPr>
                <a:t>“</a:t>
              </a:r>
              <a:r>
                <a:rPr b="1" lang="en-US" sz="2400" spc="-1" strike="noStrike">
                  <a:solidFill>
                    <a:srgbClr val="5b5249"/>
                  </a:solidFill>
                  <a:latin typeface="Times New Roman"/>
                </a:rPr>
                <a:t>Oportunidad de mejoramiento”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791320" y="1905120"/>
              <a:ext cx="2743200" cy="1189800"/>
            </a:xfrm>
            <a:prstGeom prst="rect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Times New Roman"/>
                </a:rPr>
                <a:t>Situación actual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b5249"/>
                  </a:solidFill>
                  <a:latin typeface="Times New Roman"/>
                </a:rPr>
                <a:t>Incumplimiento legislación ambiental, sanciones y multas constantes</a:t>
              </a:r>
              <a:endParaRPr b="0" lang="en-US" sz="1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334120" y="4267080"/>
              <a:ext cx="3581280" cy="1677960"/>
            </a:xfrm>
            <a:prstGeom prst="rect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Times New Roman"/>
                </a:rPr>
                <a:t>Objetivo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Times New Roman"/>
                </a:rPr>
                <a:t>(Situación deseada)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b5249"/>
                  </a:solidFill>
                  <a:latin typeface="Times New Roman"/>
                </a:rPr>
                <a:t>Estándares ISO 14000, empresa con reconocimiento internacional por su desempeño ambiental</a:t>
              </a:r>
              <a:r>
                <a:rPr b="1" lang="en-US" sz="2400" spc="-1" strike="noStrike">
                  <a:solidFill>
                    <a:srgbClr val="5b5249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3733560" y="2133360"/>
              <a:ext cx="205740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4419720" y="4876560"/>
              <a:ext cx="91440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8380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a3d7a"/>
                </a:solidFill>
                <a:latin typeface="Times New Roman"/>
              </a:rPr>
              <a:t>Diagnóstico o revisión ambiental inicial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5b5249"/>
                </a:solidFill>
                <a:latin typeface="Times New Roman"/>
              </a:rPr>
              <a:t>Revisión de prácticas y procedimientos de gestión ambiental existente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5b5249"/>
                </a:solidFill>
                <a:latin typeface="Times New Roman"/>
              </a:rPr>
              <a:t>Revisión de aspectos ambientales significativo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5b5249"/>
                </a:solidFill>
                <a:latin typeface="Times New Roman"/>
              </a:rPr>
              <a:t>Revisión de accidentes e incidentes medioambientales previo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5b5249"/>
                </a:solidFill>
                <a:latin typeface="Times New Roman"/>
              </a:rPr>
              <a:t>Revisión de legislación y reglamentos relevante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Principios básicos SGA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-42516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Cumplimiento de las normas legales y de la política ambiental de la empresa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Unidad de gestión ambiental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Elaboración de procedimientos operativo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Evaluación de impacto ambiental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Ahorro de recurso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Priorización de la prevención antes que la corrección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Minimización de residuos en origen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Regularidad de auditorías ambientale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Capacitación e información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Revisión inicial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Se realiza una auditoría ambiental para identificar los aspectos ambientales claves y determinar el desempeño ambiental actual de la empres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Auditoría en 2 etapas: interna y extern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Se involucra al personal de la empres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Se forma un equipo de auditorí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Identificación de aspectos clave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5b5249"/>
                </a:solidFill>
                <a:uFillTx/>
                <a:latin typeface="Times New Roman"/>
              </a:rPr>
              <a:t>Identificar los aspectos ambientales clave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 - La revisión apunta a identificar los aspectos ambientales importantes en los que debe centrarse una serie de medidas de mejora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5b5249"/>
                </a:solidFill>
                <a:uFillTx/>
                <a:latin typeface="Times New Roman"/>
              </a:rPr>
              <a:t>Actuar en asuntos prioritarios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 - Una revisión identificará a menudo áreas donde se ha contravenido la legislación ambiental o donde existe el potencial para un daño ambiental serio. Debe tomarse acción rápida sobre estos problema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Registro de aspectos ambientale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5b5249"/>
                </a:solidFill>
                <a:latin typeface="Times New Roman"/>
              </a:rPr>
              <a:t>“</a:t>
            </a:r>
            <a:r>
              <a:rPr b="1" i="1" lang="es-ES" sz="2400" spc="-1" strike="noStrike">
                <a:solidFill>
                  <a:srgbClr val="5b5249"/>
                </a:solidFill>
                <a:latin typeface="Times New Roman"/>
              </a:rPr>
              <a:t>La organización establecerá y mantendrá un procedimiento para identificar los aspectos ambientales de sus actividades o servicios que puede controlar y sobre los cuales cabe esperarse que tenga influencia, para determinar aquellos que tienen o pueden tener impactos significativos en el medio ambiente.</a:t>
            </a:r>
            <a:r>
              <a:rPr b="1" lang="es-E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i="1" lang="es-ES" sz="2400" spc="-1" strike="noStrike">
                <a:solidFill>
                  <a:srgbClr val="5b5249"/>
                </a:solidFill>
                <a:latin typeface="Times New Roman"/>
              </a:rPr>
              <a:t>La organización asegurará que los aspectos relacionados a estos impactos significativos sean considerados al formular sus objetivos ambientales. La organización mantendrá esta información actualizada.” </a:t>
            </a:r>
            <a:r>
              <a:rPr b="1" lang="es-ES" sz="2400" spc="-1" strike="noStrike">
                <a:solidFill>
                  <a:srgbClr val="5b5249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(ISO 14001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6T19:33:39Z</dcterms:created>
  <dc:creator>Ingrid  Rozas</dc:creator>
  <dc:description/>
  <dc:language>en-US</dc:language>
  <cp:lastModifiedBy>ING. Minas </cp:lastModifiedBy>
  <dcterms:modified xsi:type="dcterms:W3CDTF">2004-10-01T19:42:42Z</dcterms:modified>
  <cp:revision>298</cp:revision>
  <dc:subject/>
  <dc:title>PROGRAMAS DE COOPERACION</dc:title>
</cp:coreProperties>
</file>