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1B4-342E-429D-ADFE-123A7A10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397-6C46-4239-9AD1-675ADC8C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921-0CA0-4BA4-A62D-FE61B8DB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136-B045-4B65-94BF-96490853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D7A3-0A80-48FE-8273-315CB9B4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009A-BFBD-4B49-B87E-E0C7AA65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86F5-3001-4FC4-9F0A-4201B14A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893A-39DD-4620-B76E-28D06E43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C0DA-F7DA-44C0-8CA0-3E124968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26B3-918A-4D38-9132-B07C1B1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FCCD-CFC8-4C70-929F-E219E14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1DE-4961-48C5-82C8-98957DD9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27F-1F91-47C5-928B-F0773779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D0E7-0E01-404C-8ABC-9139EFDD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CD3B-3D26-444C-B36E-56A570B0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B0A6-CF0B-4307-BB5A-9809A52F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D20E-EDC3-4B26-937A-E90B962A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8B5-6E3A-43A0-8BCA-AEFBED64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724-52C4-4B9A-9942-1312753A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267-9CCD-497A-B327-84B17F31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074-3D17-4F3C-A7A3-B7F6F9D3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7BA-081D-4A4D-9557-AD485084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1F7-E601-4898-AF42-ACDAF6A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7C3-38AD-419B-9E45-65B7C90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3E97-C4B9-4640-9FA5-78D0F4B59529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366E-EF0D-4C89-8FB4-9F5B9B33B6BF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2a3d7a"/>
                </a:solidFill>
                <a:latin typeface="Times New Roman"/>
              </a:rPr>
              <a:t>Certificación del SG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sobre el Sistema de Gestión y no sobre la actuación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No es obligatoria (en algunos casos no conlleva beneficios para la empresa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uditoría se realiza sobre 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proceso de certificación y la entrega del certificado lo realiza un agente externo (instituciones certificadoras, acreditad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realizan evaluaciones periódicas d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¿Qué implica contar con un certificado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Prueba de la evaluación y aceptación de un profesional independiente y acreditad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Es un sello al compromiso para mejorar continuamente en beneficio del medio ambi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Beneficioso para conseguir establecer contratos (comerciales, gubernamentales, etc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Símbolo visible ante la comunida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Etapas para la Certificación ISO 14.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7680" y="2057400"/>
            <a:ext cx="3368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elimin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600" y="2819520"/>
            <a:ext cx="4206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visión de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1920" y="3581280"/>
            <a:ext cx="2775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Inic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6320" y="4419720"/>
            <a:ext cx="315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incip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4040" y="5257800"/>
            <a:ext cx="3449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(registr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44280" y="5943600"/>
            <a:ext cx="16606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3695040" y="20952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685760" y="285732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5676840" y="3695760"/>
            <a:ext cx="533520" cy="761760"/>
          </a:xfrm>
          <a:custGeom>
            <a:avLst/>
            <a:gdLst>
              <a:gd name="textAreaLeft" fmla="*/ 0 w 533520"/>
              <a:gd name="textAreaRight" fmla="*/ 533880 w 5335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6895800" y="4533840"/>
            <a:ext cx="533160" cy="762120"/>
          </a:xfrm>
          <a:custGeom>
            <a:avLst/>
            <a:gdLst>
              <a:gd name="textAreaLeft" fmla="*/ 0 w 533160"/>
              <a:gd name="textAreaRight" fmla="*/ 533520 w 53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8038440" y="52956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¿Qué es Gestión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rie de actividades que exigen un orden para alcanzar una met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permanente, ininterrumpido y sistemátic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676520" y="3809880"/>
            <a:ext cx="5866560" cy="2666880"/>
            <a:chOff x="1676520" y="3809880"/>
            <a:chExt cx="5866560" cy="2666880"/>
          </a:xfrm>
        </p:grpSpPr>
        <p:sp>
          <p:nvSpPr>
            <p:cNvPr id="96" name=""/>
            <p:cNvSpPr/>
            <p:nvPr/>
          </p:nvSpPr>
          <p:spPr>
            <a:xfrm>
              <a:off x="2278080" y="4106160"/>
              <a:ext cx="4663440" cy="20743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2400" y="4847040"/>
              <a:ext cx="180504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FUNCIONES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DE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GESTION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2520" y="380988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5b5249"/>
                  </a:solidFill>
                  <a:latin typeface="Arial"/>
                </a:rPr>
                <a:t>PLANIFIC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900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IMPLEMENT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82520" y="588420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COMPROB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ACTU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0920" y="455076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481560" y="4106160"/>
              <a:ext cx="300600" cy="1483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286240" y="6032520"/>
              <a:ext cx="300600" cy="1476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428560" y="543960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Herramienta con que cuenta la empresa para coordinar las funciones y tareas con el fin de alcanzar las metas ambientales propuest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Parte integral de la gestión global de una empres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3880" y="3657600"/>
            <a:ext cx="6477120" cy="3052800"/>
            <a:chOff x="1523880" y="3657600"/>
            <a:chExt cx="6477120" cy="3052800"/>
          </a:xfrm>
        </p:grpSpPr>
        <p:sp>
          <p:nvSpPr>
            <p:cNvPr id="109" name=""/>
            <p:cNvSpPr/>
            <p:nvPr/>
          </p:nvSpPr>
          <p:spPr>
            <a:xfrm>
              <a:off x="1927080" y="3935520"/>
              <a:ext cx="5543640" cy="258588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4680" y="3657600"/>
              <a:ext cx="110808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Estratégic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5043600"/>
              <a:ext cx="110808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Negoci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4320" y="4951440"/>
              <a:ext cx="13366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para la Acció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6248520"/>
              <a:ext cx="134136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Contingenci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9880" y="5105520"/>
              <a:ext cx="1695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istemas de Gestión Corporativ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43160" y="4303800"/>
              <a:ext cx="1443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eguridad y Salud Ocupacion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4673880"/>
              <a:ext cx="13114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Financier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5116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Productiv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668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de Calidad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31880" y="4673880"/>
              <a:ext cx="1386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5b5249"/>
                  </a:solidFill>
                  <a:latin typeface="Arial"/>
                </a:rPr>
                <a:t>Gestión Ambient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943080" y="5505480"/>
              <a:ext cx="3016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51240" y="5505480"/>
              <a:ext cx="20160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454360" y="4951440"/>
              <a:ext cx="503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438360" y="4951440"/>
              <a:ext cx="504720" cy="27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48040" y="4673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Objetivos de la 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Minimizar los impactos ambientales negativos que provocan los aspectos ambient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Objetivos específicos (importantes en minería)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salud de las personas (trabajadores y/o tercer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calidad del medio ambie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Asegurar estabilidad física y química de los residuos en el largo plaz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Eficient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quiere enfoque integral 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usca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una real minimización de los impactos en todos los componentes del medio ambiente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itar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ransferir problemas de un componente a otr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Las empresas mineras deben adoptar una actitu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oac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busca de una mejora constante de su desempeño ambiental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ecau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inimizando en lo posible todo tipo de riesg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que podrían presentar los residuos y emisiones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Sistema de Gestión Ambiental (SGA)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istema a través del cual la empresa controla actividades, productos y procesos que causan (o podrían causar) impacto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onstituyen un procedimiento formal para el desarrollo de la gest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basan en el mejoramiento continuo (ligado a Calidad Tota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introducen estándares internacional: ISO 14.000 (ISO 14.00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Es de carácter voluntario y se aplica a cualquier organización que desee mejorar su actuación medio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Requisitos para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Compromiso de mejora continua (Gerencia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sencial para implementar u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incorpora la variable ambiental en la toma de decisio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querimiento básico para comenzar un cambio re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asignan 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Obligación de cumplir con la legislación ambiental vig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3048120"/>
            <a:ext cx="3200400" cy="342900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5b52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00440" y="30481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5720" y="1600200"/>
            <a:ext cx="2852280" cy="459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82120" y="243828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80320" y="426708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18148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3800" y="6172200"/>
            <a:ext cx="519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28954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47242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56386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23216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374920"/>
            <a:ext cx="12193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5680" y="3276720"/>
            <a:ext cx="51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Implementación y Operación de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00440" y="67057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Ventajas de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el M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la empres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horro de cos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umentar eficienc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ayores oportunidades de mercado (competitivida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la legislación y regulaciones ambienta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exigencias de client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ar relaciones con terceros (grupos interesad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 comunicación con empleados (motivación y compromis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09-28T14:12:06Z</dcterms:modified>
  <cp:revision>291</cp:revision>
  <dc:subject/>
  <dc:title>PROGRAMAS DE COOPERACION</dc:title>
</cp:coreProperties>
</file>