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4677-AF25-45C8-81AB-73BB1797D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D961-C342-4DDA-B7DD-7F49C3AE5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8D50-C46A-4F03-AF47-0380D9161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00FB-C3E1-4A79-96FB-998497DE7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E6C83-CAE3-4FA1-B836-FDEA0A5CB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E12B6-CF9B-45C9-824B-E444BC27D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81984-7AB0-49BE-A186-248582505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D3CF5-11FB-4942-A9BD-9B5F6EABC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47BCE-D3E0-4DC6-92B3-E511948EF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44DC2-04EE-4C82-A10C-20D1622F6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31453-C4AF-4ED1-8EBF-90D021BF1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38E8-0737-41DE-89B3-A99B5D2FE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98435-F6F3-4A76-80DF-6AE2E506E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C38C8-F851-4A81-979C-1DB3485D1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9D789-A270-4E61-B799-2D852B8ED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06763-2AFB-46FF-B275-79643D2B8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883B7-570D-4A7B-BB73-6CBA0CBF9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A0E7-0AA0-4270-9E57-A5B4B4D32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0135-A134-4AA0-AAAF-C6FA1E8E2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DA11-146F-4D85-BE61-5A7146FA8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97D1-6D28-4D0D-8CD3-F0D742005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B41A-C747-4A01-8B58-3D6482900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1707-F928-4B84-BAD9-97D86C2DC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C842-9E14-4694-B6D2-F2BEA17E3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anabnr2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B88AD-7D62-49B3-8D6A-15CB6EA09B64}" type="slidenum">
              <a:rPr b="0" lang="es-E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ANABNR2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A8B06-3EEE-42E9-B612-B529D6F3A36D}" type="slidenum">
              <a:rPr b="0" lang="es-E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848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2a3d7a"/>
                </a:solidFill>
                <a:latin typeface="Times New Roman"/>
              </a:rPr>
              <a:t>Gestión Ambiental en Minería MI55D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838080" y="4495320"/>
            <a:ext cx="74678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5b5249"/>
                </a:solidFill>
                <a:latin typeface="Times New Roman"/>
              </a:rPr>
              <a:t>Capítulo 7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5b5249"/>
                </a:solidFill>
                <a:latin typeface="Times New Roman"/>
              </a:rPr>
              <a:t>Sistemas de gestión ambiental SGA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2a3d7a"/>
                </a:solidFill>
                <a:latin typeface="Times New Roman"/>
              </a:rPr>
              <a:t>Certificación del SGA</a:t>
            </a:r>
            <a:endParaRPr b="0" lang="en-US" sz="32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5b5249"/>
                </a:solidFill>
                <a:latin typeface="Times New Roman"/>
              </a:rPr>
              <a:t>Certificación sobre el Sistema de Gestión y no sobre la actuación ambiental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5b5249"/>
                </a:solidFill>
                <a:latin typeface="Times New Roman"/>
              </a:rPr>
              <a:t>No es obligatoria (en algunos casos no conlleva beneficios para la empresa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5b5249"/>
                </a:solidFill>
                <a:latin typeface="Times New Roman"/>
              </a:rPr>
              <a:t>Auditoría se realiza sobre el SGA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5b5249"/>
                </a:solidFill>
                <a:latin typeface="Times New Roman"/>
              </a:rPr>
              <a:t>El proceso de certificación y la entrega del certificado lo realiza un agente externo (instituciones certificadoras, acreditadas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5b5249"/>
                </a:solidFill>
                <a:latin typeface="Times New Roman"/>
              </a:rPr>
              <a:t>Se realizan evaluaciones periódicas del SGA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8305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2a3d7a"/>
                </a:solidFill>
                <a:latin typeface="Times New Roman"/>
              </a:rPr>
              <a:t>¿Qué implica contar con un certificado?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45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5b5249"/>
                </a:solidFill>
                <a:latin typeface="Times New Roman"/>
              </a:rPr>
              <a:t>Prueba de la evaluación y aceptación de un profesional independiente y acreditado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5b5249"/>
                </a:solidFill>
                <a:latin typeface="Times New Roman"/>
              </a:rPr>
              <a:t>Es un sello al compromiso para mejorar continuamente en beneficio del medio ambient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5b5249"/>
                </a:solidFill>
                <a:latin typeface="Times New Roman"/>
              </a:rPr>
              <a:t>Beneficioso para conseguir establecer contratos (comerciales, gubernamentales, etc)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5b5249"/>
                </a:solidFill>
                <a:latin typeface="Times New Roman"/>
              </a:rPr>
              <a:t>Símbolo visible ante la comunidad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838080"/>
            <a:ext cx="8001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2a3d7a"/>
                </a:solidFill>
                <a:latin typeface="Times New Roman"/>
              </a:rPr>
              <a:t>Etapas para la Certificación ISO 14.001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57680" y="2057400"/>
            <a:ext cx="336888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5b5249"/>
                </a:solidFill>
                <a:latin typeface="Times New Roman"/>
              </a:rPr>
              <a:t>Evaluación Preliminar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09600" y="2819520"/>
            <a:ext cx="420696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5b5249"/>
                </a:solidFill>
                <a:latin typeface="Times New Roman"/>
              </a:rPr>
              <a:t>Revisión de Documentación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671920" y="3581280"/>
            <a:ext cx="277596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5b5249"/>
                </a:solidFill>
                <a:latin typeface="Times New Roman"/>
              </a:rPr>
              <a:t>Evaluación Inicia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586320" y="4419720"/>
            <a:ext cx="315252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5b5249"/>
                </a:solidFill>
                <a:latin typeface="Times New Roman"/>
              </a:rPr>
              <a:t>Evaluación Principa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24040" y="5257800"/>
            <a:ext cx="344988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5b5249"/>
                </a:solidFill>
                <a:latin typeface="Times New Roman"/>
              </a:rPr>
              <a:t>Certificación (registro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244280" y="5943600"/>
            <a:ext cx="166068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5b5249"/>
                </a:solidFill>
                <a:latin typeface="Times New Roman"/>
              </a:rPr>
              <a:t>Vigilancia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rot="5400000">
            <a:off x="3695040" y="2095200"/>
            <a:ext cx="533520" cy="762120"/>
          </a:xfrm>
          <a:custGeom>
            <a:avLst/>
            <a:gdLst>
              <a:gd name="textAreaLeft" fmla="*/ 0 w 533520"/>
              <a:gd name="textAreaRight" fmla="*/ 533880 w 53352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7345" stAng="10800000" swAng="5400000"/>
                <a:lnTo>
                  <a:pt x="15099" y="4815"/>
                </a:lnTo>
                <a:lnTo>
                  <a:pt x="15099" y="0"/>
                </a:lnTo>
                <a:lnTo>
                  <a:pt x="21600" y="6079"/>
                </a:lnTo>
                <a:lnTo>
                  <a:pt x="15099" y="12158"/>
                </a:lnTo>
                <a:lnTo>
                  <a:pt x="15099" y="7343"/>
                </a:lnTo>
                <a:lnTo>
                  <a:pt x="12427" y="7343"/>
                </a:lnTo>
                <a:arcTo wR="9899" hR="4817" stAng="16200000" swAng="-5400000"/>
                <a:lnTo>
                  <a:pt x="2528" y="21600"/>
                </a:lnTo>
                <a:close/>
              </a:path>
            </a:pathLst>
          </a:custGeom>
          <a:solidFill>
            <a:srgbClr val="ff3300"/>
          </a:solidFill>
          <a:ln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rot="5400000">
            <a:off x="4685760" y="2857320"/>
            <a:ext cx="533520" cy="762120"/>
          </a:xfrm>
          <a:custGeom>
            <a:avLst/>
            <a:gdLst>
              <a:gd name="textAreaLeft" fmla="*/ 0 w 533520"/>
              <a:gd name="textAreaRight" fmla="*/ 533880 w 53352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7345" stAng="10800000" swAng="5400000"/>
                <a:lnTo>
                  <a:pt x="15099" y="4815"/>
                </a:lnTo>
                <a:lnTo>
                  <a:pt x="15099" y="0"/>
                </a:lnTo>
                <a:lnTo>
                  <a:pt x="21600" y="6079"/>
                </a:lnTo>
                <a:lnTo>
                  <a:pt x="15099" y="12158"/>
                </a:lnTo>
                <a:lnTo>
                  <a:pt x="15099" y="7343"/>
                </a:lnTo>
                <a:lnTo>
                  <a:pt x="12427" y="7343"/>
                </a:lnTo>
                <a:arcTo wR="9899" hR="4817" stAng="16200000" swAng="-5400000"/>
                <a:lnTo>
                  <a:pt x="2528" y="21600"/>
                </a:lnTo>
                <a:close/>
              </a:path>
            </a:pathLst>
          </a:custGeom>
          <a:solidFill>
            <a:srgbClr val="ff3300"/>
          </a:solidFill>
          <a:ln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rot="5400000">
            <a:off x="5676840" y="3695760"/>
            <a:ext cx="533520" cy="761760"/>
          </a:xfrm>
          <a:custGeom>
            <a:avLst/>
            <a:gdLst>
              <a:gd name="textAreaLeft" fmla="*/ 0 w 533520"/>
              <a:gd name="textAreaRight" fmla="*/ 533880 w 533520"/>
              <a:gd name="textAreaTop" fmla="*/ 0 h 761760"/>
              <a:gd name="textAreaBottom" fmla="*/ 762120 h 7617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7345" stAng="10800000" swAng="5400000"/>
                <a:lnTo>
                  <a:pt x="15099" y="4815"/>
                </a:lnTo>
                <a:lnTo>
                  <a:pt x="15099" y="0"/>
                </a:lnTo>
                <a:lnTo>
                  <a:pt x="21600" y="6079"/>
                </a:lnTo>
                <a:lnTo>
                  <a:pt x="15099" y="12158"/>
                </a:lnTo>
                <a:lnTo>
                  <a:pt x="15099" y="7343"/>
                </a:lnTo>
                <a:lnTo>
                  <a:pt x="12427" y="7343"/>
                </a:lnTo>
                <a:arcTo wR="9899" hR="4817" stAng="16200000" swAng="-5400000"/>
                <a:lnTo>
                  <a:pt x="2528" y="21600"/>
                </a:lnTo>
                <a:close/>
              </a:path>
            </a:pathLst>
          </a:custGeom>
          <a:solidFill>
            <a:srgbClr val="ff3300"/>
          </a:solidFill>
          <a:ln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rot="5400000">
            <a:off x="6895800" y="4533840"/>
            <a:ext cx="533160" cy="762120"/>
          </a:xfrm>
          <a:custGeom>
            <a:avLst/>
            <a:gdLst>
              <a:gd name="textAreaLeft" fmla="*/ 0 w 533160"/>
              <a:gd name="textAreaRight" fmla="*/ 533520 w 53316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7345" stAng="10800000" swAng="5400000"/>
                <a:lnTo>
                  <a:pt x="15099" y="4815"/>
                </a:lnTo>
                <a:lnTo>
                  <a:pt x="15099" y="0"/>
                </a:lnTo>
                <a:lnTo>
                  <a:pt x="21600" y="6079"/>
                </a:lnTo>
                <a:lnTo>
                  <a:pt x="15099" y="12158"/>
                </a:lnTo>
                <a:lnTo>
                  <a:pt x="15099" y="7343"/>
                </a:lnTo>
                <a:lnTo>
                  <a:pt x="12427" y="7343"/>
                </a:lnTo>
                <a:arcTo wR="9899" hR="4817" stAng="16200000" swAng="-5400000"/>
                <a:lnTo>
                  <a:pt x="2528" y="21600"/>
                </a:lnTo>
                <a:close/>
              </a:path>
            </a:pathLst>
          </a:custGeom>
          <a:solidFill>
            <a:srgbClr val="ff3300"/>
          </a:solidFill>
          <a:ln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rot="5400000">
            <a:off x="8038440" y="5295600"/>
            <a:ext cx="533520" cy="762120"/>
          </a:xfrm>
          <a:custGeom>
            <a:avLst/>
            <a:gdLst>
              <a:gd name="textAreaLeft" fmla="*/ 0 w 533520"/>
              <a:gd name="textAreaRight" fmla="*/ 533880 w 53352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7345" stAng="10800000" swAng="5400000"/>
                <a:lnTo>
                  <a:pt x="15099" y="4815"/>
                </a:lnTo>
                <a:lnTo>
                  <a:pt x="15099" y="0"/>
                </a:lnTo>
                <a:lnTo>
                  <a:pt x="21600" y="6079"/>
                </a:lnTo>
                <a:lnTo>
                  <a:pt x="15099" y="12158"/>
                </a:lnTo>
                <a:lnTo>
                  <a:pt x="15099" y="7343"/>
                </a:lnTo>
                <a:lnTo>
                  <a:pt x="12427" y="7343"/>
                </a:lnTo>
                <a:arcTo wR="9899" hR="4817" stAng="16200000" swAng="-5400000"/>
                <a:lnTo>
                  <a:pt x="2528" y="21600"/>
                </a:lnTo>
                <a:close/>
              </a:path>
            </a:pathLst>
          </a:custGeom>
          <a:solidFill>
            <a:srgbClr val="ff3300"/>
          </a:solidFill>
          <a:ln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3d7a"/>
                </a:solidFill>
                <a:latin typeface="Times New Roman"/>
              </a:rPr>
              <a:t>¿Qué es Gestión?</a:t>
            </a: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erie de actividades que exigen un orden para alcanzar una meta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Proceso permanente, ininterrumpido y sistemático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676520" y="3809880"/>
            <a:ext cx="5866560" cy="2666880"/>
            <a:chOff x="1676520" y="3809880"/>
            <a:chExt cx="5866560" cy="2666880"/>
          </a:xfrm>
        </p:grpSpPr>
        <p:sp>
          <p:nvSpPr>
            <p:cNvPr id="96" name=""/>
            <p:cNvSpPr/>
            <p:nvPr/>
          </p:nvSpPr>
          <p:spPr>
            <a:xfrm>
              <a:off x="2278080" y="4106160"/>
              <a:ext cx="4663440" cy="2074320"/>
            </a:xfrm>
            <a:prstGeom prst="ellipse">
              <a:avLst/>
            </a:prstGeom>
            <a:noFill/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632400" y="4847040"/>
              <a:ext cx="1805040" cy="74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5b5249"/>
                  </a:solidFill>
                  <a:latin typeface="Arial"/>
                </a:rPr>
                <a:t>FUNCIONES</a:t>
              </a:r>
              <a:endParaRPr b="0" lang="en-US" sz="14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5b5249"/>
                  </a:solidFill>
                  <a:latin typeface="Arial"/>
                </a:rPr>
                <a:t>DE</a:t>
              </a:r>
              <a:endParaRPr b="0" lang="en-US" sz="14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5b5249"/>
                  </a:solidFill>
                  <a:latin typeface="Arial"/>
                </a:rPr>
                <a:t>GESTION</a:t>
              </a:r>
              <a:endParaRPr b="0" lang="en-US" sz="1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782520" y="3809880"/>
              <a:ext cx="1504080" cy="592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5b5249"/>
                  </a:solidFill>
                  <a:latin typeface="Arial"/>
                </a:rPr>
                <a:t>PLANIFICAR</a:t>
              </a:r>
              <a:endParaRPr b="0" lang="en-US" sz="1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039000" y="4847040"/>
              <a:ext cx="1504080" cy="592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5b5249"/>
                  </a:solidFill>
                  <a:latin typeface="Arial"/>
                </a:rPr>
                <a:t>IMPLEMENTAR</a:t>
              </a:r>
              <a:endParaRPr b="0" lang="en-US" sz="1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782520" y="5884200"/>
              <a:ext cx="1504080" cy="592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5b5249"/>
                  </a:solidFill>
                  <a:latin typeface="Arial"/>
                </a:rPr>
                <a:t>COMPROBAR</a:t>
              </a:r>
              <a:endParaRPr b="0" lang="en-US" sz="1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676520" y="4847040"/>
              <a:ext cx="1504080" cy="592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5b5249"/>
                  </a:solidFill>
                  <a:latin typeface="Arial"/>
                </a:rPr>
                <a:t>ACTUAR</a:t>
              </a:r>
              <a:endParaRPr b="0" lang="en-US" sz="1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40920" y="4550760"/>
              <a:ext cx="150120" cy="296280"/>
            </a:xfrm>
            <a:prstGeom prst="line">
              <a:avLst/>
            </a:prstGeom>
            <a:ln w="9360">
              <a:solidFill>
                <a:srgbClr val="c0c0c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>
              <a:off x="3481560" y="4106160"/>
              <a:ext cx="300600" cy="148320"/>
            </a:xfrm>
            <a:prstGeom prst="line">
              <a:avLst/>
            </a:prstGeom>
            <a:ln w="9360">
              <a:solidFill>
                <a:srgbClr val="c0c0c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>
              <a:off x="5286240" y="6032520"/>
              <a:ext cx="300600" cy="147600"/>
            </a:xfrm>
            <a:prstGeom prst="line">
              <a:avLst/>
            </a:prstGeom>
            <a:ln w="9360">
              <a:solidFill>
                <a:srgbClr val="c0c0c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 flipV="1">
              <a:off x="2428560" y="5439600"/>
              <a:ext cx="150120" cy="296280"/>
            </a:xfrm>
            <a:prstGeom prst="line">
              <a:avLst/>
            </a:prstGeom>
            <a:ln w="9360">
              <a:solidFill>
                <a:srgbClr val="c0c0c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3d7a"/>
                </a:solidFill>
                <a:latin typeface="Times New Roman"/>
              </a:rPr>
              <a:t>Gestión Ambiental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5b5249"/>
                </a:solidFill>
                <a:latin typeface="Times New Roman"/>
              </a:rPr>
              <a:t>Herramienta con que cuenta la empresa para coordinar las funciones y tareas con el fin de alcanzar las metas ambientales propuestas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5b5249"/>
                </a:solidFill>
                <a:latin typeface="Times New Roman"/>
              </a:rPr>
              <a:t>Parte integral de la gestión global de una empresa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1523880" y="3657600"/>
            <a:ext cx="6477120" cy="3052800"/>
            <a:chOff x="1523880" y="3657600"/>
            <a:chExt cx="6477120" cy="3052800"/>
          </a:xfrm>
        </p:grpSpPr>
        <p:sp>
          <p:nvSpPr>
            <p:cNvPr id="109" name=""/>
            <p:cNvSpPr/>
            <p:nvPr/>
          </p:nvSpPr>
          <p:spPr>
            <a:xfrm>
              <a:off x="1927080" y="3935520"/>
              <a:ext cx="5543640" cy="2585880"/>
            </a:xfrm>
            <a:prstGeom prst="ellipse">
              <a:avLst/>
            </a:prstGeom>
            <a:noFill/>
            <a:ln w="57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144680" y="3657600"/>
              <a:ext cx="1108080" cy="462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5b5249"/>
                  </a:solidFill>
                  <a:latin typeface="Arial"/>
                </a:rPr>
                <a:t>Planificación Estratégica</a:t>
              </a:r>
              <a:endParaRPr b="0" lang="en-US" sz="12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523880" y="5043600"/>
              <a:ext cx="1108080" cy="461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5b5249"/>
                  </a:solidFill>
                  <a:latin typeface="Arial"/>
                </a:rPr>
                <a:t>Planificación de Negocios</a:t>
              </a:r>
              <a:endParaRPr b="0" lang="en-US" sz="12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664320" y="4951440"/>
              <a:ext cx="1336680" cy="45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5b5249"/>
                  </a:solidFill>
                  <a:latin typeface="Arial"/>
                </a:rPr>
                <a:t>Planificación para la Acción</a:t>
              </a:r>
              <a:endParaRPr b="0" lang="en-US" sz="12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038480" y="6248520"/>
              <a:ext cx="1341360" cy="461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5b5249"/>
                  </a:solidFill>
                  <a:latin typeface="Arial"/>
                </a:rPr>
                <a:t>Planificación de Contingencia</a:t>
              </a:r>
              <a:endParaRPr b="0" lang="en-US" sz="12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809880" y="5105520"/>
              <a:ext cx="16956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5b5249"/>
                  </a:solidFill>
                  <a:latin typeface="Arial"/>
                </a:rPr>
                <a:t>Sistemas de Gestión Corporativos</a:t>
              </a:r>
              <a:endParaRPr b="0" lang="en-US" sz="12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043160" y="4303800"/>
              <a:ext cx="1443240" cy="3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5b5249"/>
                  </a:solidFill>
                  <a:latin typeface="Arial"/>
                </a:rPr>
                <a:t>Seguridad y Salud Ocupacional</a:t>
              </a:r>
              <a:endParaRPr b="0" lang="en-US" sz="12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352840" y="4673880"/>
              <a:ext cx="1311480" cy="27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5b5249"/>
                  </a:solidFill>
                  <a:latin typeface="Arial"/>
                </a:rPr>
                <a:t>Gestión Financiera</a:t>
              </a:r>
              <a:endParaRPr b="0" lang="en-US" sz="12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051160" y="5781960"/>
              <a:ext cx="1309680" cy="27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5b5249"/>
                  </a:solidFill>
                  <a:latin typeface="Arial"/>
                </a:rPr>
                <a:t>Gestión Productiva</a:t>
              </a:r>
              <a:endParaRPr b="0" lang="en-US" sz="12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136680" y="5781960"/>
              <a:ext cx="1309680" cy="27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5b5249"/>
                  </a:solidFill>
                  <a:latin typeface="Arial"/>
                </a:rPr>
                <a:t>Gestión de Calidad</a:t>
              </a:r>
              <a:endParaRPr b="0" lang="en-US" sz="12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531880" y="4673880"/>
              <a:ext cx="1386000" cy="27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5b5249"/>
                  </a:solidFill>
                  <a:latin typeface="Arial"/>
                </a:rPr>
                <a:t>Gestión Ambiental</a:t>
              </a:r>
              <a:endParaRPr b="0" lang="en-US" sz="12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>
              <a:off x="3943080" y="5505480"/>
              <a:ext cx="301680" cy="27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151240" y="5505480"/>
              <a:ext cx="201600" cy="27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5454360" y="4951440"/>
              <a:ext cx="503280" cy="27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 flipV="1">
              <a:off x="3438360" y="4951440"/>
              <a:ext cx="504720" cy="27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4748040" y="4673520"/>
              <a:ext cx="0" cy="36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2a3d7a"/>
                </a:solidFill>
                <a:latin typeface="Times New Roman"/>
              </a:rPr>
              <a:t>Objetivos de la Gestión Ambiental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45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5b5249"/>
                </a:solidFill>
                <a:latin typeface="Times New Roman"/>
              </a:rPr>
              <a:t>Minimizar los impactos ambientales negativos que provocan los aspectos ambientales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5b5249"/>
                </a:solidFill>
                <a:latin typeface="Times New Roman"/>
              </a:rPr>
              <a:t>Objetivos específicos (importantes en minería):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b5249"/>
                </a:solidFill>
                <a:latin typeface="Times New Roman"/>
              </a:rPr>
              <a:t>Minimizar riesgos de la salud de las personas (trabajadores y/o terceros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b5249"/>
                </a:solidFill>
                <a:latin typeface="Times New Roman"/>
              </a:rPr>
              <a:t>Minimizar riesgos de la calidad del medio ambiente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b5249"/>
                </a:solidFill>
                <a:latin typeface="Times New Roman"/>
              </a:rPr>
              <a:t>Asegurar estabilidad física y química de los residuos en el largo plazo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3d7a"/>
                </a:solidFill>
                <a:latin typeface="Times New Roman"/>
              </a:rPr>
              <a:t>Gestión Eficiente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spcBef>
                <a:spcPts val="700"/>
              </a:spcBef>
              <a:spcAft>
                <a:spcPts val="1049"/>
              </a:spcAft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Re</a:t>
            </a:r>
            <a:r>
              <a:rPr b="0" lang="es-E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quiere enfoque integral </a:t>
            </a:r>
            <a:r>
              <a:rPr b="0" lang="es-ES_tradnl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buscan</a:t>
            </a:r>
            <a:r>
              <a:rPr b="0" lang="es-E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d</a:t>
            </a:r>
            <a:r>
              <a:rPr b="0" lang="es-ES_tradnl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o</a:t>
            </a:r>
            <a:r>
              <a:rPr b="0" lang="es-E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una real minimización de los impactos en todos los componentes del medio ambiente,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 algn="just">
              <a:spcBef>
                <a:spcPts val="601"/>
              </a:spcBef>
              <a:spcAft>
                <a:spcPts val="901"/>
              </a:spcAft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Evitar</a:t>
            </a:r>
            <a:r>
              <a:rPr b="0" lang="es-ES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transferir problemas de un componente a otro</a:t>
            </a:r>
            <a:r>
              <a:rPr b="0" lang="es-ES_tradnl" sz="2400" spc="-1" strike="noStrike">
                <a:solidFill>
                  <a:srgbClr val="5b5249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spcBef>
                <a:spcPts val="700"/>
              </a:spcBef>
              <a:spcAft>
                <a:spcPts val="1049"/>
              </a:spcAft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5b5249"/>
                </a:solidFill>
                <a:latin typeface="Times New Roman"/>
              </a:rPr>
              <a:t>Las empresas mineras deben adoptar una actitud: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 algn="just">
              <a:spcBef>
                <a:spcPts val="601"/>
              </a:spcBef>
              <a:spcAft>
                <a:spcPts val="901"/>
              </a:spcAft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b5249"/>
                </a:solidFill>
                <a:latin typeface="Times New Roman"/>
              </a:rPr>
              <a:t>Proactiva</a:t>
            </a:r>
            <a:r>
              <a:rPr b="0" lang="es-ES_tradnl" sz="2400" spc="-1" strike="noStrike">
                <a:solidFill>
                  <a:srgbClr val="5b5249"/>
                </a:solidFill>
                <a:latin typeface="Times New Roman"/>
              </a:rPr>
              <a:t>, </a:t>
            </a:r>
            <a:r>
              <a:rPr b="0" lang="es-ES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en busca de una mejora constante de su desempeño ambiental</a:t>
            </a:r>
            <a:r>
              <a:rPr b="0" lang="es-ES_tradnl" sz="2400" spc="-1" strike="noStrike">
                <a:solidFill>
                  <a:srgbClr val="5b5249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 algn="just">
              <a:spcBef>
                <a:spcPts val="601"/>
              </a:spcBef>
              <a:spcAft>
                <a:spcPts val="901"/>
              </a:spcAft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b5249"/>
                </a:solidFill>
                <a:latin typeface="Times New Roman"/>
              </a:rPr>
              <a:t>Precautiva</a:t>
            </a:r>
            <a:r>
              <a:rPr b="0" lang="es-ES_tradnl" sz="2400" spc="-1" strike="noStrike">
                <a:solidFill>
                  <a:srgbClr val="5b5249"/>
                </a:solidFill>
                <a:latin typeface="Times New Roman"/>
              </a:rPr>
              <a:t>, </a:t>
            </a:r>
            <a:r>
              <a:rPr b="0" lang="es-ES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minimizando en lo posible todo tipo de riesgo</a:t>
            </a:r>
            <a:r>
              <a:rPr b="0" lang="es-ES_tradnl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que podrían presentar los residuos y emisiones</a:t>
            </a:r>
            <a:r>
              <a:rPr b="0" lang="es-ES_tradnl" sz="2400" spc="-1" strike="noStrike">
                <a:solidFill>
                  <a:srgbClr val="5b5249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2a3d7a"/>
                </a:solidFill>
                <a:latin typeface="Times New Roman"/>
              </a:rPr>
              <a:t>Sistema de Gestión Ambiental (SGA)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5b5249"/>
                </a:solidFill>
                <a:latin typeface="Times New Roman"/>
              </a:rPr>
              <a:t>Sistema a través del cual la empresa controla actividades, productos y procesos que causan (o podrían causar) impacto ambiental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5b5249"/>
                </a:solidFill>
                <a:latin typeface="Times New Roman"/>
              </a:rPr>
              <a:t>Constituyen un procedimiento formal para el desarrollo de la gestión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 algn="just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b5249"/>
                </a:solidFill>
                <a:latin typeface="Times New Roman"/>
              </a:rPr>
              <a:t>Se basan en el mejoramiento continuo (ligado a Calidad Total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 algn="just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b5249"/>
                </a:solidFill>
                <a:latin typeface="Times New Roman"/>
              </a:rPr>
              <a:t>Se introducen estándares internacional: ISO 14.000 (ISO 14.001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 algn="just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b5249"/>
                </a:solidFill>
                <a:latin typeface="Times New Roman"/>
              </a:rPr>
              <a:t>Es de carácter voluntario y se aplica a cualquier organización que desee mejorar su actuación medioambiental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2a3d7a"/>
                </a:solidFill>
                <a:latin typeface="Times New Roman"/>
              </a:rPr>
              <a:t>Requisitos para implementar un SGA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77240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5b5249"/>
                </a:solidFill>
                <a:latin typeface="Times New Roman"/>
              </a:rPr>
              <a:t>Compromiso de mejora continua (Gerencia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5b5249"/>
                </a:solidFill>
                <a:latin typeface="Times New Roman"/>
              </a:rPr>
              <a:t>Esencial para implementar un SGA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5b5249"/>
                </a:solidFill>
                <a:latin typeface="Times New Roman"/>
              </a:rPr>
              <a:t>Se incorpora la variable ambiental en la toma de decisiones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5b5249"/>
                </a:solidFill>
                <a:latin typeface="Times New Roman"/>
              </a:rPr>
              <a:t>Requerimiento básico para comenzar un cambio rea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5b5249"/>
                </a:solidFill>
                <a:latin typeface="Times New Roman"/>
              </a:rPr>
              <a:t>Se asignan recurso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5b5249"/>
                </a:solidFill>
                <a:latin typeface="Times New Roman"/>
              </a:rPr>
              <a:t>Obligación de cumplir con la legislación ambiental vigent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990720" y="3048120"/>
            <a:ext cx="3200400" cy="3429000"/>
          </a:xfrm>
          <a:custGeom>
            <a:avLst/>
            <a:gdLst/>
            <a:ahLst/>
            <a:rect l="l" t="t" r="r" b="b"/>
            <a:pathLst>
              <a:path w="1968" h="2160">
                <a:moveTo>
                  <a:pt x="624" y="2160"/>
                </a:moveTo>
                <a:lnTo>
                  <a:pt x="0" y="2160"/>
                </a:lnTo>
                <a:lnTo>
                  <a:pt x="0" y="0"/>
                </a:lnTo>
                <a:lnTo>
                  <a:pt x="1968" y="0"/>
                </a:lnTo>
              </a:path>
            </a:pathLst>
          </a:custGeom>
          <a:noFill/>
          <a:ln w="9360">
            <a:solidFill>
              <a:srgbClr val="5b524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6400440" y="3048120"/>
            <a:ext cx="1143000" cy="0"/>
          </a:xfrm>
          <a:prstGeom prst="line">
            <a:avLst/>
          </a:prstGeom>
          <a:ln w="12600">
            <a:solidFill>
              <a:srgbClr val="5b5249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745720" y="1600200"/>
            <a:ext cx="2852280" cy="459720"/>
          </a:xfrm>
          <a:prstGeom prst="rect">
            <a:avLst/>
          </a:pr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Times New Roman"/>
              </a:rPr>
              <a:t>Organización Inicial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282120" y="2438280"/>
            <a:ext cx="17064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Times New Roman"/>
              </a:rPr>
              <a:t>Diagnóstico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280320" y="4267080"/>
            <a:ext cx="18770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Times New Roman"/>
              </a:rPr>
              <a:t>Planificación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362320" y="5181480"/>
            <a:ext cx="41367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Times New Roman"/>
              </a:rPr>
              <a:t>Implementación y Operación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603800" y="6172200"/>
            <a:ext cx="51962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Times New Roman"/>
              </a:rPr>
              <a:t>Medición y Evaluación del Desempeño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191120" y="2057400"/>
            <a:ext cx="0" cy="304920"/>
          </a:xfrm>
          <a:prstGeom prst="line">
            <a:avLst/>
          </a:prstGeom>
          <a:ln w="93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191120" y="2895480"/>
            <a:ext cx="0" cy="381240"/>
          </a:xfrm>
          <a:prstGeom prst="line">
            <a:avLst/>
          </a:prstGeom>
          <a:ln w="93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191120" y="3809880"/>
            <a:ext cx="0" cy="381240"/>
          </a:xfrm>
          <a:prstGeom prst="line">
            <a:avLst/>
          </a:prstGeom>
          <a:ln w="93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91120" y="4724280"/>
            <a:ext cx="0" cy="381240"/>
          </a:xfrm>
          <a:prstGeom prst="line">
            <a:avLst/>
          </a:prstGeom>
          <a:ln w="93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191120" y="5638680"/>
            <a:ext cx="0" cy="457200"/>
          </a:xfrm>
          <a:prstGeom prst="line">
            <a:avLst/>
          </a:prstGeom>
          <a:ln w="93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80880" y="4232160"/>
            <a:ext cx="1447920" cy="580680"/>
          </a:xfrm>
          <a:prstGeom prst="rect">
            <a:avLst/>
          </a:prstGeom>
          <a:solidFill>
            <a:srgbClr val="ffff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b5249"/>
                </a:solidFill>
                <a:latin typeface="Times New Roman"/>
              </a:rPr>
              <a:t>Revisión y Mejoramiento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543800" y="2374920"/>
            <a:ext cx="1219320" cy="4483080"/>
          </a:xfrm>
          <a:prstGeom prst="rect">
            <a:avLst/>
          </a:prstGeom>
          <a:solidFill>
            <a:srgbClr val="ffff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Times New Roman"/>
              </a:rPr>
              <a:t>Etapas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Times New Roman"/>
              </a:rPr>
              <a:t>de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Times New Roman"/>
              </a:rPr>
              <a:t>un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Times New Roman"/>
              </a:rPr>
              <a:t>SGA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525680" y="3276720"/>
            <a:ext cx="51382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Times New Roman"/>
              </a:rPr>
              <a:t>Declaración de La Política Ambiental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2a3d7a"/>
                </a:solidFill>
                <a:latin typeface="Times New Roman"/>
              </a:rPr>
              <a:t>Implementación y Operación de SGA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6400440" y="6705720"/>
            <a:ext cx="1143000" cy="0"/>
          </a:xfrm>
          <a:prstGeom prst="line">
            <a:avLst/>
          </a:prstGeom>
          <a:ln w="12600">
            <a:solidFill>
              <a:srgbClr val="5b5249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3d7a"/>
                </a:solidFill>
                <a:latin typeface="Times New Roman"/>
              </a:rPr>
              <a:t>Ventajas de Implementar un SGA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Beneficios para el MA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Beneficios para la empresa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Ahorro de costos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Aumentar eficiencia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Mayores oportunidades de mercado (competitividad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Cumplir con la legislación y regulaciones ambientales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Cumplir con exigencias de clientes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Mejorar relaciones con terceros (grupos interesados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Mejor comunicación con empleados (motivación y compromiso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6T19:33:39Z</dcterms:created>
  <dc:creator>Ingrid  Rozas</dc:creator>
  <dc:description/>
  <dc:language>en-US</dc:language>
  <cp:lastModifiedBy>ING. Minas </cp:lastModifiedBy>
  <dcterms:modified xsi:type="dcterms:W3CDTF">2004-09-28T14:12:06Z</dcterms:modified>
  <cp:revision>291</cp:revision>
  <dc:subject/>
  <dc:title>PROGRAMAS DE COOPERACION</dc:title>
</cp:coreProperties>
</file>