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172-9CFF-43A6-ACC2-174E35F1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76A-6FB2-4384-BA89-AEA556E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EB5-18C3-4F89-8F71-9D1F9135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B19-1172-49AD-BAFE-D4441690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2D92-5A39-4D5C-AF97-C4B9B779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DF8B-4B27-4172-AD97-34D065DB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0F0A-7247-4535-9B9C-B05C0B4B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84F-30A6-4A47-BAC8-1AD1452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77E-36CD-4F37-8CEB-B633FCB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15D-9B54-43FB-8878-BCE7AEF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EE6-B29D-4221-AB19-C1C8990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345-DE49-431E-A949-2574BB59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BA35-0A59-4557-BE72-1CAFE0C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D085-CF89-41E9-B9A1-DD71EC6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3ADA-8A08-4981-8A3E-2C2FD48F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1620-4012-4FA0-A759-08D3E622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DE4-A052-45BB-9EBC-65DCC7F3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B91-E61E-42A2-9299-BBEB77F4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99C-84C7-496B-A611-3F1E85D2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15A-7E04-4942-A4FB-A19D15B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441-4CD2-48C1-ADAF-6232AAA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5D2-EB42-45DE-88C3-D868435A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8E3-AD33-4115-AE60-F2D401D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A9A-1CC9-4639-9309-F16AB425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1A3-DABE-4898-AF3D-AECD5161AAA0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577-08DA-4C6B-B029-4F124BA9D6B1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2a3d7a"/>
                </a:solidFill>
                <a:latin typeface="Times New Roman"/>
              </a:rPr>
              <a:t>Certificación del SG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sobre el Sistema de Gestión y no sobre la actuac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o es obligatoria (en algunos casos no conlleva beneficios para la empres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uditoría se realiza sobre 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roceso de certificación y la entrega del certificado lo realiza un agente externo (instituciones certificadoras, acreditad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realizan evaluaciones periódicas d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¿Qué implica contar con un certificado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Prueba de la evaluación y aceptación de un profesional independiente y acredita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Es un sello al compromiso para mejorar continuamente en beneficio del medio ambi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Beneficioso para conseguir establecer contratos (comerciales, gubernamentales, etc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Símbolo visible ante la comunida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Etapas para la Certificación ISO 14.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680" y="2057400"/>
            <a:ext cx="3368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elimin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00" y="2819520"/>
            <a:ext cx="4206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vis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1920" y="3581280"/>
            <a:ext cx="2775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Inic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6320" y="4419720"/>
            <a:ext cx="315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incip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040" y="5257800"/>
            <a:ext cx="3449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(registr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44280" y="5943600"/>
            <a:ext cx="16606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695040" y="20952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685760" y="285732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676840" y="3695760"/>
            <a:ext cx="533520" cy="761760"/>
          </a:xfrm>
          <a:custGeom>
            <a:avLst/>
            <a:gdLst>
              <a:gd name="textAreaLeft" fmla="*/ 0 w 533520"/>
              <a:gd name="textAreaRight" fmla="*/ 533880 w 533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895800" y="4533840"/>
            <a:ext cx="533160" cy="762120"/>
          </a:xfrm>
          <a:custGeom>
            <a:avLst/>
            <a:gdLst>
              <a:gd name="textAreaLeft" fmla="*/ 0 w 533160"/>
              <a:gd name="textAreaRight" fmla="*/ 533520 w 53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8038440" y="52956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¿Qué es Gestión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rie de actividades que exigen un orden para alcanzar una met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permanente, ininterrumpido y sistemát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520" y="3809880"/>
            <a:ext cx="5866560" cy="2666880"/>
            <a:chOff x="1676520" y="3809880"/>
            <a:chExt cx="5866560" cy="2666880"/>
          </a:xfrm>
        </p:grpSpPr>
        <p:sp>
          <p:nvSpPr>
            <p:cNvPr id="96" name=""/>
            <p:cNvSpPr/>
            <p:nvPr/>
          </p:nvSpPr>
          <p:spPr>
            <a:xfrm>
              <a:off x="2278080" y="4106160"/>
              <a:ext cx="4663440" cy="20743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2400" y="4847040"/>
              <a:ext cx="18050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FUNCIONES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DE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2520" y="380988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b5249"/>
                  </a:solidFill>
                  <a:latin typeface="Arial"/>
                </a:rPr>
                <a:t>PLANIFIC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900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IMPLEMENT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2520" y="588420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COMPROB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ACTU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920" y="455076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481560" y="4106160"/>
              <a:ext cx="300600" cy="1483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86240" y="6032520"/>
              <a:ext cx="300600" cy="1476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428560" y="543960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Herramienta con que cuenta la empresa para coordinar las funciones y tareas con el fin de alcanzar las metas ambientales propuest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Parte integral de la gestión global de un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3657600"/>
            <a:ext cx="6477120" cy="3052800"/>
            <a:chOff x="1523880" y="3657600"/>
            <a:chExt cx="6477120" cy="3052800"/>
          </a:xfrm>
        </p:grpSpPr>
        <p:sp>
          <p:nvSpPr>
            <p:cNvPr id="109" name=""/>
            <p:cNvSpPr/>
            <p:nvPr/>
          </p:nvSpPr>
          <p:spPr>
            <a:xfrm>
              <a:off x="1927080" y="3935520"/>
              <a:ext cx="5543640" cy="258588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4680" y="3657600"/>
              <a:ext cx="110808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Estratégic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5043600"/>
              <a:ext cx="11080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Negoci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4320" y="4951440"/>
              <a:ext cx="13366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para la Acció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248520"/>
              <a:ext cx="13413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Contingenci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5105520"/>
              <a:ext cx="1695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istemas de Gestión Corporativ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3160" y="4303800"/>
              <a:ext cx="144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eguridad y Salud Ocupacion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4673880"/>
              <a:ext cx="13114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Financier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116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Productiv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668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de Calidad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1880" y="4673880"/>
              <a:ext cx="1386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5b5249"/>
                  </a:solidFill>
                  <a:latin typeface="Arial"/>
                </a:rPr>
                <a:t>Gestión Ambient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943080" y="5505480"/>
              <a:ext cx="3016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51240" y="5505480"/>
              <a:ext cx="2016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54360" y="495144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438360" y="4951440"/>
              <a:ext cx="504720" cy="27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48040" y="4673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Objetivos de la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Minimizar los impactos ambientales negativos que provocan los aspecto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Objetivos específicos (importantes en minería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salud de las personas (trabajadores y/o tercer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calidad del medio ambi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Asegurar estabilidad física y química de los residuos en el largo plaz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Eficient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uiere enfoque integral 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usca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una real minimización de los impactos en todos los componentes del medio ambient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r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ransferir problemas de un componente a otr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Las empresas mineras deben adoptar una actitu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oac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busca de una mejora constante de su desempeño ambiental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ecau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ndo en lo posible todo tipo de riesg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podrían presentar los residuos y emisiones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Sistema de Gestión Ambiental (SGA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a través del cual la empresa controla actividades, productos y procesos que causan (o podrían causar)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onstituyen un procedimiento formal para el desarrollo de la gest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basan en el mejoramiento continuo (ligado a Calidad Tota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introducen estándares internacional: ISO 14.000 (ISO 14.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s de carácter voluntario y se aplica a cualquier organización que desee mejorar su actuación medio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Requisitos para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Compromiso de mejora continua (Gerencia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sencial para implementar u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incorpora la variable ambiental en la toma de decisio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querimiento básico para comenzar un cambio re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asignan 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Obligación de cumplir con la legislación ambiental vig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5720" y="1600200"/>
            <a:ext cx="285228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3800" y="617220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327672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Ventajas de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el 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la empre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horro de cos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umentar eficienc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yores oportunidades de mercado (competitivida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la legislación y regulacione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exigencias de clien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ar relaciones con terceros (grupos interesad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 comunicación con empleados (motivación y compromis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28T14:12:06Z</dcterms:modified>
  <cp:revision>291</cp:revision>
  <dc:subject/>
  <dc:title>PROGRAMAS DE COOPERACION</dc:title>
</cp:coreProperties>
</file>