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CE0-7C5C-485C-8D06-866463C2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C7C-DFF9-4193-BE15-A0F17E60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86B-050C-4801-A59B-23C34286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BFC-9812-482F-AF27-C10BB572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9C11-A496-48A7-B58B-BA987124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D00-B821-4169-BBBB-F2E5D38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5BEC-70DB-4D1C-A79B-62E483C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8A8F-F94B-4B7E-8114-1E2774B5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10E5-EA20-4E5B-9B79-ED61C6F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638-FBF1-471E-BA2C-9376EBC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B913-A48D-469C-9C21-DEFD056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214-72BC-4EF7-AE76-BFB0288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480-36AD-434F-BF5C-7A8D2FB4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98EE-6C84-4AB5-9A8B-F05B697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519-A550-4F42-904C-8C92EFE5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4E8-830E-4039-958A-21EB087B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F83-73CE-41FB-9B97-FF74671D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FEA-578D-49FC-8334-A49D949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D93-8A82-49D8-AA23-6671CFE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789-C9FF-4A2C-B1E6-2EE0A513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ED5-0711-43D5-B1F5-F3A836FE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E75-AA0A-402D-9061-594BCE2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F37-418F-4373-BA48-D5B636D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264-C860-43B3-B61C-9A19C34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952A-C471-4FE5-9427-90381B292107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B50-BB54-4272-9DF2-8A78D08AA146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a3d7a"/>
                </a:solidFill>
                <a:latin typeface="Times New Roman"/>
              </a:rPr>
              <a:t>Certificación del SG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sobre el Sistema de Gestión y no sobre la actuación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No es obligatoria (en algunos casos no conlleva beneficios para la empres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Auditoría se realiza sobre 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proceso de certificación y la entrega del certificado lo realiza un agente externo (instituciones certificadoras, acreditad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realizan evaluaciones periódicas del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¿Qué implica contar con un certificado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Prueba de la evaluación y aceptación de un profesional independiente y acredita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Es un sello al compromiso para mejorar continuamente en beneficio del medio ambi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Beneficioso para conseguir establecer contratos (comerciales, gubernamentales, etc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Símbolo visible ante la comunida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Etapas para la Certificación ISO 14.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680" y="2057400"/>
            <a:ext cx="3368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elimin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2819520"/>
            <a:ext cx="4206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vis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1920" y="3581280"/>
            <a:ext cx="2775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Inic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6320" y="4419720"/>
            <a:ext cx="315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valuación Princip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040" y="5257800"/>
            <a:ext cx="3449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ertificación (registr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4280" y="5943600"/>
            <a:ext cx="16606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695040" y="20952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685760" y="285732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676840" y="3695760"/>
            <a:ext cx="533520" cy="761760"/>
          </a:xfrm>
          <a:custGeom>
            <a:avLst/>
            <a:gdLst>
              <a:gd name="textAreaLeft" fmla="*/ 0 w 533520"/>
              <a:gd name="textAreaRight" fmla="*/ 533880 w 533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895800" y="4533840"/>
            <a:ext cx="533160" cy="762120"/>
          </a:xfrm>
          <a:custGeom>
            <a:avLst/>
            <a:gdLst>
              <a:gd name="textAreaLeft" fmla="*/ 0 w 533160"/>
              <a:gd name="textAreaRight" fmla="*/ 533520 w 53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038440" y="529560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45" stAng="10800000" swAng="5400000"/>
                <a:lnTo>
                  <a:pt x="15099" y="4815"/>
                </a:lnTo>
                <a:lnTo>
                  <a:pt x="15099" y="0"/>
                </a:lnTo>
                <a:lnTo>
                  <a:pt x="21600" y="6079"/>
                </a:lnTo>
                <a:lnTo>
                  <a:pt x="15099" y="12158"/>
                </a:lnTo>
                <a:lnTo>
                  <a:pt x="15099" y="7343"/>
                </a:lnTo>
                <a:lnTo>
                  <a:pt x="12427" y="7343"/>
                </a:lnTo>
                <a:arcTo wR="9899" hR="4817" stAng="16200000" swAng="-5400000"/>
                <a:lnTo>
                  <a:pt x="2528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¿Qué es Gestión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rie de actividades que exigen un orden para alcanzar una met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permanente, ininterrumpido y sistemátic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3809880"/>
            <a:ext cx="5866560" cy="2666880"/>
            <a:chOff x="1676520" y="3809880"/>
            <a:chExt cx="5866560" cy="2666880"/>
          </a:xfrm>
        </p:grpSpPr>
        <p:sp>
          <p:nvSpPr>
            <p:cNvPr id="96" name=""/>
            <p:cNvSpPr/>
            <p:nvPr/>
          </p:nvSpPr>
          <p:spPr>
            <a:xfrm>
              <a:off x="2278080" y="4106160"/>
              <a:ext cx="4663440" cy="20743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2400" y="4847040"/>
              <a:ext cx="18050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FUNCION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DE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b5249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2520" y="380988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b5249"/>
                  </a:solidFill>
                  <a:latin typeface="Arial"/>
                </a:rPr>
                <a:t>PLANIFIC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900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IMPLEMENT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2520" y="588420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COMPROB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847040"/>
              <a:ext cx="150408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5b5249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920" y="455076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481560" y="4106160"/>
              <a:ext cx="300600" cy="1483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286240" y="6032520"/>
              <a:ext cx="300600" cy="1476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28560" y="5439600"/>
              <a:ext cx="150120" cy="296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Herramienta con que cuenta la empresa para coordinar las funciones y tareas con el fin de alcanzar las metas ambientales propuest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Times New Roman"/>
              </a:rPr>
              <a:t>Parte integral de la gestión global de una empres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3657600"/>
            <a:ext cx="6477120" cy="3052800"/>
            <a:chOff x="1523880" y="3657600"/>
            <a:chExt cx="6477120" cy="3052800"/>
          </a:xfrm>
        </p:grpSpPr>
        <p:sp>
          <p:nvSpPr>
            <p:cNvPr id="109" name=""/>
            <p:cNvSpPr/>
            <p:nvPr/>
          </p:nvSpPr>
          <p:spPr>
            <a:xfrm>
              <a:off x="1927080" y="3935520"/>
              <a:ext cx="5543640" cy="258588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4680" y="3657600"/>
              <a:ext cx="110808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Estratégic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5043600"/>
              <a:ext cx="110808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Negoci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4320" y="4951440"/>
              <a:ext cx="13366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para la Acción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6248520"/>
              <a:ext cx="13413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Planificación de Contingenci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9880" y="5105520"/>
              <a:ext cx="1695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istemas de Gestión Corporativ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43160" y="4303800"/>
              <a:ext cx="144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Seguridad y Salud Ocupac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4673880"/>
              <a:ext cx="13114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Financier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116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Productiva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6680" y="5781960"/>
              <a:ext cx="130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5b5249"/>
                  </a:solidFill>
                  <a:latin typeface="Arial"/>
                </a:rPr>
                <a:t>Gestión de Calidad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31880" y="4673880"/>
              <a:ext cx="1386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5b5249"/>
                  </a:solidFill>
                  <a:latin typeface="Arial"/>
                </a:rPr>
                <a:t>Gestión Ambient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943080" y="5505480"/>
              <a:ext cx="3016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51240" y="5505480"/>
              <a:ext cx="201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54360" y="4951440"/>
              <a:ext cx="503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438360" y="4951440"/>
              <a:ext cx="504720" cy="27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48040" y="4673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Objetivos de la Gestión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Minimizar los impactos ambientales negativos que provocan los aspectos ambient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Objetivos específicos (importantes en minería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salud de las personas (trabajadores y/o tercer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Minimizar riesgos de la calidad del medio ambi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Asegurar estabilidad física y química de los residuos en el largo plaz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Gestión Eficient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uiere enfoque integral 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sca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una real minimización de los impactos en todos los componentes del medio ambiente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itar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ransferir problemas de un componente a otr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Las empresas mineras deben adoptar una actitud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oac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busca de una mejora constante de su desempeño ambiental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601"/>
              </a:spcBef>
              <a:spcAft>
                <a:spcPts val="901"/>
              </a:spcAft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recautiva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nimizando en lo posible todo tipo de riesgo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que podrían presentar los residuos y emisiones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Sistema de Gestión Ambiental (SGA)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a través del cual la empresa controla actividades, productos y procesos que causan (o podrían causar) impacto ambiental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onstituyen un procedimiento formal para el desarrollo de la gest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basan en el mejoramiento continuo (ligado a Calidad Tota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Se introducen estándares internacional: ISO 14.000 (ISO 14.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Es de carácter voluntario y se aplica a cualquier organización que desee mejorar su actuación medio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Requisitos para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Compromiso de mejora continua (Gerencia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sencial para implementar u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incorpora la variable ambiental en la toma de decisio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Requerimiento básico para comenzar un cambio re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e asignan 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b5249"/>
                </a:solidFill>
                <a:latin typeface="Times New Roman"/>
              </a:rPr>
              <a:t>Obligación de cumplir con la legislación ambiental vig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3048120"/>
            <a:ext cx="3200400" cy="342900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5b52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00440" y="30481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5720" y="1600200"/>
            <a:ext cx="2852280" cy="459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2120" y="243828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80320" y="426708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18148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3800" y="617220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56386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23216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74920"/>
            <a:ext cx="12193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327672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Implementación y Operación de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440" y="6705720"/>
            <a:ext cx="1143000" cy="0"/>
          </a:xfrm>
          <a:prstGeom prst="line">
            <a:avLst/>
          </a:prstGeom>
          <a:ln w="12600">
            <a:solidFill>
              <a:srgbClr val="5b524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Ventajas de Implementar un SG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el 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neficios para la empre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horro de cos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umentar eficienc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yores oportunidades de mercado (competitivida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la legislación y regulacione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mplir con exigencias de clien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ar relaciones con terceros (grupos interesado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jor comunicación con empleados (motivación y compromis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28T14:12:06Z</dcterms:modified>
  <cp:revision>291</cp:revision>
  <dc:subject/>
  <dc:title>PROGRAMAS DE COOPERACION</dc:title>
</cp:coreProperties>
</file>