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39A-6C30-4073-9983-8F0C708A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BCA-F60E-4BCE-B709-9F7532A0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F36-52D9-49E9-8A46-FEB8068D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669-3EE4-4C3A-92AB-B03C977F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722D-E3DB-41ED-A518-50820FD6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15E3-4E55-42EC-9C20-40670126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5E5-B026-44A0-A7FF-AAC6069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6B86-22E5-44C0-BF4F-C3EE9B50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D58-752C-4152-ADA0-EF44B4DC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79DC-CBC0-45AD-929A-450560EE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3798-2693-4E96-A213-8209D3B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73C-7429-4449-B50A-F1F69A49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455-F990-47BE-AD64-392620F3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933C-F28B-4F5E-AAD6-AC53320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24D5-741D-4A69-AAB2-4469740B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2111-B90A-4FBF-AC2C-81CB39FC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D747-826D-4725-9CFB-5113B624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107-6DD6-4F7D-AAF2-FD2E861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CBD-D8B8-47C7-BB4C-4FF66D20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2C8-7647-4DF8-8BF4-30D2050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BF4-2E5F-429E-BFD8-B9D32CC9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652-0810-44E2-B91D-32F16E3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5E0-4A0A-4575-8B24-9E61460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21A-5AF6-4581-8F8C-63C6CED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1CC1-80DD-48C0-A0D1-D460AD200BE0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4C35-F6D4-44AF-AFFB-B58DAF1BC003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</a:t>
            </a: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Diseño ambiental de 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proyectos mineros</a:t>
            </a: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Aspectos socio económ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mportante desarrollar el análsis para las distintas etapas del proyecto: construcción, operación, cierre y abandon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Etapas de la planificación miner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Ubicación de la mi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studios previ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vención y control de la contamin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mpactos biofís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spectos socio económ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Monitoreo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ier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are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 por grupos de 2 alumno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parar un informe (apuntes de curso) y una presentación (una cla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íntesis: no basta con un cut and pas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structurar el informe y la pres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eficiente de agua: abastecimiento, calidad (requerimienos según uso), consumo (analizar consumos para distintas operaciones), efluentes líquidos (regulaciones vigentes, tecnologísas de tratamiento), buenas práct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Generación de aguas ácidas: predicción, prevención y control; relaves, botaderos y agua de mina; situación en Chile; buenas práct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Análisis y control de riesgos: definiciones; prevención y contingencia frente a peligros naturales y accidentes; riesgos ambientale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ierre de faenas mineras y rehabilitación: aspectos legales (en Chile y a nivel internacional); cierre por actividad (rajo, botaderos, relaves, etc.); revegetación; buenas prácticas; costos (sistemas de garantías, seguro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onitoreo ambiental: variables medidas; externalización del servicio (ventajas e inconvenientes); aspectos intrumentales; análisis y manejo de datos (sistemas de información geográficos SIG)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omponentes ambient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ire (calidad del aire, ruido y vibracione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gua: disponibilidad y calidad del agua; agua superficial y subterráne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Flora y fau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spectos socio económicos y cultural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mbientales a trat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alidad del aire, ruido y vibr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y calidad de 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onservación de suelos, rehabili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lora y fau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Protección del patrimonio cul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Subside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de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de ries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Aspectos socio económic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alidad del aire, ruido y vibr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olvos y partículas en suspens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Efectos en la salud y en el M.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istintos sistemas de medición (PTS, PM10, PM2,5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actores de emisión: necesidad de validarl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itigación: minimizar las áreas de intervención y las distancias de transpor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uidos y vibr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y calidad de agu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valuar cada proyecto bajo situaciones extremas: precipitaciones y sequí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eriodo de retorno: 100 añ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 de contención (plan de prevención de riesgo y manejo de contigencia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imulación computacional del balance hídric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alidad: sólidos en suspensión – piscina de sedimentación: 200 a 600 m</a:t>
            </a:r>
            <a:r>
              <a:rPr b="0" lang="es-CL" sz="3200" spc="-1" strike="noStrike" baseline="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 / ha intervenida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y calidad de agu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Generación de agua ácida: evaluar el potencial neto de neutralización de los distintos materi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oblema de altas concentraciones de sulfat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eparar los distintos tipos de agu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onservación de suelos, rehabilit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nalizar el potencial de rehabilitación desde el inicio del proyec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onservación de los suelos existen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evegetación: generalmente se trabaja con especies autócton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de residu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dentificación, caracterización y cuantificación de los residu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esiduos peligrosos: nueva regulación; se debe presentar un plan de manejo de estos residu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Definir desde un inicio las áreas de manejo y disposición de los residuos, en particular los residuos mineros masivos (estéril, relave, escorias, ripios de lixiviació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de riesg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nälisis de riesgos: diseñar un plan de prevención y medidas de contigenc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Definir un horizonte (periodo de retorno de eventos extremos) y un nivel de riesgo aceptable (no existe el riesgo cero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Los planes se deben actualizar en base al análisis de accidentes y de los resultados del monitore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Catedra medio ambiente</cp:lastModifiedBy>
  <dcterms:modified xsi:type="dcterms:W3CDTF">2004-09-28T14:36:01Z</dcterms:modified>
  <cp:revision>230</cp:revision>
  <dc:subject/>
  <dc:title>PROGRAMAS DE COOPERACION</dc:title>
</cp:coreProperties>
</file>