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F73-2B75-480C-A980-02804FB2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A55-0B62-4E6A-9628-8415EBE4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257-6320-4EFE-875B-8BC86D59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78E-B418-429E-BAFE-DB7B18E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7B3E-BC94-4554-B5A3-20A7CA6A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8A1C-0616-411A-960F-251BD422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459C-12C5-4821-9C86-E2863EC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908-45E1-4723-A2C8-065D71B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769-913A-4542-873E-8C14AC9C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55FD-CEE1-45EE-B200-4A0732FC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CDD9-AFF1-4A83-AAE6-0CB6B11F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648-2271-48C2-B416-75739FFF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4816-F417-426F-9FFF-C23B051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CB34-9E2D-4B74-950E-A89B59B1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A63F-A2CB-497A-AD71-278B6A96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F49-97C9-4EEC-9039-35A598BE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230-3456-4508-ABEB-0B0A92A6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05C-BD31-4B7F-9B67-A23A0564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8FD-BDA0-40D8-B2E0-5DFE2E20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646-AC05-4F91-B3D9-6B894827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312-C909-4D01-A0F9-26D8D886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316-6113-48BE-AF7C-126BFCE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85A-5EB5-4E09-A102-A42321F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BDB-6D80-4826-A05D-8A9CB48C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0EFD-20A3-42F4-B399-77539346B930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FCB-685E-46E5-B176-52D00C9EC630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Diseño ambiental de 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proyectos mineros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Aspectos socio económ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ortante desarrollar el análsis para las distintas etapas del proyecto: construcción, operación, cierre y abandon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Etapas de la planificación miner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Ubicación de la mi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udios previ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vención y control de la contamin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actos biofís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Monitoreo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ier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are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por grupos de 2 alumno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parar un informe (apuntes de curso) y una presentación (una cla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íntesis: no basta con un cut and pas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ructurar el informe y la pres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eficiente de agua: abastecimiento, calidad (requerimienos según uso), consumo (analizar consumos para distintas operaciones), efluentes líquidos (regulaciones vigentes, tecnologísas de tratamiento),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Generación de aguas ácidas: predicción, prevención y control; relaves, botaderos y agua de mina; situación en Chile;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nálisis y control de riesgos: definiciones; prevención y contingencia frente a peligros naturales y accidentes; riesgos ambiental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ierre de faenas mineras y rehabilitación: aspectos legales (en Chile y a nivel internacional); cierre por actividad (rajo, botaderos, relaves, etc.); revegetación; buenas prácticas; costos (sistemas de garantías, seguro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onitoreo ambiental: variables medidas; externalización del servicio (ventajas e inconvenientes); aspectos intrumentales; análisis y manejo de datos (sistemas de información geográficos SIG)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mponentes ambient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ire (calidad del aire, ruido y vibracione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gua: disponibilidad y calidad del agua; agua superficial y subterráne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 y cultur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mbientales a trat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alidad del aire, ruido y vibr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y calidad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onservación de suelos, rehabili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Protección del patrimonio cul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Subside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i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spectos socio económic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alidad del aire, ruido y vibr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olvos y partículas en suspens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Efectos en la salud y en el M.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istintos sistemas de medición (PTS, PM10, PM2,5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actores de emisión: necesidad de validarl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itigación: minimizar las áreas de intervención y las distancias de 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uidos y vibr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valuar cada proyecto bajo situaciones extremas: precipitaciones y sequí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eriodo de retorno: 100 añ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de contención (plan de prevención de riesgo y manejo de contigencia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imulación computacional del balance hídric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alidad: sólidos en suspensión – piscina de sedimentación: 200 a 600 m</a:t>
            </a:r>
            <a:r>
              <a:rPr b="0" lang="es-CL" sz="3200" spc="-1" strike="noStrike" baseline="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 / ha intervenida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Generación de agua ácida: evaluar el potencial neto de neutralización de los distintos materi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oblema de altas concentraciones de sulfat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eparar los distintos tipos de agu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nservación de suelos, rehabilit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alizar el potencial de rehabilitación desde el inicio del proyec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ervación de los suelos existen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vegetación: generalmente se trabaja con especies autócton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esidu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dentificación, caracterización y cuantificación de l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siduos peligrosos: nueva regulación; se debe presentar un plan de manejo de est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desde un inicio las áreas de manejo y disposición de los residuos, en particular los residuos mineros masivos (estéril, relave, escorias, ripios de lixiviació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iesg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älisis de riesgos: diseñar un plan de prevención y medidas de contigenc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un horizonte (periodo de retorno de eventos extremos) y un nivel de riesgo aceptable (no existe el riesgo cero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Los planes se deben actualizar en base al análisis de accidentes y de los resultados del monitore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Catedra medio ambiente</cp:lastModifiedBy>
  <dcterms:modified xsi:type="dcterms:W3CDTF">2004-09-28T14:36:01Z</dcterms:modified>
  <cp:revision>230</cp:revision>
  <dc:subject/>
  <dc:title>PROGRAMAS DE COOPERACION</dc:title>
</cp:coreProperties>
</file>