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C27-5F2D-4CC8-B209-D1CF8A3C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AE8-6D4D-4295-A9B1-33F65850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511-EC96-4D18-A6F4-34DBFB95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B17-7DB1-4972-B183-6699658E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002F-C639-4D21-860A-76A6A19D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1CEF-CE57-42DB-98A7-B019F3D8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620E-666C-46CA-8C83-FE857728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22F2-5C9F-4131-9E2C-548E828A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4356-ACA5-433B-88DC-AB2DFC17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66C1-A653-4170-9395-58DF2CD6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1B58-8FBD-4964-BCCB-F763FD25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D439-8FB8-41D4-81C3-022E71ED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B16D-0738-443A-8F71-572A867A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1BD3-9D4F-4D29-99CA-4B823B62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69D4-015A-4F7F-94BF-4EF70562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A454-1B4F-4A25-9511-E1F5AF8B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F6C3-5EA0-43D5-8CAD-5E6D5BC4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F57-45D7-426B-9A3E-5B1D304A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227D-3CC7-48EC-805F-41C5E9D0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C7C-6EE7-413B-83CD-04D11322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090-4C28-498F-AC84-8CD0C70C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E01E-FB80-4FC7-BC1E-D590026B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9E6-94E7-4004-A24F-39100511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B5C-056A-4C53-B4EC-4BEEB3E2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9B48-3156-44B3-B003-74C7539F3D1F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0C6D-07A7-4E13-9371-0C9C6A98943B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</a:t>
            </a:r>
            <a:r>
              <a:rPr b="1" lang="es-CL" sz="3600" spc="-1" strike="noStrike">
                <a:solidFill>
                  <a:srgbClr val="5b5249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5b5249"/>
                </a:solidFill>
                <a:latin typeface="Times New Roman"/>
              </a:rPr>
              <a:t>Diseño ambiental de </a:t>
            </a: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proyectos mineros</a:t>
            </a:r>
            <a:r>
              <a:rPr b="1" lang="es-CL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Aspectos socio económ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Importante desarrollar el análsis para las distintas etapas del proyecto: construcción, operación, cierre y abandon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Etapas de la planificación miner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Ubicación de la min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Estudios previ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Construc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revención y control de la contamin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Impactos biofísic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spectos socio económic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Monitoreo ambi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Cier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Tareas a desarrolla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Trabajo por grupos de 2 alumno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reparar un informe (apuntes de curso) y una presentación (una clas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Síntesis: no basta con un cut and past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Estructurar el informe y la present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Temas a desarrolla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anejo eficiente de agua: abastecimiento, calidad (requerimienos según uso), consumo (analizar consumos para distintas operaciones), efluentes líquidos (regulaciones vigentes, tecnologísas de tratamiento), buenas práctic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Generación de aguas ácidas: predicción, prevención y control; relaves, botaderos y agua de mina; situación en Chile; buenas práctic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Análisis y control de riesgos: definiciones; prevención y contingencia frente a peligros naturales y accidentes; riesgos ambientales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Temas a desarrolla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Cierre de faenas mineras y rehabilitación: aspectos legales (en Chile y a nivel internacional); cierre por actividad (rajo, botaderos, relaves, etc.); revegetación; buenas prácticas; costos (sistemas de garantías, seguros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onitoreo ambiental: variables medidas; externalización del servicio (ventajas e inconvenientes); aspectos intrumentales; análisis y manejo de datos (sistemas de información geográficos SIG)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Componentes ambiental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ire (calidad del aire, ruido y vibracione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gua: disponibilidad y calidad del agua; agua superficial y subterráne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Suel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Flora y faun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spectos socio económicos y culturale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Temas ambientales a trata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Calidad del aire, ruido y vibra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anejo y calidad de agu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Conservación de suelos, rehabilit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Flora y faun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Protección del patrimonio cultur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Subsidenc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anejo de residu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anejo de riesg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Aspectos socio económic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Calidad del aire, ruido y vibracio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olvos y partículas en suspens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Efectos en la salud y en el M.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Distintos sistemas de medición (PTS, PM10, PM2,5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Factores de emisión: necesidad de validarl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itigación: minimizar las áreas de intervención y las distancias de transpor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Ruidos y vibracio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Manejo y calidad de agu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Evaluar cada proyecto bajo situaciones extremas: precipitaciones y sequí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eriodo de retorno: 100 añ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Trabajo de contención (plan de prevención de riesgo y manejo de contigencia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Simulación computacional del balance hídric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Calidad: sólidos en suspensión – piscina de sedimentación: 200 a 600 m</a:t>
            </a:r>
            <a:r>
              <a:rPr b="0" lang="es-CL" sz="3200" spc="-1" strike="noStrike" baseline="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 / ha intervenida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Manejo y calidad de agu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Generación de agua ácida: evaluar el potencial neto de neutralización de los distintos materia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roblema de altas concentraciones de sulfat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Separar los distintos tipos de agu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Conservación de suelos, rehabilit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nalizar el potencial de rehabilitación desde el inicio del proyect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Conservación de los suelos existent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Revegetación: generalmente se trabaja con especies autócton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Manejo de residu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Identificación, caracterización y cuantificación de los residu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Residuos peligrosos: nueva regulación; se debe presentar un plan de manejo de estos residu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Definir desde un inicio las áreas de manejo y disposición de los residuos, en particular los residuos mineros masivos (estéril, relave, escorias, ripios de lixiviación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Manejo de riesg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nälisis de riesgos: diseñar un plan de prevención y medidas de contigenci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Definir un horizonte (periodo de retorno de eventos extremos) y un nivel de riesgo aceptable (no existe el riesgo cero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Los planes se deben actualizar en base al análisis de accidentes y de los resultados del monitore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Catedra medio ambiente</cp:lastModifiedBy>
  <dcterms:modified xsi:type="dcterms:W3CDTF">2004-09-28T14:36:01Z</dcterms:modified>
  <cp:revision>230</cp:revision>
  <dc:subject/>
  <dc:title>PROGRAMAS DE COOPERACION</dc:title>
</cp:coreProperties>
</file>