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9D05-D462-4E2D-A3C4-1257C7D8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2DA-060D-443D-B450-08A1B1F9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597-39E0-4FFC-BC1C-CD7998DC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EC7-785F-4318-9C61-7C5BC4CF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7EA9-55E4-4680-8EA5-D50C89FE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0C7B-E6DE-4990-9D24-238D6CFF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9D1D-7A56-4B16-8F2E-84A67D12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E28A-759D-45F8-9BEB-831B5103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46AB-68EF-4467-AE54-B4C2DF56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AFBB-F7ED-4887-A298-0CD384FA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5CCF-3037-489C-8244-81FF1A83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191-15EC-43E2-8F63-3961A99F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7998-F2FD-4C1D-9A41-D6B8D44B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BCB9-FADD-467C-BFD0-70BF4EBD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5ED0-5F2E-49DF-A21B-38982647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E191-954C-4619-973B-9E03890C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D3FB-AFB2-4E6E-BE28-F5CE83F7F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DF6C-8A79-4AF3-ACFD-DAF3A60F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EB4-E9F5-4A6F-A61C-AC8AE4C8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70FD-621F-4396-96F5-925BD908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20A9-F7D8-4AA0-A35D-089D79A9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684E-35E0-45B2-B166-8750962C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84EC-262A-4976-AC66-360DF0EB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014-6937-4CB8-8066-44A7831D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F572-CAD1-482B-8465-755FDA856991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2279-722A-4D4F-8FEE-DD6689581D53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</a:t>
            </a: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Diseño ambiental de </a:t>
            </a: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proyectos mineros</a:t>
            </a:r>
            <a:r>
              <a:rPr b="1" lang="es-CL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Aspectos socio económ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mportante desarrollar el análsis para las distintas etapas del proyecto: construcción, operación, cierre y abandon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Etapas de la planificación miner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Ubicación de la mi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studios previ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onstruc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vención y control de la contamin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mpactos biofís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spectos socio económic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Monitoreo ambient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ier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are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 por grupos de 2 alumno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eparar un informe (apuntes de curso) y una presentación (una clase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íntesis: no basta con un cut and past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structurar el informe y la presenta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eficiente de agua: abastecimiento, calidad (requerimienos según uso), consumo (analizar consumos para distintas operaciones), efluentes líquidos (regulaciones vigentes, tecnologísas de tratamiento), buenas práct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Generación de aguas ácidas: predicción, prevención y control; relaves, botaderos y agua de mina; situación en Chile; buenas práct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Análisis y control de riesgos: definiciones; prevención y contingencia frente a peligros naturales y accidentes; riesgos ambientales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 desarroll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ierre de faenas mineras y rehabilitación: aspectos legales (en Chile y a nivel internacional); cierre por actividad (rajo, botaderos, relaves, etc.); revegetación; buenas prácticas; costos (sistemas de garantías, seguro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onitoreo ambiental: variables medidas; externalización del servicio (ventajas e inconvenientes); aspectos intrumentales; análisis y manejo de datos (sistemas de información geográficos SIG)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omponentes ambiental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ire (calidad del aire, ruido y vibracione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gua: disponibilidad y calidad del agua; agua superficial y subterráne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Flora y faun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spectos socio económicos y culturale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Temas ambientales a trata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alidad del aire, ruido y vibracion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y calidad de agu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Conservación de suelos, rehabilit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lora y faun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Protección del patrimonio cultu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Transpor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Subsidenc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de residu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anejo de riesg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Aspectos socio económic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alidad del aire, ruido y vibr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olvos y partículas en suspens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Efectos en la salud y en el M.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Distintos sistemas de medición (PTS, PM10, PM2,5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Factores de emisión: necesidad de validarl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b5249"/>
                </a:solidFill>
                <a:latin typeface="Times New Roman"/>
              </a:rPr>
              <a:t>Mitigación: minimizar las áreas de intervención y las distancias de transpor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uidos y vibracion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y calidad de agu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Evaluar cada proyecto bajo situaciones extremas: precipitaciones y sequí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eriodo de retorno: 100 añ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Trabajo de contención (plan de prevención de riesgo y manejo de contigencias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imulación computacional del balance hídric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alidad: sólidos en suspensión – piscina de sedimentación: 200 a 600 m</a:t>
            </a:r>
            <a:r>
              <a:rPr b="0" lang="es-CL" sz="3200" spc="-1" strike="noStrike" baseline="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 / ha intervenida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y calidad de agu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Generación de agua ácida: evaluar el potencial neto de neutralización de los distintos materia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Problema de altas concentraciones de sulfat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Separar los distintos tipos de agu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Conservación de suelos, rehabilit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nalizar el potencial de rehabilitación desde el inicio del proyect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Conservación de los suelos existen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evegetación: generalmente se trabaja con especies autócton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de residu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Identificación, caracterización y cuantificación de los residu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Residuos peligrosos: nueva regulación; se debe presentar un plan de manejo de estos residuo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Definir desde un inicio las áreas de manejo y disposición de los residuos, en particular los residuos mineros masivos (estéril, relave, escorias, ripios de lixiviación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2a3d7a"/>
                </a:solidFill>
                <a:latin typeface="Times New Roman"/>
              </a:rPr>
              <a:t>Manejo de riesg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Anälisis de riesgos: diseñar un plan de prevención y medidas de contigenci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Definir un horizonte (periodo de retorno de eventos extremos) y un nivel de riesgo aceptable (no existe el riesgo cero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5b5249"/>
                </a:solidFill>
                <a:latin typeface="Times New Roman"/>
              </a:rPr>
              <a:t>Los planes se deben actualizar en base al análisis de accidentes y de los resultados del monitoreo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Catedra medio ambiente</cp:lastModifiedBy>
  <dcterms:modified xsi:type="dcterms:W3CDTF">2004-09-28T14:36:01Z</dcterms:modified>
  <cp:revision>230</cp:revision>
  <dc:subject/>
  <dc:title>PROGRAMAS DE COOPERACION</dc:title>
</cp:coreProperties>
</file>