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C5CC-243C-4DE5-B510-5A9A78CBE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B8C5-94A5-4C4F-8C89-0C755659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A1AD-DD30-42DD-A40F-650818D4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A55-4D6F-4526-8880-D76ED5124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1967-D259-49B2-9649-EDE29FDC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D00E-4225-489A-8CDA-DD985C45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5EFA-8BD4-4B3C-8CEA-CE171071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D03C-5A4D-4132-8E2B-461F9B81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114F7-FF81-4322-9E39-5ED3DA9E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C329-AEF7-4F3B-A376-BF9C3E53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C7FBF-EE10-4DCB-8F0F-88832F8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DA1-B7C0-4562-BB9D-84E88EE4C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C06C-845D-4FA8-A6D7-AACEC903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B508-1D7F-48CC-9562-D05AE505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9FFA9-79E0-4616-9100-43D8B602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14C9-739D-4529-A1DD-481674827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DF6D8-8B8B-4A57-A549-151F1EDF3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0F8-8C61-4046-93D8-79CF8FE2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2057-CF25-4769-9BBC-C0A84FE0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FE2D-BE27-40D9-8960-4707F5C1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2F2-9670-42B9-8660-B459D9CB5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6BC-2E8C-4176-ABFB-36E8ED27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EA7-9218-4B88-9468-E72607C2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B8BF-56A5-4E83-BE28-5C172E5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51DC-33C7-480A-B761-C7633C41791A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9355-CEE7-4532-8125-A481856C16C6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Evaluación de impacto ambiental  en proyectos minero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Identificación y evaluación de impa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dentific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Objetivo: establecer relaciones entre las distintas etapas y operaciones del proyecto y los distintos medios susceptibles de estar afectad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n general, se trabaja en una matriz de impact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racteriz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ntensidad:  moderado, severo, crític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Frecuencia: permanente, temporal, periódico, irregular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babilidad de ocurrencia: alta, media, baj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versibilidad - irreversibilidad 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aluación y cuantificación de impa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Medidas de mitiga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mitig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tienen por finalidad evitar o disminuir los efectos adversos del proyecto o actividad, cualquiera sea su fase de ejecu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que evitan o disminuyen el efecto adverso significativo mediante la no ejecución de una obra o una acción o de alguna de sus par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que minimizan o disminuyen el efecto adverso significativo mediante una adecuada limitación o reducción de la magnitud o duración de la obra o acción, o a través de la implementación de medidas específicas.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2a3d7a"/>
                </a:solidFill>
                <a:latin typeface="Times New Roman"/>
              </a:rPr>
              <a:t>Medidas de reparación y de compensación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reparación y/o restauración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 por finalidad reponer uno o más de los componentes o elementos del medio ambiente a una calidad similar a la que tenían con anterioridad al daño causado o, en caso de no ser posible, restablecer sus propiedades básic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compensación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producir o generar un efecto positivo alternativo y equivalente a un efecto adverso identificado. Reemplazo o sustitución de los recursos naturales o elementos del medio ambiente afectado por otros de similares características, clase, naturaleza y calidad..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Prevención y control de riesg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i se deducen eventuales situaciones de riesgos al medio ambiente, se deberá proponer medidas de prevención de riesgo y control de accident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evención de riesgo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evitar que aparezcan efectos desfavorables en la población o en el medi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s  </a:t>
            </a:r>
            <a:r>
              <a:rPr b="1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edidas de control de accidentes 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ienen por finalidad permitir la intervención eficaz en los sucesos que alteren el desarrollo normal de un proyecto o actividad en tanto pueden causar daños a la vida, a la salud humana o al medio ambi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atmosférica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bjetivos de las medidas de mitigació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ducir la emisión de contaminan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itar la dispersión no controlada de los contaminantes (emisiones fugitivas)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batir los contaminantes en las emisiones controlad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segurar una buena dispersar los contaminantes en forma controlad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atmosférica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Medidas y métodos de tratamient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uración de gases y vapores: lavadores húmedos, reacciones químicas catalizadas, etc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uración de partículas sólidas y líquidas: cámaras de sedimentación, ciclones, precipitadores electrostáticos, filtros, lavadores húmed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ducción de emisiones dispersas de polvos: riego con agua, etabilizantes químicos, láminas filtrantes, pantallas, recogida selectiva de polvos, revegetación, lavado de vehículos, modificación de emplazamiento, confinamiento, cambio de sistemas de manipulación y transporte. 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de las agu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0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bjetivos de las medidas de mitigación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vitar la generación de contaminant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imitar la dispersión de los contaminantes que se genera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batir los contaminantes presentes en agu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eparar las fases contaminantes</a:t>
            </a: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Contaminación de las agua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Arial Unicode MS"/>
                <a:ea typeface="Arial Unicode MS"/>
              </a:rPr>
              <a:t>Medidas y métodos de tratamiento</a:t>
            </a: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Recirculación y reuso de las aguas de proceso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ntrol de la generación de aguas ácidas por disposición adecuada de los residuos miner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Sistemas de decantación de sólidos en supensión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ntrol de pH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olectores y filtros coalescedores para la remoción de aceites y orgánic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Flotación por aire disuelto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Floculación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Tratamientos químicos y biológico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Antecedentes gener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Nombre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Identificación del titul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Objetivo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ocalización: según coordenadas geográficas y según división político-administrativ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finición de las partes del proyec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onto estimado de la invers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Vida úti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cripción cronológica de las etapa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levanta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 y obras necesarias para la recolección de da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constr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 y requerimientos necesarios para la materialización de las obras físicas del proyect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oper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cciones, obras y requerimient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cesos unitarios y global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Materias prim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ductos finales e intermedio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Descripción del proyec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tapa de cierr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ciones, obras y medidas que implementará el titular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jo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: generalmente, la aprobación del EIA queda condicionada a la presentación de planes de cierre; el cierre de faenas mineras está regulado a través del reglamento de seguridad minera (SERNAGEOMIN)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En los contenidos exigidos para los EIA en la descripción del proyecto, se distinguen las siguientes etapa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evantamiento de información de terreno (exploración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struc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peració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ierre y/o abandon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133360"/>
            <a:ext cx="7772400" cy="40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Explorac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Geología y Muestre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onstrucción de caminos y plataformas para sond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Sondaj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úneles y calicata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pam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Construc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tratación 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pam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amin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Aducción agu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moción de sobrecarga/inicio de mina subterráne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lant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 de relav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lnSpc>
                <a:spcPct val="90000"/>
              </a:lnSpc>
              <a:spcBef>
                <a:spcPts val="64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sporte materi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00600" y="2101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pósito de estéri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sporte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eite y combustib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eact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xplos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centrad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ampam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Desechos domésticos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21016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Operac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tratación person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ajo/mina subterráne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lanta procesador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Generación de energ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boratorio Químic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aller de manten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echos industria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 de relav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Etapas de un proyecto minero e impactos asociados</a:t>
            </a:r>
            <a:r>
              <a:rPr b="1" lang="es-E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5b5249"/>
                </a:solidFill>
                <a:uFillTx/>
                <a:latin typeface="Times New Roman"/>
                <a:ea typeface="Arial Unicode MS"/>
              </a:rPr>
              <a:t>Cierre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ese de activida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Desmantelamiento de la plant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Tranqu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Rajo/mina subterráne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Botader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09-09T14:20:06Z</dcterms:modified>
  <cp:revision>224</cp:revision>
  <dc:subject/>
  <dc:title>PROGRAMAS DE COOPERACION</dc:title>
</cp:coreProperties>
</file>