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497-BCF2-49D5-982C-B17348D1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E731-CF8B-4D83-8DB3-E234C769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827-76D2-4A6E-8710-1A8332D7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579-0103-4C17-986D-0C9B5DDF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1638-19A5-4160-9743-BF946210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F1F2-FAC1-42BE-B5A7-758FF785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8CFE-0427-4D8F-978F-6503D91C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63B2-115F-49EF-A043-0735721D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31BF-5DEE-4E26-93B8-C9264693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DCA3-8745-4C73-AC2E-403F31C6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70FF-EC58-4FDB-9484-C94A74D2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3020-30CB-4467-9702-B68C52A8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0738-8457-4D86-A28D-E4CC4402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3B1A-7CB1-4678-80EE-013B68AE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B73C-CABE-499F-9BDF-EC5377C4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8957-9C41-4EA9-83BB-1A938017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582A-5751-4480-8AA6-29291C40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B65E-215E-4D21-B05A-9A09B74C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1B06-6476-4C93-BE6C-3027C501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17D-8715-4D09-921B-C244294B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A3F8-4A13-4ADD-898F-8053E6A2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D968-6182-4686-A5B3-042E33D1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A2B6-3317-4F10-B85A-DDD81567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94F-768D-4BCE-A129-4B0FA9F8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21A8-90B7-4D1B-A611-2103AEC15840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0BCD-0648-4AC4-AAEF-9D6352C2902F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5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Evaluación de impacto ambiental  en proyectos minero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Identificación y evaluación de impac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Identificación de impa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Objetivo: establecer relaciones entre las distintas etapas y operaciones del proyecto y los distintos medios susceptibles de estar afectado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En general, se trabaja en una matriz de impacto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aracterización de impa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Intensidad:  moderado, severo, crític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Frecuencia: permanente, temporal, periódico, irregular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obabilidad de ocurrencia: alta, media, baj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Reversibilidad - irreversibilidad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Evaluación y cuantificación de impa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edidas de mitiga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s </a:t>
            </a:r>
            <a:r>
              <a:rPr b="1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edidas de mitigació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 tienen por finalidad evitar o disminuir los efectos adversos del proyecto o actividad, cualquiera sea su fase de ejecu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edidas que evitan o disminuyen el efecto adverso significativo mediante la no ejecución de una obra o una acción o de alguna de sus part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edidas que minimizan o disminuyen el efecto adverso significativo mediante una adecuada limitación o reducción de la magnitud o duración de la obra o acción, o a través de la implementación de medidas específicas.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a3d7a"/>
                </a:solidFill>
                <a:latin typeface="Times New Roman"/>
              </a:rPr>
              <a:t>Medidas de reparación y de compensación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s </a:t>
            </a:r>
            <a:r>
              <a:rPr b="1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edidas de reparación y/o restauración 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iene por finalidad reponer uno o más de los componentes o elementos del medio ambiente a una calidad similar a la que tenían con anterioridad al daño causado o, en caso de no ser posible, restablecer sus propiedades básic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s </a:t>
            </a:r>
            <a:r>
              <a:rPr b="1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edidas de compensación 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ienen por finalidad producir o generar un efecto positivo alternativo y equivalente a un efecto adverso identificado. Reemplazo o sustitución de los recursos naturales o elementos del medio ambiente afectado por otros de similares características, clase, naturaleza y calidad..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Prevención y control de riesg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Si se deducen eventuales situaciones de riesgos al medio ambiente, se deberá proponer medidas de prevención de riesgo y control de accidente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s </a:t>
            </a:r>
            <a:r>
              <a:rPr b="1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edidas de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 </a:t>
            </a:r>
            <a:r>
              <a:rPr b="1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evención de riesgo 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ienen por finalidad evitar que aparezcan efectos desfavorables en la población o en el medio ambient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s  </a:t>
            </a:r>
            <a:r>
              <a:rPr b="1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edidas de control de accidentes 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ienen por finalidad permitir la intervención eficaz en los sucesos que alteren el desarrollo normal de un proyecto o actividad en tanto pueden causar daños a la vida, a la salud humana o al medio ambient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Contaminación atmosférica</a:t>
            </a: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Objetivos de las medidas de mitigación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Reducir la emisión de contaminant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Evitar la dispersión no controlada de los contaminantes (emisiones fugitivas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Abatir los contaminantes en las emisiones controlad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Asegurar una buena dispersar los contaminantes en forma controlad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Contaminación atmosférica</a:t>
            </a: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Medidas y métodos de tratamiento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Depuración de gases y vapores: lavadores húmedos, reacciones químicas catalizadas, etc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Depuración de partículas sólidas y líquidas: cámaras de sedimentación, ciclones, precipitadores electrostáticos, filtros, lavadores húmedos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Reducción de emisiones dispersas de polvos: riego con agua, etabilizantes químicos, láminas filtrantes, pantallas, recogida selectiva de polvos, revegetación, lavado de vehículos, modificación de emplazamiento, confinamiento, cambio de sistemas de manipulación y transporte. </a:t>
            </a:r>
            <a:r>
              <a:rPr b="0" lang="es-E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.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Contaminación de las agua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Objetivos de las medidas de mitigación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Evitar la generación de contaminant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imitar la dispersión de los contaminantes que se genera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Abatir los contaminantes presentes en agu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Separar las fases contaminantes</a:t>
            </a:r>
            <a:r>
              <a:rPr b="0" lang="en-US" sz="28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Contaminación de las agua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Arial Unicode MS"/>
                <a:ea typeface="Arial Unicode MS"/>
              </a:rPr>
              <a:t>Medidas y métodos de tratamiento</a:t>
            </a:r>
            <a:r>
              <a:rPr b="0" lang="en-US" sz="28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Recirculación y reuso de las aguas de proceso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Control de la generación de aguas ácidas por disposición adecuada de los residuos mineros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Sistemas de decantación de sólidos en supensión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Control de pH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Colectores y filtros coalescedores para la remoción de aceites y orgánicos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Flotación por aire disuelto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Floculación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Tratamientos químicos y biológicos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Descripción del proyec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Antecedentes genera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Nombre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Identificación del titula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Objetivo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ocalización: según coordenadas geográficas y según división político-administrativ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Definición de las partes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onto estimado de la invers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Vida úti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Descripción cronológica de las etapa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Descripción del proyec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Etapa de levantamien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Acciones y obras necesarias para la recolección de da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Etapa de construc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Acciones y requerimientos necesarios para la materialización de las obras físicas del proyect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Etapa de oper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Acciones, obras y requerimi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ocesos unitarios y globa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aterias prim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oductos finales e intermedi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Descripción del proyec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Etapa de cier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cciones, obras y medidas que implementará el titula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Ojo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: generalmente, la aprobación del EIA queda condicionada a la presentación de planes de cierre; el cierre de faenas mineras está regulado a través del reglamento de seguridad minera (SERNAGEOMIN)</a:t>
            </a: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Etapas de un proyecto minero e impactos asociados</a:t>
            </a: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 los contenidos exigidos para los EIA en la descripción del proyecto, se distinguen las siguientes etapa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evantamiento de información de terreno (exploración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onstruc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per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ierre y/o abandon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Etapas de un proyecto minero e impactos asociados</a:t>
            </a: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Exploración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Geología y Muestre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onstrucción de caminos y plataformas para sondaj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Sondaj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úneles y calicat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ampamen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Etapas de un proyecto minero e impactos asociados</a:t>
            </a: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Construcción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ntratación Personal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ampament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amin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Aducción agu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Remoción de sobrecarga/inicio de mina subterráne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lant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ranque de relav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ransporte material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800600" y="2101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Depósito de estéril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ransporte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ceite y combustibl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Reactiv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Explosiv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ersonal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ncentrad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ampament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esechos domésticos</a:t>
            </a: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Etapas de un proyecto minero e impactos asociados</a:t>
            </a: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1016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Operación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ntratación personal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Rajo/mina subterráne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lanta procesador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Generación de energí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boratorio Químic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aller de manten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Desechos industrial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ranque de relav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Etapas de un proyecto minero e impactos asociados</a:t>
            </a: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Cierre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ese de activida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Desmantelamiento de la plant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ranqu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Rajo/mina subterráne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Botadero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ING. Minas </cp:lastModifiedBy>
  <dcterms:modified xsi:type="dcterms:W3CDTF">2004-09-09T14:20:06Z</dcterms:modified>
  <cp:revision>224</cp:revision>
  <dc:subject/>
  <dc:title>PROGRAMAS DE COOPERACION</dc:title>
</cp:coreProperties>
</file>