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383-ED2B-412E-A75B-B06C4810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FD9-A14A-4B74-A75C-F4E3A369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F36-5FB5-4827-90E3-A8B8352B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D22-C1E2-4D3D-B6C9-7CF9DDCF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499-6200-455B-92A5-A64F13DB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2120-939B-4AC6-8BEA-00F02ED7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6BA-F16B-4E4E-8048-B29CB710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1DBC-B233-463D-9906-0549DED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FADE-A052-4923-8C6B-A017679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AF1-E868-447F-8999-FB95421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9452-882B-4BC1-9F03-2824589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EEA-DB95-4D5B-9E02-C3C3844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0910-3C17-4B8E-97A9-E046CCC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A492-A547-4C2A-8E87-D000884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25A-4742-49CF-8B2C-6E00F40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BE9-6A18-413F-90AF-42B3313D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BDB9-FC5B-4887-BE96-6C088290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8A7-3EEA-49B6-ADA6-FCF285F5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6C8-2573-43CE-975F-8FB5A920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426-CA83-45B8-B6EF-DAA0DD14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A94-2010-4AE2-BFB7-39FB4F4C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320-C854-4D12-A092-DADDD50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5D9-17B9-431F-A61B-4E8DF59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1D9-3CCE-457A-8E38-7E3DBD7D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9A0D-65B4-4A5E-B501-9B12B03E95F7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B8EF-77CE-49D8-899F-B3DFB923B924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Evaluación de impacto ambiental  en proyectos minero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Identificación y evaluación de impa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dentific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Objetivo: establecer relaciones entre las distintas etapas y operaciones del proyecto y los distintos medios susceptibles de estar afectad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n general, se trabaja en una matriz de impact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racteriz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ntensidad:  moderado, severo, crí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Frecuencia: permanente, temporal, periódico, irregular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babilidad de ocurrencia: alta, media, baj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versibilidad - irreversibilidad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aluación y cuantific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didas de mitig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mitig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tienen por finalidad evitar o disminuir los efectos adversos del proyecto o actividad, cualquiera sea su fase de ejecu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que evitan o disminuyen el efecto adverso significativo mediante la no ejecución de una obra o una acción o de alguna de sus par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que minimizan o disminuyen el efecto adverso significativo mediante una adecuada limitación o reducción de la magnitud o duración de la obra o acción, o a través de la implementación de medidas específicas.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a3d7a"/>
                </a:solidFill>
                <a:latin typeface="Times New Roman"/>
              </a:rPr>
              <a:t>Medidas de reparación y de compensación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reparación y/o restauración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 por finalidad reponer uno o más de los componentes o elementos del medio ambiente a una calidad similar a la que tenían con anterioridad al daño causado o, en caso de no ser posible, restablecer sus propiedades bás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compensación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producir o generar un efecto positivo alternativo y equivalente a un efecto adverso identificado. Reemplazo o sustitución de los recursos naturales o elementos del medio ambiente afectado por otros de similares características, clase, naturaleza y calidad..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evención y control de riesg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i se deducen eventuales situaciones de riesgos al medio ambiente, se deberá proponer medidas de prevención de riesgo y control de accident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evención de riesgo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evitar que aparezcan efectos desfavorables en la población o en e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control de accidentes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permitir la intervención eficaz en los sucesos que alteren el desarrollo normal de un proyecto o actividad en tanto pueden causar daños a la vida, a la salud humana o a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atmosférica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bjetivos de las medidas de mitigació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ducir la emisión de contaminan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itar la dispersión no controlada de los contaminantes (emisiones fugitiva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batir los contaminantes en las emisiones controlad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segurar una buena dispersar los contaminantes en forma controlad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atmosférica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Medidas y métodos de tratamient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uración de gases y vapores: lavadores húmedos, reacciones químicas catalizadas, etc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uración de partículas sólidas y líquidas: cámaras de sedimentación, ciclones, precipitadores electrostáticos, filtros, lavadores húmed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ducción de emisiones dispersas de polvos: riego con agua, etabilizantes químicos, láminas filtrantes, pantallas, recogida selectiva de polvos, revegetación, lavado de vehículos, modificación de emplazamiento, confinamiento, cambio de sistemas de manipulación y transporte. 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de las agu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bjetivos de las medidas de mitigació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itar la generación de contaminan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imitar la dispersión de los contaminantes que se genera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batir los contaminantes presentes en agu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eparar las fases contaminantes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de las agu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Arial Unicode MS"/>
                <a:ea typeface="Arial Unicode MS"/>
              </a:rPr>
              <a:t>Medidas y métodos de tratamiento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Recirculación y reuso de las aguas de proces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ntrol de la generación de aguas ácidas por disposición adecuada de los residuos miner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Sistemas de decantación de sólidos en supensión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ntrol de pH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lectores y filtros coalescedores para la remoción de aceites y orgánic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Flotación por aire disuelt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Floculación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Tratamientos químicos y biológic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Antecedentes gener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Nombre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dentificación del titu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Objetivo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ocalización: según coordenadas geográficas y según división político-administr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finición de las part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onto estimado de la invers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Vida út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cripción cronológica de las etap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levanta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 y obras necesarias para la recolección de da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constr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 y requerimientos necesarios para la materialización de las obras físicas del proyect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oper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, obras y requer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cesos unitarios y glob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aterias pri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ductos finales e intermed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cier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ciones, obras y medidas que implementará el titu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j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 generalmente, la aprobación del EIA queda condicionada a la presentación de planes de cierre; el cierre de faenas mineras está regulado a través del reglamento de seguridad minera (SERNAGEOMIN)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los contenidos exigidos para los EIA en la descripción del proyecto, se distinguen las siguientes etapa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evantamiento de información de terreno (exploració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str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per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erre y/o abando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xplorac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Geología y Muest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strucción de caminos y plataformas para sond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ond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úneles y calica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pam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Construc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tratación 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pam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ducción agu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moción de sobrecarga/inicio de mina subterráne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lant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 de relav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sporte materi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00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ósito de estéri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sport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eite y combustib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act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xplo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centr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mpam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sechos doméstico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pera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tratación 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ajo/mina subterráne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lanta procesador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Generación de energ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boratorio Químic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aller de manten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echos industri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 de relav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Cierre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ese de activi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mantelamiento de la plan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ajo/mina subterrán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Botader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09T14:20:06Z</dcterms:modified>
  <cp:revision>224</cp:revision>
  <dc:subject/>
  <dc:title>PROGRAMAS DE COOPERACION</dc:title>
</cp:coreProperties>
</file>