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D75-2BA7-448C-A472-0C90974E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E60-9EC6-48EA-8A59-F25EF7E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88C-4C2B-4B83-A61F-370E0F26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3AD-C142-478B-A943-02A4034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1029-2A71-448A-B154-38352D65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D2E-951C-4BDA-98B7-FC5EA16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0C73-7A29-4E8E-9887-E044CEC4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A5B-284C-4BBC-B4FE-606C4CE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F3B5-C7FF-4DA9-A12C-F5210872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1705-EE91-4741-A975-FC1BB278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A73-6B1C-4790-9855-CF9A24E0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99D-09FC-496F-BA39-53F9D291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3BF0-5671-4B97-BEDF-E8C0187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5B6-6502-4186-A3E7-69AC628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43A6-2AEC-4DE7-8194-14C8D5F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D203-BF36-4A07-9480-8EBE2A4E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4FC2-1E76-40AA-8AEA-838D084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DD3-385D-4C21-9A31-CC07EDBA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C89-F777-4CC8-8FEF-31EDFA1F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AFF-672F-4F9E-BC11-F38EED2A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5C5-0528-4121-9EC1-074310F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182-0689-4534-92F3-CB50966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E50-B3CC-427C-A899-F80D3AA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0C1-20FE-4DF4-A839-BA85BAF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905-75DF-4423-8EA4-5B77DA1714F4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48E7-D1A7-4E5C-8067-436F8EDFE4E8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(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arrollado en 1971 por el Servicio Geológico de U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z para establecer relaciones causa-efecto de acuerdo con las características prop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100 posibles actividades y 88 factores ambientales susceptibles de verse modificados por 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es evaluación sino identificación de los impa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ción de las interacciones existentes, excluyendo filas y columnas vacías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ada celda, marcada con una diagonal, admite 2 valor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gnitud: valoración del impacto o d la alteración potencial a ser provocada; grado, extensión o escala; se coloca en la mitad superior izquierda; se califica 1 al 10 de menor a mayor, anteponiendo el signo (+ o -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mportancia: valor ponderal que da el peso relativo del potencial impacto; hace referencia a la relevancia del impacto y a al extensión de la zona afectada; de 1 a 10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Fuerza a considerar todos los potenciales impac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2 dimensiones: magnitud e importanci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Permite comparación de alternativ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Sirve como resumen de inform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es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ifícil reproducibilidad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toma en cuenta interacciones entre factor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distingue corto y largo pla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Efectos no exclusivos o finales; tomados más de una vez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sarrollado en 1972 para la planificación y gestión de recursos hídricos en U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puede usar con 2 fine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edir impacto de uso de recursos híd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lanificar proyectos con mínimo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basa en una lista de indicadores de impactos: 78 parámetros o factore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Ordenados en 18 componentes ambient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41911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pecies y pobl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ábitat y comunida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siste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ui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io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bjetivos artesan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educ. y cientif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histó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ul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ens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ilos de vi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atelle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grupados en 4 categorías ambiental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logí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esté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de interés huma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Niveles de información progresiv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ategoría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nente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arámetr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 evalúan en unidades comparables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presentan la calidad del medio ambi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ácilmente medibles en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den a las exigenc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bles a nivel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Transformar datos en UIA (unidades de impacto ambiental)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Objetivos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cribir y analizar el proyecto: perturbación que generará 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finir y valorar el medio sobre el que va a tener efectos el proyecto: el objetivo de una EIA consiste en minimizar y/o anular las posibles consecuencias ambientales de los proyec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ever los efectos ambientales generados y evaluarlos para poder juzgar la idoneidad de la ob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terminar medidas minimizadoras, correctoras y compensato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Estructura de oper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cisión de realizar un EIA: exigencia de la legislación vigente o presentación volunta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onstitución de un grupo de trabajo multidisciplinari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structura metodológ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finición del contenido del EI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querimient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decuadas a la identificación de impacto y comparación de op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ficientemente independiente de puntos de vista personales del personal evaluador y sus s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nómico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inco grup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“ad hoc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Técnicas gráficas mediante mapas y superposi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agra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do de metodologías aplicables (complementari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analógicos: se remite a la información de proyectos existentes del mismo tipo; información obtenida en la medición y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: base sistemática y reproduci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 enfocada a decis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nálisis ambiental costo-benefic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pinión de exper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stemas expertos: recoge el conocimientos de expertos en áreas temáticas específicas y de actualidad a través de reglas o experiencias prácticas en entornos de sistemas informá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Índices o indicad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uebas de laboratorios y modelos a escal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pais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visión bibliográf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álculos de balances de mate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 de interacción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udios de cam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perposición de map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otografías y fotomont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l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nt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riesg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strucción de escenar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xtrapolación de tendenci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Listas de cheque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Útiles en la fase de identificación de los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 de componentes o factores ambientales y de actividad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 contenido cambia según el tipo de proyecto y el medio de actu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2 tipos de componentes: ambientales (medio físico, biológico, humano) y del proyecto (actividad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propicia el establecimiento de de los vínculos causa-efecto y generalmente no incluye una interpretación global d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34:12Z</dcterms:modified>
  <cp:revision>218</cp:revision>
  <dc:subject/>
  <dc:title>PROGRAMAS DE COOPERACION</dc:title>
</cp:coreProperties>
</file>