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CF7-6001-4CA6-9008-7E2D668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9AA-2420-4070-AAFC-032B27B1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3D9-DE68-4A6F-BDCB-1D507DB1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822-B4E1-4D41-A87E-F37E5023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165F-781F-4716-99EA-2D5B2389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F4B-5E62-4A03-A507-AC920872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7AD3-3A76-4D6D-B525-BED5CDF0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C7D7-14EB-4370-8D14-A384F55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667-E52A-4C82-BA53-11B3DED9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1CA7-F384-414C-B9A0-9FCC6C0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25D7-0B75-4EB4-9F3F-8D7151A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DF5-23D7-4995-A5DF-B8203FE7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E05-7B98-465F-991E-667DC30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FE87-3DAF-4387-B36E-9548617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9BA0-8170-4B8B-AB1B-5E0F353D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4197-8BB3-4DC1-98FD-B02F4C02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769C-0935-431F-AEAA-97C395AF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46F-9993-4787-ACB4-DBE8EA29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640-8B02-4068-9233-326756D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584-17E4-4196-9B6D-3D7B471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B08-D538-4254-A5A7-64C54EC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B33-9BDF-489D-BE7A-BAC48B7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139-E87E-4C34-9675-9C6495B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7FE-A20C-4434-96CF-0503F00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21EA-2BE6-4BDB-9F42-0C1C95F80023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C35-7974-457C-B398-2E3A4E7B1078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(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arrollado en 1971 por el Servicio Geológico de U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z para establecer relaciones causa-efecto de acuerdo con las características prop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100 posibles actividades y 88 factores ambientales susceptibles de verse modificados por 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es evaluación sino identificación de los impa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ción de las interacciones existentes, excluyendo filas y columnas vacías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ada celda, marcada con una diagonal, admite 2 valor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gnitud: valoración del impacto o d la alteración potencial a ser provocada; grado, extensión o escala; se coloca en la mitad superior izquierda; se califica 1 al 10 de menor a mayor, anteponiendo el signo (+ o -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mportancia: valor ponderal que da el peso relativo del potencial impacto; hace referencia a la relevancia del impacto y a al extensión de la zona afectada; de 1 a 10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Fuerza a considerar todos los potenciales impac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2 dimensiones: magnitud e importanci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Permite comparación de alternativ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Sirve como resumen de inform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es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ifícil reproducibilidad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toma en cuenta interacciones entre factor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distingue corto y largo pla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Efectos no exclusivos o finales; tomados más de una vez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sarrollado en 1972 para la planificación y gestión de recursos hídricos en U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puede usar con 2 fine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edir impacto de uso de recursos híd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lanificar proyectos con mínimo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basa en una lista de indicadores de impactos: 78 parámetros o factore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Ordenados en 18 componentes ambient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41911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pecies y pobl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ábitat y comunida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siste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ui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io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bjetivos artesan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educ. y cientif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histó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ul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ens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ilos de vi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atelle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grupados en 4 categorías ambiental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logí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esté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de interés huma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Niveles de información progresiv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ategoría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nente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arámetr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 evalúan en unidades comparables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presentan la calidad del medio ambi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ácilmente medibles en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den a las exigenc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bles a nivel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Transformar datos en UIA (unidades de impacto ambiental)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Objetivos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cribir y analizar el proyecto: perturbación que generará 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finir y valorar el medio sobre el que va a tener efectos el proyecto: el objetivo de una EIA consiste en minimizar y/o anular las posibles consecuencias ambientales de los proyec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ever los efectos ambientales generados y evaluarlos para poder juzgar la idoneidad de la ob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terminar medidas minimizadoras, correctoras y compensato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Estructura de oper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cisión de realizar un EIA: exigencia de la legislación vigente o presentación volunta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onstitución de un grupo de trabajo multidisciplinari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structura metodológ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finición del contenido del EI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querimient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decuadas a la identificación de impacto y comparación de op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ficientemente independiente de puntos de vista personales del personal evaluador y sus s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nómico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inco grup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“ad hoc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Técnicas gráficas mediante mapas y superposi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agra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do de metodologías aplicables (complementari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analógicos: se remite a la información de proyectos existentes del mismo tipo; información obtenida en la medición y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: base sistemática y reproduci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 enfocada a decis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nálisis ambiental costo-benefic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pinión de exper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stemas expertos: recoge el conocimientos de expertos en áreas temáticas específicas y de actualidad a través de reglas o experiencias prácticas en entornos de sistemas informá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Índices o indicad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uebas de laboratorios y modelos a escal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pais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visión bibliográf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álculos de balances de mate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 de interacción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udios de cam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perposición de map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otografías y fotomont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l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nt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riesg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strucción de escenar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xtrapolación de tendenci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Listas de cheque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Útiles en la fase de identificación de los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 de componentes o factores ambientales y de actividad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 contenido cambia según el tipo de proyecto y el medio de actu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2 tipos de componentes: ambientales (medio físico, biológico, humano) y del proyecto (actividad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propicia el establecimiento de de los vínculos causa-efecto y generalmente no incluye una interpretación global d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34:12Z</dcterms:modified>
  <cp:revision>218</cp:revision>
  <dc:subject/>
  <dc:title>PROGRAMAS DE COOPERACION</dc:title>
</cp:coreProperties>
</file>