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79B-8985-410D-A729-07BF9EF3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5D0-728B-4272-88A8-1918FF7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B18-D318-4480-8596-6F894535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B28-407F-4F9F-B931-52C1FC79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AF6-4AA4-4915-B6A8-CB2F2A7D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101-399D-4BB5-BE7C-D6397FD6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FAB1-9583-4641-B15A-93805F5E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764-9923-4F91-8FAE-DD33B160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B10-0746-415E-99D6-AF05553B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F317-70CC-40E4-A9C5-DE621242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7E60-A2EC-48E3-977B-2F346F2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0FB-2EA2-44E2-A472-446CE6D1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89D-7F8D-45D3-9399-B25751A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29A8-9CF2-4EC6-BBCD-590D88F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F29B-D3E0-4175-AD60-ABC32B57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955F-FBEB-4FD3-9FEF-1F54B42B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3E08-E17A-460E-B060-7686880D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75F-6175-46DD-9D8F-1FADC6B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D39-AE41-49C0-80C8-EF4ACBB5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C57-1C53-4D63-8B79-6E879A2C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C88-8886-4608-8FBC-93C2B15C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CAF-517C-4208-A16F-A95E82B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BAD-6B8E-474E-B895-57578561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FD4-E3ED-4215-B1F1-62BD83E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751E-6327-40FF-803A-922C845110D9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A5E0-FBE4-4165-8C00-484CCCDF8635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(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arrollado en 1971 por el Servicio Geológico de US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z para establecer relaciones causa-efecto de acuerdo con las características prop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100 posibles actividades y 88 factores ambientales susceptibles de verse modificados por 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es evaluación sino identificación de los impa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ción de las interacciones existentes, excluyendo filas y columnas vacías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ada celda, marcada con una diagonal, admite 2 valor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gnitud: valoración del impacto o d la alteración potencial a ser provocada; grado, extensión o escala; se coloca en la mitad superior izquierda; se califica 1 al 10 de menor a mayor, anteponiendo el signo (+ o -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mportancia: valor ponderal que da el peso relativo del potencial impacto; hace referencia a la relevancia del impacto y a al extensión de la zona afectada; de 1 a 10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Leopold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Fuerza a considerar todos los potenciales impac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2 dimensiones: magnitud e importanci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Permite comparación de alternativ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Sirve como resumen de inform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esventajas: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Difícil reproducibilida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toma en cuenta interacciones entre factor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No distingue corto y largo pla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Efectos no exclusivos o finales; tomados más de una vez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sarrollado en 1972 para la planificación y gestión de recursos hídricos en U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puede usar con 2 fine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edir impacto de uso de recursos híd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lanificar proyectos con mínimo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e basa en una lista de indicadores de impactos: 78 parámetros o factore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Ordenados en 18 componentes ambient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41911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pecies y pobl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ábitat y comunida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sistem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 de 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ui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el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io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bjetivos artesan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educ. y cientif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alores histór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ul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ens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ilos de vi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atelle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Agrupados en 4 categorías ambiental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logí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tamin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esté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spectos de interés huma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Niveles de información progresiv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ategoría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ponentes </a:t>
            </a:r>
            <a:r>
              <a:rPr b="0" lang="es-E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arámetr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 evalúan en unidades comparables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étodo de Battelle-Columb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arámetr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presentan la calidad del medio ambi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ácilmente medibles en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den a las exigencia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bles a nivel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Transformar datos en UIA (unidades de impacto ambiental)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Objetivos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scribir y analizar el proyecto: perturbación que generará 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finir y valorar el medio sobre el que va a tener efectos el proyecto: el objetivo de una EIA consiste en minimizar y/o anular las posibles consecuencias ambientales de los proyec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ever los efectos ambientales generados y evaluarlos para poder juzgar la idoneidad de la ob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terminar medidas minimizadoras, correctoras y compensato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Estructura de oper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cisión de realizar un EIA: exigencia de la legislación vigente o presentación volunta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onstitución de un grupo de trabajo multidisciplinari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structura metodológ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Definición del contenido del EI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Requerimient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decuadas a la identificación de impacto y comparación de op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ficientemente independiente de puntos de vista personales del personal evaluador y sus s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conómico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Cinco grupo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“ad hoc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Técnicas gráficas mediante mapas y superposi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agra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do de metodologías aplicables (complementari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étodos analógicos: se remite a la información de proyectos existentes del mismo tipo; información obtenida en la medición y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: base sistemática y reproduci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s de chequeo enfocada a decis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nálisis ambiental costo-benefic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Opinión de expert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stemas expertos: recoge el conocimientos de expertos en áreas temáticas específicas y de actualidad a través de reglas o experiencias prácticas en entornos de sistemas informát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Índices o indicad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uebas de laboratorios y modelos a escal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pais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visión bibliográf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álculos de balances de mate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trices de interacción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todología 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udios de cam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d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perposición de map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otografías y fotomont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l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odelización cuantit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aluación de riesg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nstrucción de escenar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xtrapolación de tendenci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Listas de cheque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Útiles en la fase de identificación de los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ista de componentes o factores ambientales y de actividad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u contenido cambia según el tipo de proyecto y el medio de actu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2 tipos de componentes: ambientales (medio físico, biológico, humano) y del proyecto (actividad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propicia el establecimiento de de los vínculos causa-efecto y generalmente no incluye una interpretación global del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34:12Z</dcterms:modified>
  <cp:revision>218</cp:revision>
  <dc:subject/>
  <dc:title>PROGRAMAS DE COOPERACION</dc:title>
</cp:coreProperties>
</file>