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71C-4A39-45F1-99C0-39F8071E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5C8-BEF3-42E1-A05A-19C98EF6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9FB-4C4B-4C14-8139-060E0D0A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653-03F4-47F5-B2B0-B083440C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B9EC-6F44-4456-A62D-DF98E05C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B3B2-2F51-4EC5-B761-2901B4B0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2DC8-0591-40B8-BFA6-A606AC62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6864-91A6-40D2-AE2D-ED470D8B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CA18-E63A-4780-8621-43393E72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9B0E-4160-4D04-B89B-35F30A9F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EE64-E4A9-4A9C-8AE1-FA099C25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94CA-828E-4039-AE11-7349111E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D7CE-4227-4AD4-B4ED-6BB5BFC2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6683-28EE-4EFB-967C-C9B28DF0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0C5E-8E84-4247-9091-B5521511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E963-763D-4254-8F07-60603F43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A998-839C-4313-95C6-62965B35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0C03-71AC-4A4E-8947-C3F79468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AD9-5701-4789-856A-1262EA36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E14-0947-4F22-AD15-88AA2BE8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E2C-9456-46B2-8253-549B3942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A85-66B2-41F9-AC7A-1E8C4743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02A-88D6-45A4-85C3-8CF28F4D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1F9-D67F-4D3F-9C38-FCFAFD8F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2243-AB5E-444F-9739-9E942BD5BDB8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E5D4-A2E4-4305-8CDE-A0C52DACD1A6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 de Evaluación de Impacto Ambiental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IA: presentación por el Titular del proyecto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5 días para pronunciamiento sobre admisibilidad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10 días para publicación extracto en Diario Oficial y periódico de distribución regio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vío de ejemplares a los organismos y servicios competentes: 30 días para formular observaciones y emitir un pronunciamiento técnico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organizaciones ciudadanas y personas naturales: 60 días desde la publicación en Diario Oficial para formular observaciones y objecione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base a las observaciones, se prepara un documento consolidado remitido al titular del proyecto;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un plazo fijado por la Comisión el titular presenta respuestas en un documento addendum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documento enviado a los que formularon observaciones para su análisis y conformidad en un plazo de 20 día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procedimiento puede repetirs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os organismos y servicios que manifiestan su conformidad envían un informe definitivo y el permiso ambiental correspondient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a comisión prepara un informe técnico enviado a los organismos y servicios que participan en la evaluación del EIA con un plazo de 5 días para su visación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informe pasa a denominarse Informe Técnico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itación de la comisión en un sesión para emitir pronunciamiento sobre aprobación o rechazo del EIA;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índi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resumen (autosuficiente y comprensible para personas no expertas en materias técnic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del proyecto: antecedentes generales, localización, vida útil, descripción cronológica, etapa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l plan de cumplimiento de la legislación ambiental aplicabl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pormenorizada de los efectos que hacen necesarios la presentación de un E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línea de base: descripción del área de influencia del proyecto: medio físico, medio biótico, medio socio-económico, medio construido, uso del medio ambiente (uso de suelo), patrimonio cultural (histórico, arqueológico, etc.), paisaje, áreas de posibles contingencias </a:t>
            </a:r>
            <a:r>
              <a:rPr b="0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uso de procedimientos y metodologías utilizados debe estar debidamente justificado.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predicción y evaluación del impacto, incluidas las eventuales situaciones de riesg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medidas de mitigación, reparación y/o compens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segu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 las acciones realizadas previamente a la presentación del EIA en relación a consultas y/o encuentros con organizaciones ciudadanas o con persona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apéndice con la información documentada de apoy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a D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l tipo de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l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 antecedentes necesarios para determinar si el impacto se ajustará a las normas y que no se requiere un EI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descripción del contenido de los compromisos ambientales voluntarios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 del S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68920" y="471312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581280"/>
            <a:ext cx="484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160020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9640" y="4713120"/>
            <a:ext cx="396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666880"/>
            <a:ext cx="395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5160" y="2690640"/>
            <a:ext cx="396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89640" y="1554120"/>
            <a:ext cx="2877840" cy="9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se encuentra en Artículo 10 de la Ley o en el Artículo 3º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784600"/>
            <a:ext cx="25988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Titular del proyecto o actividad desea someterse voluntariamente al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5760" y="3795840"/>
            <a:ext cx="3980160" cy="92844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presenta o genera algún efecto, característica o circunstancia del Artículo 11 de la Ley o Título II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186520"/>
            <a:ext cx="261792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Estudi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120 días + 6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10120" y="5186520"/>
            <a:ext cx="262440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Declaració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60 días + 3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2514600"/>
            <a:ext cx="0" cy="1314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5520" y="3038400"/>
            <a:ext cx="1452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048120"/>
            <a:ext cx="0" cy="7617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590560" y="1905120"/>
            <a:ext cx="1979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10000" y="1900080"/>
            <a:ext cx="0" cy="758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8964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6892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505320"/>
            <a:ext cx="0" cy="533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048200"/>
            <a:ext cx="1690560" cy="52380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Procedimiento sectorial vigent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yectos que deben someterse al S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que para su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ejecu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modifica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requieren obligatoriamente someterse al SEI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)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ueductos, embalses o tranques y sifon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) Líneas de transmisión eléctricas de alta voltaj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) Centrales generadoras de energía mayores de 3 M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f) Puer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) Proyectos de desarrollo minero, incluidos los de carbón, petróleo y gas, comprendiendo las prospecciones, explotación, plantas procesadores y disposición de residuos y estériles. Extracción industrial de áridos, turba o greda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ductos análogos aquellos conjuntos de canales o tuberías y sus equipos y accesorios, destinados al transporte de sustancias, que unen centros de producción, almacenamiento, tratamiento o disposición, con centros de similares características o con redes de distribu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desarrollo minero aquellas acciones u obras cuyo fin es la extracción o beneficio de uno o más yacimientos mineros, y cuya capacidad de extracción de mineral es superior a cinco mil toneladas (5.000 t) mensua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de saneamiento ambiental, tales como sistemas de alcantarillado y agua potable, plantas de tratamiento de agua o de residuos sólidos de origen domiciliario, rellenos sanitarios, emisarios submarinos, sistemas de tratamiento y disposición de residuos industriales líquidos o sólid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saneamiento ambiental al conjunto de obras, servicios, técnicas, dispositivos o piezas comprendidas en soluciones sanitarias, y que correspondan 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8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stemas de tratamiento y/o disposición de residuos industriales sólidos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9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lantas de tratamiento y/o disposición de residuos peligrosos, incluidos los infeccios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que se realiza o tiene efectos en una sola reg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Regional del Medio Ambiente (COREMA): Intendente, Gobernadores, SEREMI (Secret. Gen. Pres., RREE, Defensa, Economía, Planif., Educación, OP, Salud, Vivienda, Agricultura, Transporte, Bienes Nacionales, Minas), Director Regional CONAM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té Técnico: Director Regional CONAMA, Directores Regionales Servicios Públicos, Gobernador Marítim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e. intenden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en más de una reg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Nacional del Medio Ambiente: Consejo Directivo (presidido por el Ministro Secretario General de la Presidencia e integrado por los otros ministros y director ejecutiv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. presid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29:57Z</dcterms:modified>
  <cp:revision>211</cp:revision>
  <dc:subject/>
  <dc:title>PROGRAMAS DE COOPERACION</dc:title>
</cp:coreProperties>
</file>