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9701-1C75-4D68-AE23-F4C60F126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E1E4-F397-4ED5-9AFF-C691D0AB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E109-46BA-4ACA-81FA-6B92ECE6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2B5F-183F-46FD-A75A-35FEBE1BD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3E86C-5E5D-4B36-BD44-28084A6A4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9AAE-C325-4677-8334-4BE433646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2510E-4064-4595-ABF2-4C625112A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919F-6570-42A4-95C8-C50F42F3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B757C-4035-4A30-9FCF-5CD25E159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04A9C-7AEE-4410-9EAD-5CC3FD0B3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0B23-AF0A-4729-89EA-80A86731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B8A2-45F4-4530-AB09-58383C9F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072B1-FC51-4B3E-AC54-D5E1E3E4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29D1-B7D3-4E60-851A-397EB6DB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91B3D-33DE-4FE9-ABC5-2ED341B6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929F3-43A2-46C0-856A-4DC739866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06292-02B6-4873-ABDA-E98D1AAE3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1426-7EDD-4A9C-ACA8-B725BAA0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43FE-21A3-45F8-9160-D57E30DA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5372-4457-4268-ACC1-77FA40F9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D9D4-5BD3-4FDD-8F88-F0D5A5C0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DC27-C66B-4B77-B7DD-036A01C4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7B692-5DFA-4D37-B497-B0355AE16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E79D-D877-47B6-96BB-92FB0DEF2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3BC9C-AB47-4CAA-9306-7A6D928B0F04}" type="slidenum">
              <a:rPr b="0" lang="es-E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A179-C072-45C2-A917-FD1DE50E98E1}" type="slidenum">
              <a:rPr b="0" lang="es-E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Capítulo 5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5b5249"/>
                </a:solidFill>
                <a:latin typeface="Times New Roman"/>
              </a:rPr>
              <a:t>Sistema de Evaluación de Impacto Ambiental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IA: presentación por el Titular del proyecto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5 días para pronunciamiento sobre admisibilidad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10 días para publicación extracto en Diario Oficial y periódico de distribución regio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vío de ejemplares a los organismos y servicios competentes: 30 días para formular observaciones y emitir un pronunciamiento técnico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organizaciones ciudadanas y personas naturales: 60 días desde la publicación en Diario Oficial para formular observaciones y objecione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34160" indent="-434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base a las observaciones, se prepara un documento consolidado remitido al titular del proyecto;</a:t>
            </a:r>
            <a:r>
              <a:rPr b="0" lang="en-U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n un plazo fijado por la Comisión el titular presenta respuestas en un documento addendum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documento enviado a los que formularon observaciones para su análisis y conformidad en un plazo de 20 días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procedimiento puede repetirs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os organismos y servicios que manifiestan su conformidad envían un informe definitivo y el permiso ambiental correspondiente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la comisión prepara un informe técnico enviado a los organismos y servicios que participan en la evaluación del EIA con un plazo de 5 días para su visación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el informe pasa a denominarse Informe Técnico Final;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25160" indent="-42516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 Unicode MS"/>
                <a:ea typeface="Arial Unicode MS"/>
              </a:rPr>
              <a:t>citación de la comisión en un sesión para emitir pronunciamiento sobre aprobación o rechazo del EIA;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índice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resumen (autosuficiente y comprensible para personas no expertas en materias técnicas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del proyecto: antecedentes generales, localización, vida útil, descripción cronológica, etapas, etc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El plan de cumplimiento de la legislación ambiental aplicabl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descripción pormenorizada de los efectos que hacen necesarios la presentación de un EIA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línea de base: descripción del área de influencia del proyecto: medio físico, medio biótico, medio socio-económico, medio construido, uso del medio ambiente (uso de suelo), patrimonio cultural (histórico, arqueológico, etc.), paisaje, áreas de posibles contingencias </a:t>
            </a:r>
            <a:r>
              <a:rPr b="0" lang="en-US" sz="2800" spc="-1" strike="noStrike">
                <a:solidFill>
                  <a:srgbClr val="5b524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 uso de procedimientos y metodologías utilizados debe estar debidamente justificado.  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-53352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a predicción y evaluación del impacto, incluidas las eventuales situaciones de riesg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533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 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medidas de mitigación, reparación y/o compensación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plan de seguimiento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 las acciones realizadas previamente a la presentación del EIA en relación a consultas y/o encuentros con organizaciones ciudadanas o con persona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Un apéndice con la información documentada de apoyo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Times New Roman"/>
              </a:rPr>
              <a:t>Contendio de una D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l tipo de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descripción del proyecto o actividad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La indicación de antecedentes necesarios para determinar si el impacto se ajustará a las normas y que no se requiere un EI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609480" indent="-609480" algn="just">
              <a:spcBef>
                <a:spcPts val="700"/>
              </a:spcBef>
              <a:buClr>
                <a:srgbClr val="a50021"/>
              </a:buClr>
              <a:buSzPct val="75000"/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La descripción del contenido de los compromisos ambientales voluntarios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cedimiento del SEIA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568920" y="471312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0" y="3581280"/>
            <a:ext cx="48420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1600200"/>
            <a:ext cx="4842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89640" y="4713120"/>
            <a:ext cx="39672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191120" y="2666880"/>
            <a:ext cx="3952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45160" y="2690640"/>
            <a:ext cx="3967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5b5249"/>
                </a:solidFill>
                <a:latin typeface="Arial"/>
              </a:rPr>
              <a:t>SI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89640" y="1554120"/>
            <a:ext cx="2877840" cy="96048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se encuentra en Artículo 10 de la Ley o en el Artículo 3º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2784600"/>
            <a:ext cx="259884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Titular del proyecto o actividad desea someterse voluntariamente al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25760" y="3795840"/>
            <a:ext cx="3980160" cy="92844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¿Proyecto o actividad presenta o genera algún efecto, característica o circunstancia del Artículo 11 de la Ley o Título II del Reglamento SEIA?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5186520"/>
            <a:ext cx="261792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Estudio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120 días + 6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10120" y="5186520"/>
            <a:ext cx="2624400" cy="90936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Titular del proyecto o actividad debe presentar Declaración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(resolución en 60 días + 30 ampliables)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2514600"/>
            <a:ext cx="0" cy="13143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65520" y="3038400"/>
            <a:ext cx="145260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105520" y="3048120"/>
            <a:ext cx="0" cy="7617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590560" y="1905120"/>
            <a:ext cx="1979640" cy="0"/>
          </a:xfrm>
          <a:prstGeom prst="line">
            <a:avLst/>
          </a:prstGeom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10000" y="1900080"/>
            <a:ext cx="0" cy="75888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8964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568920" y="4554360"/>
            <a:ext cx="0" cy="632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0" y="3505320"/>
            <a:ext cx="0" cy="533160"/>
          </a:xfrm>
          <a:prstGeom prst="line">
            <a:avLst/>
          </a:prstGeom>
          <a:ln w="93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4048200"/>
            <a:ext cx="1690560" cy="523800"/>
          </a:xfrm>
          <a:prstGeom prst="rect">
            <a:avLst/>
          </a:prstGeom>
          <a:solidFill>
            <a:srgbClr val="ffff9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5b5249"/>
                </a:solidFill>
                <a:latin typeface="Arial"/>
              </a:rPr>
              <a:t>Procedimiento sectorial vigente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8380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Proyectos que deben someterse al SEIA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9072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que para su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ejecu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o </a:t>
            </a:r>
            <a:r>
              <a:rPr b="0" lang="es-ES" sz="2800" spc="-1" strike="noStrike" u="sng">
                <a:solidFill>
                  <a:srgbClr val="5b5249"/>
                </a:solidFill>
                <a:uFillTx/>
                <a:latin typeface="Times New Roman"/>
                <a:ea typeface="Times New Roman"/>
              </a:rPr>
              <a:t>modificación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requieren obligatoriamente someterse al SEI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) </a:t>
            </a: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Acueductos, embalses o tranques y sifone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b) Líneas de transmisión eléctricas de alta voltaje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c) Centrales generadoras de energía mayores de 3 MW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f) Puertos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i) Proyectos de desarrollo minero, incluidos los de carbón, petróleo y gas, comprendiendo las prospecciones, explotación, plantas procesadores y disposición de residuos y estériles. Extracción industrial de áridos, turba o greda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ductos análogos aquellos conjuntos de canales o tuberías y sus equipos y accesorios, destinados al transporte de sustancias, que unen centros de producción, almacenamiento, tratamiento o disposición, con centros de similares características o con redes de distribució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desarrollo minero aquellas acciones u obras cuyo fin es la extracción o beneficio de uno o más yacimientos mineros, y cuya capacidad de extracción de mineral es superior a cinco mil toneladas (5.000 t) mensuale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royectos de saneamiento ambiental, tales como sistemas de alcantarillado y agua potable, plantas de tratamiento de agua o de residuos sólidos de origen domiciliario, rellenos sanitarios, emisarios submarinos, sistemas de tratamiento y disposición de residuos industriales líquidos o sólido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SEIA – DS 95/2001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e entenderá por proyectos de saneamiento ambiental al conjunto de obras, servicios, técnicas, dispositivos o piezas comprendidas en soluciones sanitarias, y que correspondan a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8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Sistemas de tratamiento y/o disposición de residuos industriales sólidos;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o.9.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	</a:t>
            </a:r>
            <a:r>
              <a:rPr b="1" i="1" lang="es-ES" sz="28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Plantas de tratamiento y/o disposición de residuos peligrosos, incluidos los infeccioso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8840" indent="-43884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que se realiza o tiene efectos en una sola región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Regional del Medio Ambiente (COREMA): Intendente, Gobernadores, SEREMI (Secret. Gen. Pres., RREE, Defensa, Economía, Planif., Educación, OP, Salud, Vivienda, Agricultura, Transporte, Bienes Nacionales, Minas), Director Regional CONAM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té Técnico: Director Regional CONAMA, Directores Regionales Servicios Públicos, Gobernador Marítimo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985680" indent="-4370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e. intendente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Autoridades llamadas a pronunciarse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90360" y="1523520"/>
            <a:ext cx="74674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just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Proyecto en más de una región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misión Nacional del Medio Ambiente: Consejo Directivo (presidido por el Ministro Secretario General de la Presidencia e integrado por los otros ministros y director ejecutivo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1027080" indent="-455400" algn="just">
              <a:spcBef>
                <a:spcPts val="700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  <a:ea typeface="Arial Unicode MS"/>
              </a:rPr>
              <a:t>Consejo consultivo: 2 científicos, 2 repres. ONG, 2 repres. empresarios, 2 repres. trabajadores y 1 repres. presidente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19:33:39Z</dcterms:created>
  <dc:creator>Ingrid  Rozas</dc:creator>
  <dc:description/>
  <dc:language>en-US</dc:language>
  <cp:lastModifiedBy>ING. Minas </cp:lastModifiedBy>
  <dcterms:modified xsi:type="dcterms:W3CDTF">2004-10-01T19:29:57Z</dcterms:modified>
  <cp:revision>211</cp:revision>
  <dc:subject/>
  <dc:title>PROGRAMAS DE COOPERACION</dc:title>
</cp:coreProperties>
</file>