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0F7F-7FDF-4F18-BB6D-E99A703D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F62-EAB4-4829-80C5-5D8F483E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886-EBBD-4CCC-A53E-ACFF95D7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903-A536-48FD-9AF7-BCF4863C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4F17-2901-4F47-89FD-74F89A1C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4D9D-BB9B-4BED-872F-761004BB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B0FA-F6A2-4457-983C-8800AFB1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5116-F717-4BE1-B17E-F034E409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313F-561E-4119-B058-AE72795D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DC4F-6A01-414C-BEDE-C3C7D650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A460-1948-46C3-9EA5-2D90B4E7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8E66-F3A5-4969-9454-94AE9A635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7D3B-7732-4DCF-93FC-E46E939A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6B28-DA0E-430F-B0BC-BE1C899B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E32A-D360-4F0D-B577-CE3D9DB78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6C6C-E9A6-4F95-818D-B05CA94F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D70B-1E33-4F48-940A-1F4762EC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BA04-D48A-4FF7-B8D8-E13A52A2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9B4-029D-409A-8688-85EDFEC4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EA4-41D7-4CCF-A8FD-513B2982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D39-1AC1-4CF6-A16F-E55BB4D5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C92C-F3A3-4C07-84AD-17488985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E585-740A-475C-A596-4CA3EB1A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192-9BB2-4C0D-BD68-3AF93332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3CDC-98AC-4C08-82DD-2E6A51CA6FA1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B352-6946-442B-8A1B-B3FF533B14ED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 de Evaluación de Impacto Ambiental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IA: presentación por el Titular del proyecto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5 días para pronunciamiento sobre admisibilidad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10 días para publicación extracto en Diario Oficial y periódico de distribución regio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vío de ejemplares a los organismos y servicios competentes: 30 días para formular observaciones y emitir un pronunciamiento técnico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organizaciones ciudadanas y personas naturales: 60 días desde la publicación en Diario Oficial para formular observaciones y objecione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base a las observaciones, se prepara un documento consolidado remitido al titular del proyecto;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un plazo fijado por la Comisión el titular presenta respuestas en un documento addendum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documento enviado a los que formularon observaciones para su análisis y conformidad en un plazo de 20 día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procedimiento puede repetirs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os organismos y servicios que manifiestan su conformidad envían un informe definitivo y el permiso ambiental correspondient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a comisión prepara un informe técnico enviado a los organismos y servicios que participan en la evaluación del EIA con un plazo de 5 días para su visación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informe pasa a denominarse Informe Técnico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itación de la comisión en un sesión para emitir pronunciamiento sobre aprobación o rechazo del EIA;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índi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resumen (autosuficiente y comprensible para personas no expertas en materias técnic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del proyecto: antecedentes generales, localización, vida útil, descripción cronológica, etapa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l plan de cumplimiento de la legislación ambiental aplicabl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pormenorizada de los efectos que hacen necesarios la presentación de un E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línea de base: descripción del área de influencia del proyecto: medio físico, medio biótico, medio socio-económico, medio construido, uso del medio ambiente (uso de suelo), patrimonio cultural (histórico, arqueológico, etc.), paisaje, áreas de posibles contingencias </a:t>
            </a:r>
            <a:r>
              <a:rPr b="0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uso de procedimientos y metodologías utilizados debe estar debidamente justificado.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predicción y evaluación del impacto, incluidas las eventuales situaciones de riesg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medidas de mitigación, reparación y/o compens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segu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 las acciones realizadas previamente a la presentación del EIA en relación a consultas y/o encuentros con organizaciones ciudadanas o con persona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apéndice con la información documentada de apoy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a D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l tipo de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l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 antecedentes necesarios para determinar si el impacto se ajustará a las normas y que no se requiere un EI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descripción del contenido de los compromisos ambientales voluntarios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 del S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68920" y="471312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581280"/>
            <a:ext cx="484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160020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9640" y="4713120"/>
            <a:ext cx="396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666880"/>
            <a:ext cx="395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5160" y="2690640"/>
            <a:ext cx="396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89640" y="1554120"/>
            <a:ext cx="2877840" cy="9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se encuentra en Artículo 10 de la Ley o en el Artículo 3º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784600"/>
            <a:ext cx="25988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Titular del proyecto o actividad desea someterse voluntariamente al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5760" y="3795840"/>
            <a:ext cx="3980160" cy="92844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presenta o genera algún efecto, característica o circunstancia del Artículo 11 de la Ley o Título II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186520"/>
            <a:ext cx="261792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Estudi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120 días + 6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10120" y="5186520"/>
            <a:ext cx="262440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Declaració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60 días + 3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2514600"/>
            <a:ext cx="0" cy="1314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5520" y="3038400"/>
            <a:ext cx="1452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048120"/>
            <a:ext cx="0" cy="7617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590560" y="1905120"/>
            <a:ext cx="1979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10000" y="1900080"/>
            <a:ext cx="0" cy="758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8964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6892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505320"/>
            <a:ext cx="0" cy="533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048200"/>
            <a:ext cx="1690560" cy="52380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Procedimiento sectorial vigent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yectos que deben someterse al S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que para su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ejecu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modifica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requieren obligatoriamente someterse al SEI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)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ueductos, embalses o tranques y sifon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) Líneas de transmisión eléctricas de alta voltaj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) Centrales generadoras de energía mayores de 3 M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f) Puer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) Proyectos de desarrollo minero, incluidos los de carbón, petróleo y gas, comprendiendo las prospecciones, explotación, plantas procesadores y disposición de residuos y estériles. Extracción industrial de áridos, turba o greda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ductos análogos aquellos conjuntos de canales o tuberías y sus equipos y accesorios, destinados al transporte de sustancias, que unen centros de producción, almacenamiento, tratamiento o disposición, con centros de similares características o con redes de distribu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desarrollo minero aquellas acciones u obras cuyo fin es la extracción o beneficio de uno o más yacimientos mineros, y cuya capacidad de extracción de mineral es superior a cinco mil toneladas (5.000 t) mensua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de saneamiento ambiental, tales como sistemas de alcantarillado y agua potable, plantas de tratamiento de agua o de residuos sólidos de origen domiciliario, rellenos sanitarios, emisarios submarinos, sistemas de tratamiento y disposición de residuos industriales líquidos o sólid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saneamiento ambiental al conjunto de obras, servicios, técnicas, dispositivos o piezas comprendidas en soluciones sanitarias, y que correspondan 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8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stemas de tratamiento y/o disposición de residuos industriales sólidos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9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lantas de tratamiento y/o disposición de residuos peligrosos, incluidos los infeccios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que se realiza o tiene efectos en una sola reg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Regional del Medio Ambiente (COREMA): Intendente, Gobernadores, SEREMI (Secret. Gen. Pres., RREE, Defensa, Economía, Planif., Educación, OP, Salud, Vivienda, Agricultura, Transporte, Bienes Nacionales, Minas), Director Regional CONAM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té Técnico: Director Regional CONAMA, Directores Regionales Servicios Públicos, Gobernador Marítim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e. intenden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en más de una reg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Nacional del Medio Ambiente: Consejo Directivo (presidido por el Ministro Secretario General de la Presidencia e integrado por los otros ministros y director ejecutiv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. presid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29:57Z</dcterms:modified>
  <cp:revision>211</cp:revision>
  <dc:subject/>
  <dc:title>PROGRAMAS DE COOPERACION</dc:title>
</cp:coreProperties>
</file>