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12.jpeg" ContentType="image/jpeg"/>
  <Override PartName="/ppt/media/image11.jpeg" ContentType="image/jpeg"/>
  <Override PartName="/ppt/media/image7.wmf" ContentType="image/x-wmf"/>
  <Override PartName="/ppt/media/image19.wmf" ContentType="image/x-wmf"/>
  <Override PartName="/ppt/media/image18.wmf" ContentType="image/x-wmf"/>
  <Override PartName="/ppt/media/image14.jpeg" ContentType="image/jpeg"/>
  <Override PartName="/ppt/media/image16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7E61-4949-4FA4-B7FE-5F6BCE07E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3EA0-7935-43E4-ACC8-4F3F45E69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0740-09FD-4FBC-890F-96CEDF9C5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5115-6846-4C41-B853-DBF008E28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49A85-5D0E-4263-B837-51CE8AA16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B5AA5-A777-4F57-8B8D-C5DAB1469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A7C7B-233E-4149-AFA8-4D4343721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7E4F3-335A-43E7-8064-7AE815467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93046-5143-40BD-A293-CB0DEEC2E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600200" y="609120"/>
            <a:ext cx="594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325A4-7B6C-478D-8CC2-82762AC3C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37733-D620-4A53-83F6-DDB8D57C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27BC-5A07-4282-B3C9-B4FC04134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D237F-905A-448E-870F-EF5875A8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78EFD-4BB9-45B5-9BE1-5DB7F453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434A4-5E50-49A1-A8AB-30C54C586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E7A37-4EAE-4126-AF06-0E0783B83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322A1-1F86-4B76-A2BC-43DE5BCF9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C113-79EA-48D2-9B07-FF65AA000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07E0-8618-4132-9E18-E7B0BAE2A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94A7-BBC7-4517-91D8-294F984D0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00200" y="609120"/>
            <a:ext cx="594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2544-FE84-422A-A05A-06D73950B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A5EA-34F3-41CB-8C34-31289DD2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FCD3-3311-4E2E-8C3E-C563B8CC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29F7-B8B5-4224-84A7-FCC0315E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68A4B-26AE-4828-9B28-CD1EFE4B22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841E6-5E6A-4492-A1B4-E07BFF4D5A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8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8000"/>
                </a:solidFill>
                <a:latin typeface="Tahoma"/>
                <a:ea typeface="Times New Roman"/>
              </a:rPr>
              <a:t>	</a:t>
            </a:r>
            <a:r>
              <a:rPr b="1" lang="es-ES_tradnl" sz="4000" spc="-1" strike="noStrike">
                <a:solidFill>
                  <a:srgbClr val="003366"/>
                </a:solidFill>
                <a:latin typeface="Tahoma"/>
                <a:ea typeface="Times New Roman"/>
              </a:rPr>
              <a:t>Contaminación atmosférica y herramientas para su gestión: normas ambienta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Tahoma"/>
                <a:ea typeface="Times New Roman"/>
              </a:rPr>
              <a:t>Fernando Farías. </a:t>
            </a:r>
            <a:r>
              <a:rPr b="1" i="1" lang="es-ES_tradnl" sz="2800" spc="-1" strike="noStrike">
                <a:solidFill>
                  <a:srgbClr val="003366"/>
                </a:solidFill>
                <a:latin typeface="Tahoma"/>
                <a:ea typeface="Times New Roman"/>
              </a:rPr>
              <a:t>PhD( c), MSc, ICQ</a:t>
            </a:r>
            <a:r>
              <a:rPr b="1" lang="es-ES_tradnl" sz="2800" spc="-1" strike="noStrike">
                <a:solidFill>
                  <a:srgbClr val="003366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Tahoma"/>
                <a:ea typeface="Times New Roman"/>
              </a:rPr>
              <a:t>CONAMA N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Tahoma"/>
                <a:ea typeface="Times New Roman"/>
              </a:rPr>
              <a:t>Depto.Control de la Contamin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Tahoma"/>
                <a:ea typeface="Times New Roman"/>
              </a:rPr>
              <a:t>La Serena, 3 de Agosto 2005</a:t>
            </a:r>
            <a:r>
              <a:rPr b="1" lang="es-ES_tradnl" sz="2800" spc="-1" strike="noStrike">
                <a:solidFill>
                  <a:srgbClr val="008000"/>
                </a:solidFill>
                <a:latin typeface="Tahoma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Bar dir="horz"/>
      </p:transition>
    </mc:Choice>
    <mc:Fallback>
      <p:transition spd="slow">
        <p:randomBar dir="horz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649440" y="609480"/>
          <a:ext cx="8494560" cy="528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9440" y="609480"/>
                    <a:ext cx="8494560" cy="52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533520" y="5791320"/>
          <a:ext cx="7315200" cy="834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5791320"/>
                    <a:ext cx="731520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>
        <p:randomBar dir="horz"/>
      </p:transition>
    </mc:Choice>
    <mc:Fallback>
      <p:transition spd="slow">
        <p:randomBar dir="horz"/>
      </p:transition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914400" y="685800"/>
          <a:ext cx="7424640" cy="461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685800"/>
                    <a:ext cx="7424640" cy="46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685800" y="5486400"/>
          <a:ext cx="7975440" cy="1038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5486400"/>
                    <a:ext cx="797544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>
        <p:randomBar dir="horz"/>
      </p:transition>
    </mc:Choice>
    <mc:Fallback>
      <p:transition spd="slow">
        <p:randomBar dir="horz"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685800" y="2057400"/>
          <a:ext cx="8229600" cy="317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57400"/>
                    <a:ext cx="8229600" cy="31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>
        <p:randomBar dir="horz"/>
      </p:transition>
    </mc:Choice>
    <mc:Fallback>
      <p:transition spd="slow">
        <p:randomBar dir="horz"/>
      </p:transition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8380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160020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380880"/>
            <a:ext cx="6119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00"/>
                </a:solidFill>
                <a:latin typeface="Arial"/>
              </a:rPr>
              <a:t>Normas para el Control de la Contaminación Atmosfé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990720"/>
            <a:ext cx="8381880" cy="59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00"/>
                </a:solidFill>
                <a:latin typeface="Arial"/>
              </a:rPr>
              <a:t>Normas de emisión para Fuentes Fij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3440" indent="-419040">
              <a:lnSpc>
                <a:spcPct val="50000"/>
              </a:lnSpc>
              <a:buClr>
                <a:srgbClr val="33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3440" indent="-419040">
              <a:lnSpc>
                <a:spcPct val="130000"/>
              </a:lnSpc>
              <a:buClr>
                <a:srgbClr val="33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00"/>
                </a:solidFill>
                <a:latin typeface="Arial"/>
              </a:rPr>
              <a:t>As (</a:t>
            </a:r>
            <a:r>
              <a:rPr b="0" lang="es-ES" sz="2400" spc="-1" strike="noStrike">
                <a:solidFill>
                  <a:srgbClr val="336600"/>
                </a:solidFill>
                <a:latin typeface="Arial"/>
              </a:rPr>
              <a:t>D.S. Nº 165/98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3440" indent="-419040">
              <a:lnSpc>
                <a:spcPct val="130000"/>
              </a:lnSpc>
              <a:buClr>
                <a:srgbClr val="33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00"/>
                </a:solidFill>
                <a:latin typeface="Arial"/>
              </a:rPr>
              <a:t>Olores Molestos (compuestos sulfuro de hidrógeno y mercaptanos: gases TRS) asociados a la fabricación de pulpa sulfatada( D.S. N° 167/99)</a:t>
            </a:r>
            <a:r>
              <a:rPr b="0" lang="es-ES_tradnl" sz="2400" spc="-1" strike="noStrike">
                <a:solidFill>
                  <a:srgbClr val="33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3440" indent="-419040">
              <a:lnSpc>
                <a:spcPct val="130000"/>
              </a:lnSpc>
              <a:buClr>
                <a:srgbClr val="33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00"/>
                </a:solidFill>
                <a:latin typeface="Arial"/>
              </a:rPr>
              <a:t>MP para Fuentes Fijas Región Metropolitana </a:t>
            </a:r>
            <a:r>
              <a:rPr b="0" lang="es-CL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(Decreto Supremo N° 4/92 Min. D.S Nº 58/2003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3440" indent="-419040">
              <a:lnSpc>
                <a:spcPct val="130000"/>
              </a:lnSpc>
              <a:buClr>
                <a:srgbClr val="33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00"/>
                </a:solidFill>
                <a:latin typeface="Arial"/>
              </a:rPr>
              <a:t>CO, SO2 (D.S Nº 58/2003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3440" indent="-419040">
              <a:lnSpc>
                <a:spcPct val="130000"/>
              </a:lnSpc>
              <a:buClr>
                <a:srgbClr val="33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00"/>
                </a:solidFill>
                <a:latin typeface="Arial"/>
              </a:rPr>
              <a:t>MP Combustión Residencial (D.S Nº 58/20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3440" indent="-419040">
              <a:lnSpc>
                <a:spcPct val="130000"/>
              </a:lnSpc>
              <a:buClr>
                <a:srgbClr val="33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Bar dir="horz"/>
      </p:transition>
    </mc:Choice>
    <mc:Fallback>
      <p:transition spd="slow">
        <p:randomBar dir="horz"/>
      </p:transition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1219320"/>
            <a:ext cx="86104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76360" y="23760"/>
            <a:ext cx="6120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00"/>
                </a:solidFill>
                <a:latin typeface="Arial"/>
              </a:rPr>
              <a:t>Normas para el Control de la Contaminación Atmosfé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1219320"/>
            <a:ext cx="830592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00"/>
                </a:solidFill>
                <a:latin typeface="Arial"/>
              </a:rPr>
              <a:t>Normas de Emisión para Fuentes Móvi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 algn="just">
              <a:lnSpc>
                <a:spcPct val="9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Monóxido de Carbono, Hidrocarburos Totales, Óxidos de Nitrógeno  y  Material Particulado para buses, camiones  con motores diesel  (D. S. N° 130/2001y D.S Nº55 , MINTRATEL) y  vehículos livianos y medianos RM (D.S 58/2003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Motocicletas ( D.S Nº 104/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Hidrocarburos no metánicos para vehículos livianos y medianos a gas </a:t>
            </a:r>
            <a:r>
              <a:rPr b="0" lang="pt-BR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 ( DS N° 131/200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En tramitación</a:t>
            </a:r>
            <a:r>
              <a:rPr b="0" lang="pt-BR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NOx para revisión técnica de vehículos con convertidor catalít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Vehículos livianos, Medianos y Pesados (revisión del los D.S. 54, 55 y 21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Bar dir="horz"/>
      </p:transition>
    </mc:Choice>
    <mc:Fallback>
      <p:transition spd="slow">
        <p:randomBar dir="horz"/>
      </p:transition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066680" y="762120"/>
            <a:ext cx="7391520" cy="55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6600"/>
                </a:solidFill>
                <a:latin typeface="Arial"/>
              </a:rPr>
              <a:t>Normas en Elaboración o por Inici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5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6600"/>
                </a:solidFill>
                <a:latin typeface="Arial"/>
              </a:rPr>
              <a:t>Revisión de la norma de arsénico emitido al 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5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6600"/>
                </a:solidFill>
                <a:latin typeface="Arial"/>
              </a:rPr>
              <a:t>Norma de Emisión de Gases para Fuentes categorizadas como Grupos Electrógenos y Turbinas a G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5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6600"/>
                </a:solidFill>
                <a:latin typeface="Arial"/>
              </a:rPr>
              <a:t>Norma de emisión de partículas para  fuentes fijas y grupales (PM10).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5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6600"/>
                </a:solidFill>
                <a:latin typeface="Arial"/>
              </a:rPr>
              <a:t>Norma Emisión para Artefactos de uso Residencial a Leñ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5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6600"/>
                </a:solidFill>
                <a:latin typeface="Arial"/>
              </a:rPr>
              <a:t>Revisión del D.S 4/94 de MINTRATEL  que regula las emisiones de los vehículos livianos, medianos y pesados exist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Bar dir="horz"/>
      </p:transition>
    </mc:Choice>
    <mc:Fallback>
      <p:transition spd="slow">
        <p:randomBar dir="horz"/>
      </p:transition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new_logogobconama" descr=""/>
          <p:cNvPicPr/>
          <p:nvPr/>
        </p:nvPicPr>
        <p:blipFill>
          <a:blip r:embed="rId1"/>
          <a:stretch/>
        </p:blipFill>
        <p:spPr>
          <a:xfrm>
            <a:off x="61920" y="152280"/>
            <a:ext cx="1157400" cy="10447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533520" y="160020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2590920"/>
            <a:ext cx="541008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Objetiv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Arial"/>
              </a:rPr>
              <a:t>Proteger a la población de los efectos agudos y crónicos del Material particulado respi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Efectos evitados: </a:t>
            </a:r>
            <a:r>
              <a:rPr b="0" lang="es-ES_tradnl" sz="2400" spc="-1" strike="noStrike">
                <a:solidFill>
                  <a:srgbClr val="008000"/>
                </a:solidFill>
                <a:latin typeface="Arial"/>
              </a:rPr>
              <a:t>Infecciones Respiratorias Agudas(asmas, bronquitis crónica), aumento del riesgo de muertes prematuras de niños o ancianos, cáncer, alerg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52440" y="914400"/>
            <a:ext cx="7334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8000"/>
                </a:solidFill>
                <a:latin typeface="Arial"/>
              </a:rPr>
              <a:t>Norma  de calidad primaria par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8000"/>
                </a:solidFill>
                <a:latin typeface="Arial"/>
              </a:rPr>
              <a:t>Material Particulado  Respirable  PM1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8000"/>
                </a:solidFill>
                <a:latin typeface="Arial"/>
              </a:rPr>
              <a:t>( D.S. 59 y 4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5791320" y="2514600"/>
            <a:ext cx="28954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randomBar dir="horz"/>
      </p:transition>
    </mc:Choice>
    <mc:Fallback>
      <p:transition spd="slow">
        <p:randomBar dir="horz"/>
      </p:transition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33520" y="160020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95280" y="380880"/>
            <a:ext cx="7848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8000"/>
                </a:solidFill>
                <a:latin typeface="Arial"/>
              </a:rPr>
              <a:t>Norma  de calidad primaria para </a:t>
            </a:r>
            <a:br>
              <a:rPr sz="3200"/>
            </a:br>
            <a:r>
              <a:rPr b="0" lang="es-ES_tradnl" sz="3200" spc="-1" strike="noStrike">
                <a:solidFill>
                  <a:srgbClr val="008000"/>
                </a:solidFill>
                <a:latin typeface="Arial"/>
              </a:rPr>
              <a:t>Material Particulado  Respirable  PM10 </a:t>
            </a:r>
            <a:br>
              <a:rPr sz="3200"/>
            </a:br>
            <a:r>
              <a:rPr b="0" lang="es-ES_tradnl" sz="3200" spc="-1" strike="noStrike">
                <a:solidFill>
                  <a:srgbClr val="008000"/>
                </a:solidFill>
                <a:latin typeface="Arial"/>
              </a:rPr>
              <a:t>( D.S. 59 y 4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1981080"/>
            <a:ext cx="84582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Valores: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centración Promedio de 24 hrs: 150 ug/m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 Se supera si el percentil 98 excede este val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 Concentración Promedio Anual: 50 ug/m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 se supera si el promedio de 3 años excede el val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A partir del 2012 la norma de diaria de PM10 ser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 120 ug/m3, a menos que a la fecha haya vig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a norma de PM2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diciones  y criterios de ubicación para Estaciones EMRP, Condiciones de validez de la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ablece que los Servicios de Salud deberán tener un sistema de vigilancia epidemiológica para evaluar cada 5 años la efectividad de los valores fij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xigible a partir del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Bar dir="horz"/>
      </p:transition>
    </mc:Choice>
    <mc:Fallback>
      <p:transition spd="slow">
        <p:randomBar dir="horz"/>
      </p:transition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06668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520" y="160020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380880"/>
            <a:ext cx="6120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38920" y="836640"/>
            <a:ext cx="53121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00"/>
                </a:solidFill>
                <a:latin typeface="Arial"/>
              </a:rPr>
              <a:t>Niveles que Definen Situacione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00"/>
                </a:solidFill>
                <a:latin typeface="Arial"/>
              </a:rPr>
              <a:t>Emergencia Ambi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010640" cy="2279520"/>
          </a:xfrm>
          <a:prstGeom prst="rect">
            <a:avLst/>
          </a:prstGeom>
          <a:ln w="0">
            <a:noFill/>
          </a:ln>
        </p:spPr>
      </p:pic>
      <p:pic>
        <p:nvPicPr>
          <p:cNvPr id="185" name="D038-1931a" descr=""/>
          <p:cNvPicPr/>
          <p:nvPr/>
        </p:nvPicPr>
        <p:blipFill>
          <a:blip r:embed="rId2"/>
          <a:stretch/>
        </p:blipFill>
        <p:spPr>
          <a:xfrm>
            <a:off x="2133720" y="4038480"/>
            <a:ext cx="420984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randomBar dir="horz"/>
      </p:transition>
    </mc:Choice>
    <mc:Fallback>
      <p:transition spd="slow">
        <p:randomBar dir="horz"/>
      </p:transition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new_logogobconama" descr=""/>
          <p:cNvPicPr/>
          <p:nvPr/>
        </p:nvPicPr>
        <p:blipFill>
          <a:blip r:embed="rId1"/>
          <a:stretch/>
        </p:blipFill>
        <p:spPr>
          <a:xfrm>
            <a:off x="61920" y="152280"/>
            <a:ext cx="1157400" cy="10447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33520" y="160020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600" y="1447920"/>
            <a:ext cx="891540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D.S. Nº59 ademá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Considera un sistema de pronós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Establece condiciones de superación de la norma (percentil 9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Define estación monitora con representatividad poblacional (EMRP) y condiciones de emplaz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Establece los métodos de medi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D.S. Nº 45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8000"/>
                </a:solidFill>
                <a:latin typeface="Arial"/>
              </a:rPr>
              <a:t>Define valor para norma de calidad primaria an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Flexibiliza condiciones para Estaciones EMR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Incluye nuevas definiciones ( PM2.5, vigilancia epidemiológica, et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Condiciones de validez de la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Establece criterios para priorizar ubicación de estaciones monito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Establece que los Servicios de Salud deberán tener un sistema de vigilancia epidemiológica para evaluar cada 5 años la efectividad de los valores fij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00"/>
                </a:solidFill>
                <a:latin typeface="Arial"/>
              </a:rPr>
              <a:t>Norma  de calidad Primaria de Material Particulado respirable ( PM10) :  D.S. Nº 59/98 y Nº 45/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Bar dir="horz"/>
      </p:transition>
    </mc:Choice>
    <mc:Fallback>
      <p:transition spd="slow">
        <p:randomBar dir="horz"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476360" y="380880"/>
            <a:ext cx="6120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9900"/>
                </a:solidFill>
                <a:latin typeface="Arial"/>
              </a:rPr>
              <a:t>Norma Ambien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98320" y="1968480"/>
            <a:ext cx="7783560" cy="34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nsideraciones previ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oda actividad humana produce alteraciones y niveles de contaminación en el medio ambien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a constitución política del Estado estable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l derecho de todos los chilenos de vivir en un ambiente libre de contamin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l derecho de promover iniciativas de  desarrollo económico en la medida que no pongan en peligro el bien comú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Bar dir="horz"/>
      </p:transition>
    </mc:Choice>
    <mc:Fallback>
      <p:transition spd="slow">
        <p:randomBar dir="horz"/>
      </p:transition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06668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160020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95280" y="380880"/>
            <a:ext cx="6120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71160" y="711360"/>
            <a:ext cx="748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00"/>
                </a:solidFill>
                <a:latin typeface="Times New Roman"/>
              </a:rPr>
              <a:t>Metodologías de Medición, material particul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0880" y="2057400"/>
            <a:ext cx="4724640" cy="31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21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00"/>
                </a:solidFill>
                <a:latin typeface="Arial"/>
              </a:rPr>
              <a:t>Método Gravimétrico (Muestreador Bajo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2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00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336600"/>
                </a:solidFill>
                <a:latin typeface="Arial"/>
              </a:rPr>
              <a:t>Alto Volume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1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00"/>
                </a:solidFill>
                <a:latin typeface="Arial"/>
              </a:rPr>
              <a:t>Método de Transducción Gravimét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1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00"/>
                </a:solidFill>
                <a:latin typeface="Arial"/>
              </a:rPr>
              <a:t>Métodos basados en principio de atenuación b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betapm10" descr=""/>
          <p:cNvPicPr/>
          <p:nvPr/>
        </p:nvPicPr>
        <p:blipFill>
          <a:blip r:embed="rId1"/>
          <a:stretch/>
        </p:blipFill>
        <p:spPr>
          <a:xfrm>
            <a:off x="5105520" y="4191120"/>
            <a:ext cx="1269720" cy="2324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6" name=""/>
          <p:cNvGraphicFramePr/>
          <p:nvPr/>
        </p:nvGraphicFramePr>
        <p:xfrm>
          <a:off x="4876920" y="1219320"/>
          <a:ext cx="3809880" cy="284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6920" y="1219320"/>
                    <a:ext cx="3809880" cy="28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>
        <p:randomBar dir="horz"/>
      </p:transition>
    </mc:Choice>
    <mc:Fallback>
      <p:transition spd="slow">
        <p:randomBar dir="horz"/>
      </p:transition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new_logogobconama" descr=""/>
          <p:cNvPicPr/>
          <p:nvPr/>
        </p:nvPicPr>
        <p:blipFill>
          <a:blip r:embed="rId1"/>
          <a:stretch/>
        </p:blipFill>
        <p:spPr>
          <a:xfrm>
            <a:off x="0" y="0"/>
            <a:ext cx="1157400" cy="10447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8380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160020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new_logogobconama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157400" cy="10447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99072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Fiscalización </a:t>
            </a:r>
            <a:br>
              <a:rPr sz="36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175248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8000"/>
                </a:solidFill>
                <a:latin typeface="times new roman"/>
              </a:rPr>
              <a:t>Servicios de Salud del país y en la Región Metropolitana, Servicio de Salud del Ambiente de la Región Metropolitana.</a:t>
            </a:r>
            <a:r>
              <a:rPr b="0" lang="es-E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Bar dir="horz"/>
      </p:transition>
    </mc:Choice>
    <mc:Fallback>
      <p:transition spd="slow">
        <p:randomBar dir="horz"/>
      </p:transition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8380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160020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76360" y="404640"/>
            <a:ext cx="6120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2362320"/>
            <a:ext cx="838224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00"/>
                </a:solidFill>
                <a:latin typeface="Arial"/>
              </a:rPr>
              <a:t>Normas vige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8400" indent="-324000">
              <a:lnSpc>
                <a:spcPct val="140000"/>
              </a:lnSpc>
              <a:buClr>
                <a:srgbClr val="33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8400" indent="-324000">
              <a:lnSpc>
                <a:spcPct val="140000"/>
              </a:lnSpc>
              <a:buClr>
                <a:srgbClr val="33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00"/>
                </a:solidFill>
                <a:latin typeface="Arial"/>
              </a:rPr>
              <a:t>Anhídrido Sulfuroso (SO2) ( D.S. Nº 113/20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8400" indent="-324000">
              <a:lnSpc>
                <a:spcPct val="140000"/>
              </a:lnSpc>
              <a:buClr>
                <a:srgbClr val="33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00"/>
                </a:solidFill>
                <a:latin typeface="Arial"/>
              </a:rPr>
              <a:t>Monóxido de Carbono (CO) ( D.S. Nº 115/20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8400" indent="-324000">
              <a:lnSpc>
                <a:spcPct val="140000"/>
              </a:lnSpc>
              <a:buClr>
                <a:srgbClr val="33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00"/>
                </a:solidFill>
                <a:latin typeface="Arial"/>
              </a:rPr>
              <a:t>Ozono (O3) ( D.S. Nº 112/2002)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8400" indent="-324000">
              <a:lnSpc>
                <a:spcPct val="140000"/>
              </a:lnSpc>
              <a:buClr>
                <a:srgbClr val="33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00"/>
                </a:solidFill>
                <a:latin typeface="Arial"/>
              </a:rPr>
              <a:t>Dióxido de Nitrógeno (NO2). ( D.S. Nº 114/20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8400" indent="-324000">
              <a:lnSpc>
                <a:spcPct val="140000"/>
              </a:lnSpc>
              <a:buClr>
                <a:srgbClr val="33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00"/>
                </a:solidFill>
                <a:latin typeface="Arial"/>
              </a:rPr>
              <a:t>Plomo ( D.S. Nº 136/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981080" y="990720"/>
            <a:ext cx="5867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8000"/>
                </a:solidFill>
                <a:latin typeface="Arial"/>
              </a:rPr>
              <a:t>Normas  de calidad primaria para </a:t>
            </a:r>
            <a:br>
              <a:rPr sz="3200"/>
            </a:br>
            <a:r>
              <a:rPr b="0" lang="es-ES_tradnl" sz="3200" spc="-1" strike="noStrike">
                <a:solidFill>
                  <a:srgbClr val="008000"/>
                </a:solidFill>
                <a:latin typeface="Arial"/>
              </a:rPr>
              <a:t>G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Bar dir="horz"/>
      </p:transition>
    </mc:Choice>
    <mc:Fallback>
      <p:transition spd="slow">
        <p:randomBar dir="horz"/>
      </p:transition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new_logogobconama" descr=""/>
          <p:cNvPicPr/>
          <p:nvPr/>
        </p:nvPicPr>
        <p:blipFill>
          <a:blip r:embed="rId1"/>
          <a:stretch/>
        </p:blipFill>
        <p:spPr>
          <a:xfrm>
            <a:off x="61920" y="152280"/>
            <a:ext cx="1157400" cy="10447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533520" y="160020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" y="2590920"/>
            <a:ext cx="5410080" cy="21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Objetiv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Arial"/>
              </a:rPr>
              <a:t>Proteger a la población de los efectos agudos y crónicos de los contaminantes gaseo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872720" y="914400"/>
            <a:ext cx="609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8000"/>
                </a:solidFill>
                <a:latin typeface="Arial"/>
              </a:rPr>
              <a:t>Norma  de calidad primaria par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8000"/>
                </a:solidFill>
                <a:latin typeface="Arial"/>
              </a:rPr>
              <a:t>G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5943600" y="1676520"/>
            <a:ext cx="2776680" cy="3657600"/>
            <a:chOff x="5943600" y="1676520"/>
            <a:chExt cx="2776680" cy="3657600"/>
          </a:xfrm>
        </p:grpSpPr>
        <p:pic>
          <p:nvPicPr>
            <p:cNvPr id="214" name="Lung%20Structure" descr=""/>
            <p:cNvPicPr/>
            <p:nvPr/>
          </p:nvPicPr>
          <p:blipFill>
            <a:blip r:embed="rId2"/>
            <a:stretch/>
          </p:blipFill>
          <p:spPr>
            <a:xfrm>
              <a:off x="5943600" y="1676520"/>
              <a:ext cx="277668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 txBox="1"/>
            <p:nvPr/>
          </p:nvSpPr>
          <p:spPr>
            <a:xfrm>
              <a:off x="5943600" y="1676520"/>
              <a:ext cx="2776680" cy="3657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457200" indent="-457200">
                <a:spcBef>
                  <a:spcPts val="700"/>
                </a:spcBef>
                <a:buClr>
                  <a:srgbClr val="a50021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>
        <p:randomBar dir="horz"/>
      </p:transition>
    </mc:Choice>
    <mc:Fallback>
      <p:transition spd="slow">
        <p:randomBar dir="horz"/>
      </p:transition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320" y="205740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19160" y="23760"/>
            <a:ext cx="6120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971640" y="1557360"/>
          <a:ext cx="11680560" cy="274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557360"/>
                    <a:ext cx="1168056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1258920" y="692280"/>
            <a:ext cx="750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00"/>
                </a:solidFill>
                <a:latin typeface="Arial"/>
              </a:rPr>
              <a:t>Condiciones de superación de la no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11280" y="4149720"/>
            <a:ext cx="7467480" cy="41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00"/>
                </a:solidFill>
                <a:latin typeface="Arial"/>
              </a:rPr>
              <a:t>Condiciones de Validación de la Infor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6600"/>
                </a:solidFill>
                <a:latin typeface="Arial"/>
              </a:rPr>
              <a:t>Se establecen condiciones basadas en la disponibilidad de datos para el periodo de evaluación de la norma, según correspon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00"/>
                </a:solidFill>
                <a:latin typeface="Arial"/>
              </a:rPr>
              <a:t>Por ejempl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336600"/>
                </a:solidFill>
                <a:latin typeface="Arial"/>
              </a:rPr>
              <a:t>Se considerará válida la concentración anual, si para cada uno de los trimestres de un año se dispusiere de a lo menos de un 75 % de los datos de 24 horas para ese perío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Bar dir="horz"/>
      </p:transition>
    </mc:Choice>
    <mc:Fallback>
      <p:transition spd="slow">
        <p:randomBar dir="horz"/>
      </p:transition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572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2280" y="160020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095480" y="404640"/>
            <a:ext cx="6119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250920" y="2060640"/>
          <a:ext cx="9505800" cy="300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060640"/>
                    <a:ext cx="9505800" cy="30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1371600" y="121932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00"/>
                </a:solidFill>
                <a:latin typeface="Arial"/>
              </a:rPr>
              <a:t>Niveles de Emergencia Ambien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19320" y="4575240"/>
            <a:ext cx="701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00"/>
                </a:solidFill>
                <a:latin typeface="Arial"/>
              </a:rPr>
              <a:t>Los niveles mediante los cuales se declararán situaciones de emergencia ambiental podrán ser obtenidos mediante la aplicación 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00"/>
                </a:solidFill>
                <a:latin typeface="Arial"/>
              </a:rPr>
              <a:t>Metodología de pronóstico.(se def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00"/>
                </a:solidFill>
                <a:latin typeface="Arial"/>
              </a:rPr>
              <a:t>Constatación de las concentraciones en la estaciones de  monitore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Bar dir="horz"/>
      </p:transition>
    </mc:Choice>
    <mc:Fallback>
      <p:transition spd="slow">
        <p:randomBar dir="horz"/>
      </p:transition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53352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" y="160020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171440" y="404640"/>
            <a:ext cx="6120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600200" y="6094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00"/>
                </a:solidFill>
                <a:latin typeface="Times New Roman"/>
              </a:rPr>
              <a:t>Métodos de med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9480" y="236232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90720" y="1295280"/>
            <a:ext cx="8153280" cy="41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00"/>
                </a:solidFill>
                <a:latin typeface="Arial"/>
              </a:rPr>
              <a:t>NO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336600"/>
                </a:solidFill>
                <a:latin typeface="Arial"/>
              </a:rPr>
              <a:t>Quimiluminiscenci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336600"/>
                </a:solidFill>
                <a:latin typeface="Arial"/>
              </a:rPr>
              <a:t>Los que se basen en el método modificado de Griess-Saltzman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336600"/>
                </a:solidFill>
                <a:latin typeface="Arial"/>
              </a:rPr>
              <a:t>Espectrometría de absorción óptica diferencial, calibración in-situ,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00"/>
                </a:solidFill>
                <a:latin typeface="Arial"/>
              </a:rPr>
              <a:t>SO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336600"/>
                </a:solidFill>
                <a:latin typeface="Arial"/>
              </a:rPr>
              <a:t>Fluorescencia ultraviolet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336600"/>
                </a:solidFill>
                <a:latin typeface="Arial"/>
              </a:rPr>
              <a:t>Espectrometría de absorción diferencial con calibración in – situ 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6320" y="6019920"/>
            <a:ext cx="838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6600"/>
                </a:solidFill>
                <a:latin typeface="Arial"/>
              </a:rPr>
              <a:t>Para efectos de diagnóstico de calidad de aire, podrán utilizarse métodos de medición alternativos a los mencionados en la nor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Bar dir="horz"/>
      </p:transition>
    </mc:Choice>
    <mc:Fallback>
      <p:transition spd="slow">
        <p:randomBar dir="horz"/>
      </p:transition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53352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28600" y="160020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171440" y="404640"/>
            <a:ext cx="6120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00200" y="6094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00"/>
                </a:solidFill>
                <a:latin typeface="Times New Roman"/>
              </a:rPr>
              <a:t>Métodos de med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236232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90720" y="1295280"/>
            <a:ext cx="8153280" cy="44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00"/>
                </a:solidFill>
                <a:latin typeface="Arial"/>
              </a:rPr>
              <a:t>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336600"/>
                </a:solidFill>
                <a:latin typeface="Arial"/>
              </a:rPr>
              <a:t>Fotometría infrarroja no dispersiva,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00"/>
                </a:solidFill>
                <a:latin typeface="Arial"/>
              </a:rPr>
              <a:t>O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336600"/>
                </a:solidFill>
                <a:latin typeface="Arial"/>
              </a:rPr>
              <a:t>Quimiluminiscencia con etilen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336600"/>
                </a:solidFill>
                <a:latin typeface="Arial"/>
              </a:rPr>
              <a:t>Fotometría de absorción ultravioleta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336600"/>
                </a:solidFill>
                <a:latin typeface="Arial"/>
              </a:rPr>
              <a:t>Cromatografía líquida gas/sólid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336600"/>
                </a:solidFill>
                <a:latin typeface="Arial"/>
              </a:rPr>
              <a:t>Espectrometría de absorción óptica diferencial, con calibración in-situ,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336600"/>
                </a:solidFill>
                <a:latin typeface="Arial"/>
              </a:rPr>
              <a:t>Un  método de medición de referencia o equivalente designado o aprobado por la Agencia de Protección Ambiental de los Estados Unidos o por las Directivas de la Comunidad Europ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320" y="6019920"/>
            <a:ext cx="838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6600"/>
                </a:solidFill>
                <a:latin typeface="Arial"/>
              </a:rPr>
              <a:t>Para efectos de diagnóstico de calidad de aire, podrán utilizarse métodos de medición alternativos a los mencionados en la nor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Bar dir="horz"/>
      </p:transition>
    </mc:Choice>
    <mc:Fallback>
      <p:transition spd="slow">
        <p:randomBar dir="horz"/>
      </p:transition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new_logogobconama" descr=""/>
          <p:cNvPicPr/>
          <p:nvPr/>
        </p:nvPicPr>
        <p:blipFill>
          <a:blip r:embed="rId1"/>
          <a:stretch/>
        </p:blipFill>
        <p:spPr>
          <a:xfrm>
            <a:off x="61920" y="152280"/>
            <a:ext cx="1157400" cy="1044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8380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Definicione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198108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1371600"/>
            <a:ext cx="9448920" cy="51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8000"/>
                </a:solidFill>
                <a:latin typeface="Arial"/>
              </a:rPr>
              <a:t>Concentración de 1 hora:</a:t>
            </a:r>
            <a:r>
              <a:rPr b="0" lang="es-ES_tradnl" sz="2200" spc="-1" strike="noStrike">
                <a:solidFill>
                  <a:srgbClr val="008000"/>
                </a:solidFill>
                <a:latin typeface="Arial"/>
              </a:rPr>
              <a:t> Promedio aritmético de los valores de concentración de 1 hora ( de CO o NO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8000"/>
                </a:solidFill>
                <a:latin typeface="Arial"/>
              </a:rPr>
              <a:t>Concentración de 8 horas:</a:t>
            </a:r>
            <a:r>
              <a:rPr b="0" lang="es-ES_tradnl" sz="2200" spc="-1" strike="noStrike">
                <a:solidFill>
                  <a:srgbClr val="008000"/>
                </a:solidFill>
                <a:latin typeface="Arial"/>
              </a:rPr>
              <a:t> Promedio aritmético de los valores de concentración de 1 hora correspondientes a 8 horas sucesivas, promedio móvil ( de O3 o CO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8000"/>
                </a:solidFill>
                <a:latin typeface="Arial"/>
              </a:rPr>
              <a:t>Concentración de 24 Horas:</a:t>
            </a:r>
            <a:r>
              <a:rPr b="0" lang="es-ES_tradnl" sz="2200" spc="-1" strike="noStrike">
                <a:solidFill>
                  <a:srgbClr val="008000"/>
                </a:solidFill>
                <a:latin typeface="Arial"/>
              </a:rPr>
              <a:t> Promedio aritmético de valores de Concentración  de 1 hora  correspondientes a 24 horas sucesivas, contadas desde las cero horas de cada día ( de SO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8000"/>
                </a:solidFill>
                <a:latin typeface="Arial"/>
              </a:rPr>
              <a:t>Concentración anual:</a:t>
            </a:r>
            <a:r>
              <a:rPr b="0" lang="es-ES_tradnl" sz="2200" spc="-1" strike="noStrike">
                <a:solidFill>
                  <a:srgbClr val="008000"/>
                </a:solidFill>
                <a:latin typeface="Arial"/>
              </a:rPr>
              <a:t> Promedio aritmético de los valores de concentración trimestral correspondientes a un año ( de SO2 y NO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8000"/>
                </a:solidFill>
                <a:latin typeface="Arial"/>
              </a:rPr>
              <a:t>Concentración Trimestral:</a:t>
            </a:r>
            <a:r>
              <a:rPr b="0" lang="es-ES_tradnl" sz="2200" spc="-1" strike="noStrike">
                <a:solidFill>
                  <a:srgbClr val="008000"/>
                </a:solidFill>
                <a:latin typeface="Arial"/>
              </a:rPr>
              <a:t> Promedio aritmético de los valores de concentración de 24 horas  correspondientes a un período de tres meses sucesi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Bar dir="horz"/>
      </p:transition>
    </mc:Choice>
    <mc:Fallback>
      <p:transition spd="slow">
        <p:randomBar dir="horz"/>
      </p:transition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new_logogobconama" descr=""/>
          <p:cNvPicPr/>
          <p:nvPr/>
        </p:nvPicPr>
        <p:blipFill>
          <a:blip r:embed="rId1"/>
          <a:stretch/>
        </p:blipFill>
        <p:spPr>
          <a:xfrm>
            <a:off x="61920" y="152280"/>
            <a:ext cx="1157400" cy="10447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533520" y="160020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álc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l max. Di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2990880" y="685800"/>
          <a:ext cx="6057720" cy="9715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90880" y="685800"/>
                    <a:ext cx="6057720" cy="971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1143000" y="53352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emplo: Verificación  de la excedencia de la norma de 8 horas de O3,  ( Promedio 3 años del  percentil 99  del máx diario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Bar dir="horz"/>
      </p:transition>
    </mc:Choice>
    <mc:Fallback>
      <p:transition spd="slow">
        <p:randomBar dir="horz"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09480" y="1523880"/>
            <a:ext cx="7772400" cy="35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Una Norma ambiental es un acuerdo social   que establece el nivel de contaminación que considera aceptable para la protección de la población o el medio amb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taminación: La presencia en el ambiente de sustancias, energías o combinación de ellos, en concentraciones o concentraciones  y permanencia superiores o inferiores según corresponda, a las establecidas en la legislación vig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76360" y="380880"/>
            <a:ext cx="6120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9900"/>
                </a:solidFill>
                <a:latin typeface="Arial"/>
              </a:rPr>
              <a:t>Norma Ambien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Bar dir="horz"/>
      </p:transition>
    </mc:Choice>
    <mc:Fallback>
      <p:transition spd="slow">
        <p:randomBar dir="horz"/>
      </p:transition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new_logogobconama" descr=""/>
          <p:cNvPicPr/>
          <p:nvPr/>
        </p:nvPicPr>
        <p:blipFill>
          <a:blip r:embed="rId1"/>
          <a:stretch/>
        </p:blipFill>
        <p:spPr>
          <a:xfrm>
            <a:off x="61920" y="152280"/>
            <a:ext cx="1157400" cy="10447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33520" y="160020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295280" y="38088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emplo: Verificación  de la excedencia de la norma de 8 horas de O3,  ( Promedio 3 años del  percentil 99  del máx diar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533520" y="1447920"/>
          <a:ext cx="7619760" cy="7454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447920"/>
                    <a:ext cx="7619760" cy="745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4572000" y="4038480"/>
          <a:ext cx="7391520" cy="13860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0" y="4038480"/>
                    <a:ext cx="739152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>
        <p:randomBar dir="horz"/>
      </p:transition>
    </mc:Choice>
    <mc:Fallback>
      <p:transition spd="slow">
        <p:randomBar dir="horz"/>
      </p:transition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new_logogobconama" descr=""/>
          <p:cNvPicPr/>
          <p:nvPr/>
        </p:nvPicPr>
        <p:blipFill>
          <a:blip r:embed="rId1"/>
          <a:stretch/>
        </p:blipFill>
        <p:spPr>
          <a:xfrm>
            <a:off x="61920" y="152280"/>
            <a:ext cx="1157400" cy="10447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8380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Arial"/>
              </a:rPr>
              <a:t>Validación de Información de Monitore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60020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8000"/>
                </a:solidFill>
                <a:latin typeface="Times New Roman"/>
              </a:rPr>
              <a:t>Se establecen condiciones basadas en la disponibilidad de datos para el periodo de evaluación de la norma, según corresponda</a:t>
            </a:r>
            <a:r>
              <a:rPr b="0" lang="es-ES" sz="2800" spc="-1" strike="noStrike">
                <a:solidFill>
                  <a:srgbClr val="333399"/>
                </a:solidFill>
                <a:latin typeface="Times New Roman"/>
              </a:rPr>
              <a:t>.</a:t>
            </a:r>
            <a:r>
              <a:rPr b="0" lang="es-E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times new roman"/>
              </a:rPr>
              <a:t>Por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008000"/>
                </a:solidFill>
                <a:latin typeface="times new roman"/>
              </a:rPr>
              <a:t>Se considerará válida la concentración anual, si para cada uno de los trimestres de un año se dispusiere de a lo menos de un 75 % de los datos de 24 horas para ese </a:t>
            </a:r>
            <a:r>
              <a:rPr b="1" i="1" lang="es-ES_tradnl" sz="2000" spc="-1" strike="noStrike">
                <a:solidFill>
                  <a:srgbClr val="008000"/>
                </a:solidFill>
                <a:latin typeface="times new roman"/>
              </a:rPr>
              <a:t>período</a:t>
            </a:r>
            <a:r>
              <a:rPr b="1" i="1" lang="es-ES_tradnl" sz="2000" spc="-1" strike="noStrike">
                <a:solidFill>
                  <a:srgbClr val="008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8000"/>
                </a:solidFill>
                <a:latin typeface="times new roman"/>
              </a:rPr>
              <a:t>Se considerará válida la concentración de 24 horas, si a lo menos el 75 % de los datos de concentración de una hora para un período de 24 horas, se encontraren disponibles y den cuenta de los  datos a lo largo de un día ( ciclo</a:t>
            </a:r>
            <a:r>
              <a:rPr b="1" i="1" lang="es-ES_tradnl" sz="2000" spc="-1" strike="noStrike">
                <a:solidFill>
                  <a:srgbClr val="008000"/>
                </a:solidFill>
                <a:latin typeface="Arial"/>
              </a:rPr>
              <a:t> diar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Bar dir="horz"/>
      </p:transition>
    </mc:Choice>
    <mc:Fallback>
      <p:transition spd="slow">
        <p:randomBar dir="horz"/>
      </p:transition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8380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60020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476360" y="404640"/>
            <a:ext cx="6120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4920" y="2666880"/>
            <a:ext cx="8305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7200" y="2590920"/>
            <a:ext cx="7620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just"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00"/>
                </a:solidFill>
                <a:latin typeface="Arial"/>
              </a:rPr>
              <a:t>Los Servicios de salud deberán clasificar las estaciones de monitoreo con representatividad poblacional, dentro de los 6 meses de la publicación de las norm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00"/>
                </a:solidFill>
                <a:latin typeface="Arial"/>
              </a:rPr>
              <a:t>Dentro de plazo de 3 años, los servicios de Salud deberán realizar un diagnóstico de calidad de aire y una vez que este este disponible, se tendrán 2 años para implementar un programa priorizado de monitore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828800" y="13716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00"/>
                </a:solidFill>
                <a:latin typeface="Arial"/>
              </a:rPr>
              <a:t>Implementación de las Nor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Bar dir="horz"/>
      </p:transition>
    </mc:Choice>
    <mc:Fallback>
      <p:transition spd="slow">
        <p:randomBar dir="horz"/>
      </p:transition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06668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33520" y="160020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476360" y="404640"/>
            <a:ext cx="6120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14400" y="1981080"/>
            <a:ext cx="777240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00"/>
                </a:solidFill>
                <a:latin typeface="Arial"/>
              </a:rPr>
              <a:t>Los  decretos  de las normas de NO2, SO2, O3 entraron en vigencia  en vigencia el 1 ° de abril del 200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00"/>
                </a:solidFill>
                <a:latin typeface="Arial"/>
              </a:rPr>
              <a:t>El decreto de la Norma de CO entró en vigencia el 1º de  Octubre de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00"/>
                </a:solidFill>
                <a:latin typeface="Arial"/>
              </a:rPr>
              <a:t>Los valores de las normas serán exigibles en 3 años más a contar de la entrada en vigencia, 1º de abril de 200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00"/>
                </a:solidFill>
                <a:latin typeface="Arial"/>
              </a:rPr>
              <a:t>El resto de las disposiciones son exigibles desde la entrada en vigencia del decr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442600" y="1093680"/>
            <a:ext cx="353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00"/>
                </a:solidFill>
                <a:latin typeface="Arial"/>
              </a:rPr>
              <a:t>Entrada en vig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Bar dir="horz"/>
      </p:transition>
    </mc:Choice>
    <mc:Fallback>
      <p:transition spd="slow">
        <p:randomBar dir="horz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09480" y="1981080"/>
            <a:ext cx="7772400" cy="31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 Ley  de Bases del Medio Ambiente, N°19.300, define los siguientes tipos de norm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ormas Primarias de Calidad Ambi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ormas Secundarias de Calidad Ambi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ormas de Em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76360" y="380880"/>
            <a:ext cx="6120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9900"/>
                </a:solidFill>
                <a:latin typeface="Arial"/>
              </a:rPr>
              <a:t>Norma Ambien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Bar dir="horz"/>
      </p:transition>
    </mc:Choice>
    <mc:Fallback>
      <p:transition spd="slow">
        <p:randomBar dir="horz"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09480" y="198108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Norma Primaria de Calidad Ambien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Aquella que establece los valores  de las concentraciones  y períodos , máximos o mínimos  permisibles de elementos , compuestos, sustancias, derivados químicos, energías, radiaciones, vibraciones, ruidos o combinación de ellos, cuya presencia  o carencia en el medio ambiente pueda constituir un riesgo  para la vida o la salud de la población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u objetivo de protección es la  vida y la salud de la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j: Norma de Plo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76360" y="380880"/>
            <a:ext cx="6120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9900"/>
                </a:solidFill>
                <a:latin typeface="Arial"/>
              </a:rPr>
              <a:t>Normas de C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Bar dir="horz"/>
      </p:transition>
    </mc:Choice>
    <mc:Fallback>
      <p:transition spd="slow">
        <p:randomBar dir="horz"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09480" y="198108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Norma Secundaria de Calidad Ambien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u objetivo de protección  es la protección del medio ambiente o la preservación de la naturaleza ( especies de flora, fauna, ecosistemas, suelos, aguas, sitios con valor antropológico, arqueológico, histórico y en general el patrimonio cultur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j: Norma de dióxido de azufre para todo el paí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76360" y="380880"/>
            <a:ext cx="6120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9900"/>
                </a:solidFill>
                <a:latin typeface="Arial"/>
              </a:rPr>
              <a:t>Normas de C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Bar dir="horz"/>
      </p:transition>
    </mc:Choice>
    <mc:Fallback>
      <p:transition spd="slow">
        <p:randomBar dir="horz"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33520" y="1889280"/>
            <a:ext cx="7772400" cy="41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que establece la cantidad máxima permitida  para un contaminante medida en el efluente de la fuente emis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Puede tener distintos objetivos de prote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Puede ser usada como instrumento de prevención de la contaminación o de sus efectos , o como instrumento de gestión  inserta en un plan de descontaminación o preven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j: Norma de emisión de arsé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76360" y="380880"/>
            <a:ext cx="6120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9900"/>
                </a:solidFill>
                <a:latin typeface="Arial"/>
              </a:rPr>
              <a:t>Normas de Emi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Bar dir="horz"/>
      </p:transition>
    </mc:Choice>
    <mc:Fallback>
      <p:transition spd="slow">
        <p:randomBar dir="horz"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3148560" y="2955960"/>
            <a:ext cx="1824480" cy="363240"/>
            <a:chOff x="3148560" y="2955960"/>
            <a:chExt cx="1824480" cy="363240"/>
          </a:xfrm>
        </p:grpSpPr>
        <p:sp>
          <p:nvSpPr>
            <p:cNvPr id="97" name=""/>
            <p:cNvSpPr/>
            <p:nvPr/>
          </p:nvSpPr>
          <p:spPr>
            <a:xfrm>
              <a:off x="3180960" y="2973600"/>
              <a:ext cx="1674720" cy="21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148560" y="2955960"/>
              <a:ext cx="1824480" cy="36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RESOLUCION APROBACION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ANTEPROYECTO (Publicación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2963880" y="3489480"/>
            <a:ext cx="2273400" cy="67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5334840" y="3406680"/>
            <a:ext cx="1274040" cy="774720"/>
            <a:chOff x="5334840" y="3406680"/>
            <a:chExt cx="1274040" cy="774720"/>
          </a:xfrm>
        </p:grpSpPr>
        <p:sp>
          <p:nvSpPr>
            <p:cNvPr id="101" name=""/>
            <p:cNvSpPr/>
            <p:nvPr/>
          </p:nvSpPr>
          <p:spPr>
            <a:xfrm>
              <a:off x="5402160" y="3423960"/>
              <a:ext cx="933480" cy="20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334840" y="3406680"/>
              <a:ext cx="1274040" cy="774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ANALISIS GENERA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DE  IMPACTO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ECONOMICO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Y SOCIAL (2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"/>
                </a:rPr>
                <a:t>50 dí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3538800" y="523800"/>
            <a:ext cx="2310480" cy="236520"/>
            <a:chOff x="3538800" y="523800"/>
            <a:chExt cx="2310480" cy="236520"/>
          </a:xfrm>
        </p:grpSpPr>
        <p:sp>
          <p:nvSpPr>
            <p:cNvPr id="104" name=""/>
            <p:cNvSpPr/>
            <p:nvPr/>
          </p:nvSpPr>
          <p:spPr>
            <a:xfrm>
              <a:off x="3560400" y="537840"/>
              <a:ext cx="2173320" cy="222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38800" y="523800"/>
              <a:ext cx="2310480" cy="22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PROGRAMA PRIORIZADO DE NORM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2948040" y="4419720"/>
            <a:ext cx="3645000" cy="1517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403440" y="4491000"/>
            <a:ext cx="2720880" cy="236520"/>
            <a:chOff x="3403440" y="4491000"/>
            <a:chExt cx="2720880" cy="236520"/>
          </a:xfrm>
        </p:grpSpPr>
        <p:sp>
          <p:nvSpPr>
            <p:cNvPr id="108" name=""/>
            <p:cNvSpPr/>
            <p:nvPr/>
          </p:nvSpPr>
          <p:spPr>
            <a:xfrm>
              <a:off x="3403440" y="4508640"/>
              <a:ext cx="2473200" cy="21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409920" y="4491000"/>
              <a:ext cx="2714400" cy="22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ANALISIS OBSERVACIONES FORMULADAS (4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1187280" y="2320920"/>
            <a:ext cx="6357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150 dí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451160" y="115920"/>
            <a:ext cx="6228720" cy="738000"/>
            <a:chOff x="1451160" y="115920"/>
            <a:chExt cx="6228720" cy="738000"/>
          </a:xfrm>
        </p:grpSpPr>
        <p:sp>
          <p:nvSpPr>
            <p:cNvPr id="112" name=""/>
            <p:cNvSpPr/>
            <p:nvPr/>
          </p:nvSpPr>
          <p:spPr>
            <a:xfrm>
              <a:off x="1451160" y="115920"/>
              <a:ext cx="62287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9900"/>
                  </a:solidFill>
                  <a:latin typeface="Arial"/>
                </a:rPr>
                <a:t>PROCEDIMIENTO DE DICTACION DE NORMAS AMBIENTA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758960" y="322560"/>
              <a:ext cx="181080" cy="3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357720" y="520200"/>
              <a:ext cx="18072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002600" y="1371600"/>
            <a:ext cx="1083600" cy="81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labor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nteproye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e Nor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38960" y="4724280"/>
            <a:ext cx="989280" cy="1001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labor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roye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efini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e Nor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61560" y="3049560"/>
            <a:ext cx="1083600" cy="81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nsul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nteproye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e Nor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3529440" y="5351400"/>
            <a:ext cx="2427840" cy="500400"/>
            <a:chOff x="3529440" y="5351400"/>
            <a:chExt cx="2427840" cy="500400"/>
          </a:xfrm>
        </p:grpSpPr>
        <p:sp>
          <p:nvSpPr>
            <p:cNvPr id="119" name=""/>
            <p:cNvSpPr/>
            <p:nvPr/>
          </p:nvSpPr>
          <p:spPr>
            <a:xfrm>
              <a:off x="3982680" y="5365440"/>
              <a:ext cx="1247760" cy="221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29440" y="5351400"/>
              <a:ext cx="2427840" cy="500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PRESENTACION PROYECTO DEFINITIV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AL CONSEJO DIRECTIVO DE CONAMA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"/>
                </a:rPr>
                <a:t>15 dí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304920" y="6400800"/>
            <a:ext cx="2187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(1), (2), (3) y (4) etapas Art. 32, Ley 19.3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95480" y="990720"/>
            <a:ext cx="3645000" cy="1828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987640" y="1079640"/>
            <a:ext cx="3435120" cy="347760"/>
            <a:chOff x="2987640" y="1079640"/>
            <a:chExt cx="3435120" cy="347760"/>
          </a:xfrm>
        </p:grpSpPr>
        <p:sp>
          <p:nvSpPr>
            <p:cNvPr id="124" name=""/>
            <p:cNvSpPr/>
            <p:nvPr/>
          </p:nvSpPr>
          <p:spPr>
            <a:xfrm>
              <a:off x="3697200" y="1096920"/>
              <a:ext cx="855720" cy="22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987640" y="1079640"/>
              <a:ext cx="3435120" cy="347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RESOLUCION DE INICIO PROCESO (Publicación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Plazo recepción de antecedentes (&lt; 70 días) -- Crea expediente públi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046040" y="1600200"/>
            <a:ext cx="1353240" cy="237600"/>
            <a:chOff x="4046040" y="1600200"/>
            <a:chExt cx="1353240" cy="237600"/>
          </a:xfrm>
        </p:grpSpPr>
        <p:sp>
          <p:nvSpPr>
            <p:cNvPr id="127" name=""/>
            <p:cNvSpPr/>
            <p:nvPr/>
          </p:nvSpPr>
          <p:spPr>
            <a:xfrm>
              <a:off x="4068720" y="1617840"/>
              <a:ext cx="1273320" cy="219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046040" y="1600200"/>
              <a:ext cx="1353240" cy="22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FORMACION COMI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3585600" y="1973160"/>
            <a:ext cx="2423160" cy="234720"/>
            <a:chOff x="3585600" y="1973160"/>
            <a:chExt cx="2423160" cy="234720"/>
          </a:xfrm>
        </p:grpSpPr>
        <p:sp>
          <p:nvSpPr>
            <p:cNvPr id="130" name=""/>
            <p:cNvSpPr/>
            <p:nvPr/>
          </p:nvSpPr>
          <p:spPr>
            <a:xfrm>
              <a:off x="3610080" y="1987200"/>
              <a:ext cx="2082600" cy="220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85600" y="1973160"/>
              <a:ext cx="2423160" cy="22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ESTUDIOS CIENTIFICOS Y TECNICOS (1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3663000" y="2362320"/>
            <a:ext cx="2237400" cy="237600"/>
            <a:chOff x="3663000" y="2362320"/>
            <a:chExt cx="2237400" cy="237600"/>
          </a:xfrm>
        </p:grpSpPr>
        <p:sp>
          <p:nvSpPr>
            <p:cNvPr id="133" name=""/>
            <p:cNvSpPr/>
            <p:nvPr/>
          </p:nvSpPr>
          <p:spPr>
            <a:xfrm>
              <a:off x="3686040" y="2376360"/>
              <a:ext cx="2082960" cy="223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663000" y="2362320"/>
              <a:ext cx="2237400" cy="22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ELABORACION DEL ANTEPROYECT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3013560" y="3646440"/>
            <a:ext cx="842760" cy="363240"/>
            <a:chOff x="3013560" y="3646440"/>
            <a:chExt cx="842760" cy="363240"/>
          </a:xfrm>
        </p:grpSpPr>
        <p:sp>
          <p:nvSpPr>
            <p:cNvPr id="136" name=""/>
            <p:cNvSpPr/>
            <p:nvPr/>
          </p:nvSpPr>
          <p:spPr>
            <a:xfrm>
              <a:off x="3068280" y="3660840"/>
              <a:ext cx="720720" cy="22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13560" y="3646440"/>
              <a:ext cx="842760" cy="36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CONSULTA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PUBLICA (3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1141560" y="3962520"/>
            <a:ext cx="5716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60 dí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936240" y="3570120"/>
            <a:ext cx="1172160" cy="500400"/>
            <a:chOff x="3936240" y="3570120"/>
            <a:chExt cx="1172160" cy="500400"/>
          </a:xfrm>
        </p:grpSpPr>
        <p:sp>
          <p:nvSpPr>
            <p:cNvPr id="140" name=""/>
            <p:cNvSpPr/>
            <p:nvPr/>
          </p:nvSpPr>
          <p:spPr>
            <a:xfrm>
              <a:off x="3954240" y="3584160"/>
              <a:ext cx="933480" cy="221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936240" y="3570120"/>
              <a:ext cx="1172160" cy="500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CONSULTA  A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CONSEJO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CONSULTIVOS (3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3461040" y="4870440"/>
            <a:ext cx="2638080" cy="363240"/>
            <a:chOff x="3461040" y="4870440"/>
            <a:chExt cx="2638080" cy="363240"/>
          </a:xfrm>
        </p:grpSpPr>
        <p:sp>
          <p:nvSpPr>
            <p:cNvPr id="143" name=""/>
            <p:cNvSpPr/>
            <p:nvPr/>
          </p:nvSpPr>
          <p:spPr>
            <a:xfrm>
              <a:off x="3510000" y="4884840"/>
              <a:ext cx="2082960" cy="22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461040" y="4870440"/>
              <a:ext cx="2638080" cy="36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ELABORACION DEL PROYECTO DEFINITIVO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"/>
                </a:rPr>
                <a:t>45 dí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2881800" y="6165720"/>
            <a:ext cx="3951720" cy="237960"/>
            <a:chOff x="2881800" y="6165720"/>
            <a:chExt cx="3951720" cy="237960"/>
          </a:xfrm>
        </p:grpSpPr>
        <p:sp>
          <p:nvSpPr>
            <p:cNvPr id="146" name=""/>
            <p:cNvSpPr/>
            <p:nvPr/>
          </p:nvSpPr>
          <p:spPr>
            <a:xfrm>
              <a:off x="4097160" y="6180120"/>
              <a:ext cx="1247760" cy="223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81800" y="6165720"/>
              <a:ext cx="3951720" cy="22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SOMETIDO A CONSIDERACION DEL PRESIDENTE DE LA REPUBLIC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>
        <p:dissolve/>
      </p:transition>
    </mc:Choice>
    <mc:Fallback>
      <p:transition spd="slow">
        <p:dissolve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8380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160020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404640"/>
            <a:ext cx="6120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76520" y="45720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00"/>
                </a:solidFill>
                <a:latin typeface="Arial"/>
              </a:rPr>
              <a:t>Normas para el Control de la Contaminación Atmosfé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1981080"/>
            <a:ext cx="8382240" cy="47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00"/>
                </a:solidFill>
                <a:latin typeface="Arial"/>
              </a:rPr>
              <a:t>Normas de calidad primaria vigentes en el paí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8400" indent="-324000">
              <a:lnSpc>
                <a:spcPct val="140000"/>
              </a:lnSpc>
              <a:buClr>
                <a:srgbClr val="33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00"/>
                </a:solidFill>
                <a:latin typeface="Arial"/>
              </a:rPr>
              <a:t>Material Particulado Respirable MP</a:t>
            </a:r>
            <a:r>
              <a:rPr b="1" lang="es-ES" sz="2400" spc="-1" strike="noStrike" baseline="-25000">
                <a:solidFill>
                  <a:srgbClr val="336600"/>
                </a:solidFill>
                <a:latin typeface="Arial"/>
              </a:rPr>
              <a:t>10 </a:t>
            </a:r>
            <a:r>
              <a:rPr b="1" lang="es-ES" sz="2400" spc="-1" strike="noStrike">
                <a:solidFill>
                  <a:srgbClr val="336600"/>
                </a:solidFill>
                <a:latin typeface="Arial"/>
              </a:rPr>
              <a:t>( D.S. Nº 59/98, y Nº 45/0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8400" indent="-324000">
              <a:lnSpc>
                <a:spcPct val="140000"/>
              </a:lnSpc>
              <a:buClr>
                <a:srgbClr val="33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8400" indent="-324000">
              <a:lnSpc>
                <a:spcPct val="140000"/>
              </a:lnSpc>
              <a:buClr>
                <a:srgbClr val="33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00"/>
                </a:solidFill>
                <a:latin typeface="Arial"/>
              </a:rPr>
              <a:t>Anhídrido Sulfuroso (SO2) ( D.S. Nº 113/20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8400" indent="-324000">
              <a:lnSpc>
                <a:spcPct val="140000"/>
              </a:lnSpc>
              <a:buClr>
                <a:srgbClr val="33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00"/>
                </a:solidFill>
                <a:latin typeface="Arial"/>
              </a:rPr>
              <a:t>Monóxido de Carbono (CO) ( D.S. Nº 115/20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8400" indent="-324000">
              <a:lnSpc>
                <a:spcPct val="140000"/>
              </a:lnSpc>
              <a:buClr>
                <a:srgbClr val="33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00"/>
                </a:solidFill>
                <a:latin typeface="Arial"/>
              </a:rPr>
              <a:t>Ozono (O3) ( D.S. Nº 112/2002)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8400" indent="-324000">
              <a:lnSpc>
                <a:spcPct val="140000"/>
              </a:lnSpc>
              <a:buClr>
                <a:srgbClr val="33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00"/>
                </a:solidFill>
                <a:latin typeface="Arial"/>
              </a:rPr>
              <a:t>Dióxido de Nitrógeno (NO2). ( D.S. Nº 114/20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8400" indent="-324000">
              <a:lnSpc>
                <a:spcPct val="140000"/>
              </a:lnSpc>
              <a:buClr>
                <a:srgbClr val="33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00"/>
                </a:solidFill>
                <a:latin typeface="Arial"/>
              </a:rPr>
              <a:t>Plomo ( D.S. Nº 136/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Bar dir="horz"/>
      </p:transition>
    </mc:Choice>
    <mc:Fallback>
      <p:transition spd="slow">
        <p:randomBar dir="horz"/>
      </p:transition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9T14:30:11Z</dcterms:created>
  <dc:creator>agonzalez</dc:creator>
  <dc:description/>
  <dc:language>en-US</dc:language>
  <cp:lastModifiedBy>MsOffice</cp:lastModifiedBy>
  <cp:lastPrinted>2005-08-02T23:32:29Z</cp:lastPrinted>
  <dcterms:modified xsi:type="dcterms:W3CDTF">2005-08-02T23:34:02Z</dcterms:modified>
  <cp:revision>586</cp:revision>
  <dc:subject/>
  <dc:title>Presentación de PowerPoint</dc:title>
</cp:coreProperties>
</file>