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7.wmf" ContentType="image/x-wmf"/>
  <Override PartName="/ppt/media/image13.png" ContentType="image/png"/>
  <Override PartName="/ppt/media/image12.jpeg" ContentType="image/jpeg"/>
  <Override PartName="/ppt/media/image11.jpeg" ContentType="image/jpeg"/>
  <Override PartName="/ppt/media/image7.wmf" ContentType="image/x-wmf"/>
  <Override PartName="/ppt/media/image19.wmf" ContentType="image/x-wmf"/>
  <Override PartName="/ppt/media/image18.wmf" ContentType="image/x-wmf"/>
  <Override PartName="/ppt/media/image14.jpeg" ContentType="image/jpeg"/>
  <Override PartName="/ppt/media/image16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wmf" ContentType="image/x-wmf"/>
  <Override PartName="/ppt/media/image10.wmf" ContentType="image/x-wmf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2.docx" ContentType="application/vnd.openxmlformats-officedocument.wordprocessingml.documen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00CCA-6A06-4670-8C50-F199C8D80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7A868-1DDB-4168-9AAC-57D2155AE0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5DCF-0AE6-4DA4-BC82-B32BBF094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580ED-0985-474B-AF90-11CCF89027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94AA-D0BD-4ABF-8A81-D69B1160BB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1F919-1EE2-4F6C-8386-0C577CCD8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E7ABB-8F2F-4D7D-B78B-F1CCB9676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686AC0-6F91-41CB-8F6C-2E4BE4330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5AB04-A1C6-4C50-9BCC-FE6CA8304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E17CD-25EE-4D55-AF4F-9A0A7994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FC968-1129-4D58-B69A-94814E5F9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7EEFC-CF2B-45D3-A8C8-25FF081EE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3A1897-02BE-4F3F-95AD-E18C8DDA9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D7A12-19B2-4384-B132-E55F89D72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AE1A5-7BF4-403A-B568-085B3ACC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5918B-3A48-4E10-AEC5-8F4466B27E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5E39E-C6AD-4362-9233-C827914A5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D12CC-C5FB-47EA-85E5-D5476A14E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9057E-4236-441B-B7A7-FB166479B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E7302-E6BD-49B8-A919-9C58B9B355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600200" y="609120"/>
            <a:ext cx="5943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6B2AE-D463-4D63-8179-5E8D45F334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8658C-C132-452B-BB5A-3461CF322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57C-7FEF-43F1-949D-B90166117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EFE75-BB00-460E-95A7-95A7E96A7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600200" y="609120"/>
            <a:ext cx="5943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F416A9-D1AD-4244-A3FC-07F792D456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D19D76-DF20-422E-969F-C95133D025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package" Target="../embeddings/oleObject1.docx"/><Relationship Id="rId3" Type="http://schemas.openxmlformats.org/officeDocument/2006/relationships/image" Target="../media/image18.wmf"/><Relationship Id="rId4" Type="http://schemas.openxmlformats.org/officeDocument/2006/relationships/package" Target="../embeddings/oleObject2.docx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000" spc="-1" strike="noStrike">
                <a:solidFill>
                  <a:srgbClr val="008000"/>
                </a:solidFill>
                <a:latin typeface="Tahoma"/>
                <a:ea typeface="Times New Roman"/>
              </a:rPr>
              <a:t>	</a:t>
            </a:r>
            <a:r>
              <a:rPr b="1" lang="es-ES_tradnl" sz="4000" spc="-1" strike="noStrike">
                <a:solidFill>
                  <a:srgbClr val="003366"/>
                </a:solidFill>
                <a:latin typeface="Tahoma"/>
                <a:ea typeface="Times New Roman"/>
              </a:rPr>
              <a:t>Contaminación atmosférica y herramientas para su gestión: normas ambiental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Fernando Farías. </a:t>
            </a:r>
            <a:r>
              <a:rPr b="1" i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PhD( c), MSc, ICQ</a:t>
            </a: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CONAMA Nacion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Depto.Control de la Contamin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704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3366"/>
                </a:solidFill>
                <a:latin typeface="Tahoma"/>
                <a:ea typeface="Times New Roman"/>
              </a:rPr>
              <a:t>La Serena, 3 de Agosto 2005</a:t>
            </a:r>
            <a:r>
              <a:rPr b="1" lang="es-ES_tradnl" sz="2800" spc="-1" strike="noStrike">
                <a:solidFill>
                  <a:srgbClr val="008000"/>
                </a:solidFill>
                <a:latin typeface="Tahoma"/>
                <a:ea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3" name=""/>
          <p:cNvGraphicFramePr/>
          <p:nvPr/>
        </p:nvGraphicFramePr>
        <p:xfrm>
          <a:off x="649440" y="609480"/>
          <a:ext cx="8494560" cy="5281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49440" y="609480"/>
                    <a:ext cx="8494560" cy="528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5" name=""/>
          <p:cNvGraphicFramePr/>
          <p:nvPr/>
        </p:nvGraphicFramePr>
        <p:xfrm>
          <a:off x="533520" y="5791320"/>
          <a:ext cx="7315200" cy="8348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5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3520" y="5791320"/>
                    <a:ext cx="7315200" cy="83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7" name=""/>
          <p:cNvGraphicFramePr/>
          <p:nvPr/>
        </p:nvGraphicFramePr>
        <p:xfrm>
          <a:off x="914400" y="685800"/>
          <a:ext cx="7424640" cy="4616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685800"/>
                    <a:ext cx="7424640" cy="4616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685800" y="5486400"/>
          <a:ext cx="7975440" cy="103824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5486400"/>
                    <a:ext cx="7975440" cy="103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1" name=""/>
          <p:cNvGraphicFramePr/>
          <p:nvPr/>
        </p:nvGraphicFramePr>
        <p:xfrm>
          <a:off x="685800" y="2057400"/>
          <a:ext cx="8229600" cy="317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057400"/>
                    <a:ext cx="8229600" cy="317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447920" y="380880"/>
            <a:ext cx="611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Normas para el Control de la Contaminación Atmosf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57200" y="990720"/>
            <a:ext cx="8381880" cy="59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de emisión para Fuentes Fij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5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As (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D.S. Nº 165/98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Olores Molestos (compuestos sulfuro de hidrógeno y mercaptanos: gases TRS) asociados a la fabricación de pulpa sulfatada( D.S. N° 167/99)</a:t>
            </a: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P para Fuentes Fijas Región Metropolitana </a:t>
            </a: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(Decreto Supremo N° 4/92 Min. D.S Nº 58/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CO, SO2 (D.S Nº 58/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P Combustión Residencial (D.S Nº 58/20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333440" indent="-419040">
              <a:lnSpc>
                <a:spcPct val="13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8380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3520" y="1219320"/>
            <a:ext cx="861048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76360" y="2376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Normas para el Control de la Contaminación Atmosfér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09480" y="1219320"/>
            <a:ext cx="8305920" cy="502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de Emisión para Fuentes Móvil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 algn="just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Monóxido de Carbono, Hidrocarburos Totales, Óxidos de Nitrógeno  y  Material Particulado para buses, camiones  con motores diesel  (D. S. N° 130/2001y D.S Nº55 , MINTRATEL) y  vehículos livianos y medianos RM (D.S 58/2003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Motocicletas ( D.S Nº 104/20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Hidrocarburos no metánicos para vehículos livianos y medianos a gas </a:t>
            </a:r>
            <a:r>
              <a:rPr b="0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 ( DS N° 131/200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En tramitación</a:t>
            </a:r>
            <a:r>
              <a:rPr b="0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NOx para revisión técnica de vehículos con convertidor catalíti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76280" indent="-476280">
              <a:lnSpc>
                <a:spcPct val="9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336600"/>
                </a:solidFill>
                <a:latin typeface="Arial"/>
                <a:ea typeface="Times New Roman"/>
              </a:rPr>
              <a:t>Vehículos livianos, Medianos y Pesados (revisión del los D.S. 54, 55 y 211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066680" y="762120"/>
            <a:ext cx="7391520" cy="555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6600"/>
                </a:solidFill>
                <a:latin typeface="Arial"/>
              </a:rPr>
              <a:t>Normas en Elaboración o por Inici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Revisión de la norma de arsénico emitido al 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Norma de Emisión de Gases para Fuentes categorizadas como Grupos Electrógenos y Turbinas a G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Norma de emisión de partículas para  fuentes fijas y grupales (PM10).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Norma Emisión para Artefactos de uso Residencial a Leñ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6600"/>
                </a:solidFill>
                <a:latin typeface="Arial"/>
              </a:rPr>
              <a:t>Revisión del D.S 4/94 de MINTRATEL  que regula las emisiones de los vehículos livianos, medianos y pesados 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57200" y="2590920"/>
            <a:ext cx="5410080" cy="36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Proteger a la población de los efectos agudos y crónicos del Material particulado respir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Efectos evitados: </a:t>
            </a: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Infecciones Respiratorias Agudas(asmas, bronquitis crónica), aumento del riesgo de muertes prematuras de niños o ancianos, cáncer, alerg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252440" y="914400"/>
            <a:ext cx="7334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  de calidad primaria pa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Material Particulado  Respirable  PM10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( D.S. 59 y 4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2"/>
          <a:stretch/>
        </p:blipFill>
        <p:spPr>
          <a:xfrm>
            <a:off x="5791320" y="2514600"/>
            <a:ext cx="289548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295280" y="380880"/>
            <a:ext cx="78487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  de calidad primaria para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Material Particulado  Respirable  PM10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( D.S. 59 y 4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80880" y="1981080"/>
            <a:ext cx="8458200" cy="43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Valores: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centración Promedio de 24 hrs: 150 ug/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 Se supera si el percentil 98 excede este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 Concentración Promedio Anual: 50 ug/m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( se supera si el promedio de 3 años excede el valor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- A partir del 2012 la norma de diaria de PM10 será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de 120 ug/m3, a menos que a la fecha haya vige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una norma de PM2.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Condiciones  y criterios de ubicación para Estaciones EMRP, Condiciones de validez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stablece que los Servicios de Salud deberán tener un sistema de vigilancia epidemiológica para evaluar cada 5 años la efectividad de los valores fij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Exigible a partir del 200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438920" y="836640"/>
            <a:ext cx="5312160" cy="7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iveles que Definen Situaciones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Emergenci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838080" y="1676520"/>
            <a:ext cx="7010640" cy="2279520"/>
          </a:xfrm>
          <a:prstGeom prst="rect">
            <a:avLst/>
          </a:prstGeom>
          <a:ln w="0">
            <a:noFill/>
          </a:ln>
        </p:spPr>
      </p:pic>
      <p:pic>
        <p:nvPicPr>
          <p:cNvPr id="185" name="D038-1931a" descr=""/>
          <p:cNvPicPr/>
          <p:nvPr/>
        </p:nvPicPr>
        <p:blipFill>
          <a:blip r:embed="rId2"/>
          <a:stretch/>
        </p:blipFill>
        <p:spPr>
          <a:xfrm>
            <a:off x="2133720" y="4038480"/>
            <a:ext cx="4209840" cy="253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600" y="1447920"/>
            <a:ext cx="8915400" cy="47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D.S. Nº59 adem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Considera un sistema de pronóst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condiciones de superación de la norma (percentil 98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Define estación monitora con representatividad poblacional (EMRP) y condiciones de emplazami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los métodos de medi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D.S. Nº 45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8000"/>
                </a:solidFill>
                <a:latin typeface="Arial"/>
              </a:rPr>
              <a:t>Define valor para norma de calidad primaria 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Flexibiliza condiciones para Estaciones EMR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Incluye nuevas definiciones ( PM2.5, vigilancia epidemiológica, etc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Condiciones de validez de la informa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criterios para priorizar ubicación de estaciones monitor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Arial"/>
              </a:rPr>
              <a:t>Establece que los Servicios de Salud deberán tener un sistema de vigilancia epidemiológica para evaluar cada 5 años la efectividad de los valores fij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6600"/>
                </a:solidFill>
                <a:latin typeface="Arial"/>
              </a:rPr>
              <a:t>Norma  de calidad Primaria de Material Particulado respirable ( PM10) :  D.S. Nº 59/98 y Nº 45/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598320" y="1968480"/>
            <a:ext cx="7783560" cy="34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Consideraciones previa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Toda actividad humana produce alteraciones y niveles de contaminación en el medio ambient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La constitución política del Estado establec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erecho de todos los chilenos de vivir en un ambiente libre de contaminació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El derecho de promover iniciativas de  desarrollo económico en la medida que no pongan en peligro el bien comú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29528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71160" y="711360"/>
            <a:ext cx="748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24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Times New Roman"/>
              </a:rPr>
              <a:t>Metodologías de Medición, material particula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0880" y="2057400"/>
            <a:ext cx="4724640" cy="31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spcBef>
                <a:spcPts val="2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étodo Gravimétrico (Muestreador Bajo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20000"/>
              </a:lnSpc>
              <a:spcBef>
                <a:spcPts val="2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    </a:t>
            </a: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Alto Volumen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étodo de Transducción Gravimét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00000"/>
              </a:lnSpc>
              <a:spcBef>
                <a:spcPts val="21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étodos basados en principio de atenuación be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betapm10" descr=""/>
          <p:cNvPicPr/>
          <p:nvPr/>
        </p:nvPicPr>
        <p:blipFill>
          <a:blip r:embed="rId1"/>
          <a:stretch/>
        </p:blipFill>
        <p:spPr>
          <a:xfrm>
            <a:off x="5105520" y="4191120"/>
            <a:ext cx="1269720" cy="23241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96" name=""/>
          <p:cNvGraphicFramePr/>
          <p:nvPr/>
        </p:nvGraphicFramePr>
        <p:xfrm>
          <a:off x="4876920" y="1219320"/>
          <a:ext cx="3809880" cy="284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876920" y="1219320"/>
                    <a:ext cx="3809880" cy="284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new_logogobconama" descr=""/>
          <p:cNvPicPr/>
          <p:nvPr/>
        </p:nvPicPr>
        <p:blipFill>
          <a:blip r:embed="rId1"/>
          <a:stretch/>
        </p:blipFill>
        <p:spPr>
          <a:xfrm>
            <a:off x="0" y="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199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4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new_logogobconama" descr=""/>
          <p:cNvPicPr/>
          <p:nvPr/>
        </p:nvPicPr>
        <p:blipFill>
          <a:blip r:embed="rId2"/>
          <a:stretch/>
        </p:blipFill>
        <p:spPr>
          <a:xfrm>
            <a:off x="15228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990720" y="6858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Fiscalización </a:t>
            </a:r>
            <a:br>
              <a:rPr sz="36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85800" y="17524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0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Servicios de Salud del país y en la Región Metropolitana, Servicio de Salud del Ambiente de la Región Metropolitana.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80880" y="2362320"/>
            <a:ext cx="8382240" cy="367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vigente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Anhídrido Sulfuroso (SO2) ( D.S. Nº 113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Monóxido de Carbono (CO) ( D.S. Nº 115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Ozono (O3) ( D.S. Nº 112/2002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Dióxido de Nitrógeno (NO2). ( D.S. Nº 114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Plomo ( D.S. Nº 136/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81080" y="990720"/>
            <a:ext cx="5867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s  de calidad primaria para </a:t>
            </a:r>
            <a:br>
              <a:rPr sz="3200"/>
            </a:b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457200" y="2590920"/>
            <a:ext cx="5410080" cy="21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Arial"/>
              </a:rPr>
              <a:t>Objetiv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8000"/>
                </a:solidFill>
                <a:latin typeface="Arial"/>
              </a:rPr>
              <a:t>Proteger a la población de los efectos agudos y crónicos de los contaminantes gaseos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872720" y="914400"/>
            <a:ext cx="6092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Norma  de calidad primaria pa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8000"/>
                </a:solidFill>
                <a:latin typeface="Arial"/>
              </a:rPr>
              <a:t>Ga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5943600" y="1676520"/>
            <a:ext cx="2776680" cy="3657600"/>
            <a:chOff x="5943600" y="1676520"/>
            <a:chExt cx="2776680" cy="3657600"/>
          </a:xfrm>
        </p:grpSpPr>
        <p:pic>
          <p:nvPicPr>
            <p:cNvPr id="214" name="Lung%20Structure" descr=""/>
            <p:cNvPicPr/>
            <p:nvPr/>
          </p:nvPicPr>
          <p:blipFill>
            <a:blip r:embed="rId2"/>
            <a:stretch/>
          </p:blipFill>
          <p:spPr>
            <a:xfrm>
              <a:off x="5943600" y="1676520"/>
              <a:ext cx="2776680" cy="3657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5" name=""/>
            <p:cNvSpPr txBox="1"/>
            <p:nvPr/>
          </p:nvSpPr>
          <p:spPr>
            <a:xfrm>
              <a:off x="5943600" y="1676520"/>
              <a:ext cx="2776680" cy="36576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 marL="457200" indent="-457200">
                <a:spcBef>
                  <a:spcPts val="700"/>
                </a:spcBef>
                <a:buClr>
                  <a:srgbClr val="a50021"/>
                </a:buClr>
                <a:buSzPct val="75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38088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6320" y="20574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019160" y="2376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9" name=""/>
          <p:cNvGraphicFramePr/>
          <p:nvPr/>
        </p:nvGraphicFramePr>
        <p:xfrm>
          <a:off x="971640" y="1557360"/>
          <a:ext cx="11680560" cy="2743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557360"/>
                    <a:ext cx="1168056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"/>
          <p:cNvSpPr/>
          <p:nvPr/>
        </p:nvSpPr>
        <p:spPr>
          <a:xfrm>
            <a:off x="1258920" y="692280"/>
            <a:ext cx="750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Condiciones de superación de la no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11280" y="4149720"/>
            <a:ext cx="7467480" cy="418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Condiciones de Validación de la Informació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336600"/>
                </a:solidFill>
                <a:latin typeface="Arial"/>
              </a:rPr>
              <a:t>Se establecen condiciones basadas en la disponibilidad de datos para el periodo de evaluación de la norma, según correspond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6600"/>
                </a:solidFill>
                <a:latin typeface="Arial"/>
              </a:rPr>
              <a:t>Por ejemplo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18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1" i="1" lang="es-ES_tradnl" sz="1800" spc="-1" strike="noStrike">
                <a:solidFill>
                  <a:srgbClr val="336600"/>
                </a:solidFill>
                <a:latin typeface="Arial"/>
              </a:rPr>
              <a:t>Se considerará válida la concentración anual, si para cada uno de los trimestres de un año se dispusiere de a lo menos de un 75 % de los datos de 24 horas para ese perí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5720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095480" y="404640"/>
            <a:ext cx="6119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6" name=""/>
          <p:cNvGraphicFramePr/>
          <p:nvPr/>
        </p:nvGraphicFramePr>
        <p:xfrm>
          <a:off x="250920" y="2060640"/>
          <a:ext cx="9505800" cy="3009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2060640"/>
                    <a:ext cx="9505800" cy="3009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"/>
          <p:cNvSpPr/>
          <p:nvPr/>
        </p:nvSpPr>
        <p:spPr>
          <a:xfrm>
            <a:off x="1371600" y="1219320"/>
            <a:ext cx="5943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336600"/>
                </a:solidFill>
                <a:latin typeface="Arial"/>
              </a:rPr>
              <a:t>Niveles de Emergencia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219320" y="4575240"/>
            <a:ext cx="7010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Los niveles mediante los cuales se declararán situaciones de emergencia ambiental podrán ser obtenidos mediante la aplicación 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Metodología de pronóstico.(se defin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Constatación de las concentraciones en la estaciones de  monitore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17144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Métodos de 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09480" y="23623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990720" y="1295280"/>
            <a:ext cx="8153280" cy="419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NO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Quimiluminiscenci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1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Los que se basen en el método modificado de Griess-Saltzmann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Espectrometría de absorción óptica diferencial, calibración in-situ, 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SO2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Fluorescencia ultravioleta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Espectrometría de absorción diferencial con calibración in – situ y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6320" y="601992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00"/>
                </a:solidFill>
                <a:latin typeface="Arial"/>
              </a:rPr>
              <a:t>Para efectos de diagnóstico de calidad de aire, podrán utilizarse métodos de medición alternativos a los mencionados en la 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53352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2860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117144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600200" y="609480"/>
            <a:ext cx="556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Times New Roman"/>
              </a:rPr>
              <a:t>Métodos de medi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9480" y="236232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90720" y="1295280"/>
            <a:ext cx="8153280" cy="445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Fotometría infrarroja no dispersiva,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O3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Quimiluminiscencia con etilen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Fotometría de absorción ultravioleta;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Cromatografía líquida gas/sólido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 </a:t>
            </a: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Espectrometría de absorción óptica diferencial, con calibración in-situ, y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336600"/>
                </a:solidFill>
                <a:latin typeface="Arial"/>
              </a:rPr>
              <a:t>Un  método de medición de referencia o equivalente designado o aprobado por la Agencia de Protección Ambiental de los Estados Unidos o por las Directivas de la Comunidad Europe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320" y="6019920"/>
            <a:ext cx="8381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336600"/>
                </a:solidFill>
                <a:latin typeface="Arial"/>
              </a:rPr>
              <a:t>Para efectos de diagnóstico de calidad de aire, podrán utilizarse métodos de medición alternativos a los mencionados en la norm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br>
              <a:rPr sz="2400"/>
            </a:b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    </a:t>
            </a:r>
            <a:r>
              <a:rPr b="1" lang="es-ES_tradnl" sz="2400" spc="-1" strike="noStrike">
                <a:solidFill>
                  <a:srgbClr val="333399"/>
                </a:solidFill>
                <a:latin typeface="Arial"/>
              </a:rPr>
              <a:t>Definiciones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0948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0" y="1371600"/>
            <a:ext cx="9448920" cy="51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de 1 hora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de 1 hora ( de CO o NO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de 8 horas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de 1 hora correspondientes a 8 horas sucesivas, promedio móvil ( de O3 o CO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de 24 Horas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valores de Concentración  de 1 hora  correspondientes a 24 horas sucesivas, contadas desde las cero horas de cada día ( de SO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anual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trimestral correspondientes a un año ( de SO2 y NO2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200" spc="-1" strike="noStrike">
                <a:solidFill>
                  <a:srgbClr val="008000"/>
                </a:solidFill>
                <a:latin typeface="Arial"/>
              </a:rPr>
              <a:t>Concentración Trimestral:</a:t>
            </a:r>
            <a:r>
              <a:rPr b="0" lang="es-ES_tradnl" sz="2200" spc="-1" strike="noStrike">
                <a:solidFill>
                  <a:srgbClr val="008000"/>
                </a:solidFill>
                <a:latin typeface="Arial"/>
              </a:rPr>
              <a:t> Promedio aritmético de los valores de concentración de 24 horas  correspondientes a un período de tres meses sucesivo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8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Cálcu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l max. Diari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"/>
          <p:cNvGraphicFramePr/>
          <p:nvPr/>
        </p:nvGraphicFramePr>
        <p:xfrm>
          <a:off x="2990880" y="685800"/>
          <a:ext cx="6057720" cy="97156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990880" y="685800"/>
                    <a:ext cx="6057720" cy="971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"/>
          <p:cNvSpPr/>
          <p:nvPr/>
        </p:nvSpPr>
        <p:spPr>
          <a:xfrm>
            <a:off x="1143000" y="533520"/>
            <a:ext cx="80010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Verificación  de la excedencia de la norma de 8 horas de O3,  ( Promedio 3 años del  percentil 99  del máx diario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609480" y="1523880"/>
            <a:ext cx="7772400" cy="35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 marL="301680" indent="-301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601"/>
              </a:spcBef>
              <a:buClr>
                <a:srgbClr val="808080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Arial"/>
              </a:rPr>
              <a:t>Una Norma ambiental es un acuerdo social   que establece el nivel de contaminación que considera aceptable para la protección de la población o el medio 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 algn="just"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Arial"/>
              </a:rPr>
              <a:t>Contaminación: La presencia en el ambiente de sustancias, energías o combinación de ellos, en concentraciones o concentraciones  y permanencia superiores o inferiores según corresponda, a las establecidas en la legislación vigent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295280" y="380880"/>
            <a:ext cx="815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Ejemplo: Verificación  de la excedencia de la norma de 8 horas de O3,  ( Promedio 3 años del  percentil 99  del máx diario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6" name=""/>
          <p:cNvGraphicFramePr/>
          <p:nvPr/>
        </p:nvGraphicFramePr>
        <p:xfrm>
          <a:off x="533520" y="1447920"/>
          <a:ext cx="7619760" cy="7454880"/>
        </p:xfrm>
        <a:graphic>
          <a:graphicData uri="http://schemas.openxmlformats.org/presentationml/2006/ole">
            <p:oleObj progId="Word.Document.12" r:id="rId2" spid="">
              <p:embed/>
              <p:pic>
                <p:nvPicPr>
                  <p:cNvPr id="2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33520" y="1447920"/>
                    <a:ext cx="7619760" cy="745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58" name=""/>
          <p:cNvGraphicFramePr/>
          <p:nvPr/>
        </p:nvGraphicFramePr>
        <p:xfrm>
          <a:off x="4572000" y="4038480"/>
          <a:ext cx="7391520" cy="1386000"/>
        </p:xfrm>
        <a:graphic>
          <a:graphicData uri="http://schemas.openxmlformats.org/presentationml/2006/ole">
            <p:oleObj progId="Word.Document.12" r:id="rId4" spid="">
              <p:embed/>
              <p:pic>
                <p:nvPicPr>
                  <p:cNvPr id="2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72000" y="4038480"/>
                    <a:ext cx="7391520" cy="138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" name="new_logogobconama" descr=""/>
          <p:cNvPicPr/>
          <p:nvPr/>
        </p:nvPicPr>
        <p:blipFill>
          <a:blip r:embed="rId1"/>
          <a:stretch/>
        </p:blipFill>
        <p:spPr>
          <a:xfrm>
            <a:off x="61920" y="152280"/>
            <a:ext cx="1157400" cy="1044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8000"/>
                </a:solidFill>
                <a:latin typeface="Arial"/>
              </a:rPr>
              <a:t>Validación de Información de Monitoreo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8000"/>
                </a:solidFill>
                <a:latin typeface="Times New Roman"/>
              </a:rPr>
              <a:t>Se establecen condiciones basadas en la disponibilidad de datos para el periodo de evaluación de la norma, según corresponda</a:t>
            </a:r>
            <a:r>
              <a:rPr b="0" lang="es-ES" sz="2800" spc="-1" strike="noStrike">
                <a:solidFill>
                  <a:srgbClr val="333399"/>
                </a:solidFill>
                <a:latin typeface="Times New Roman"/>
              </a:rPr>
              <a:t>.</a:t>
            </a:r>
            <a:r>
              <a:rPr b="0" lang="es-ES" sz="2800" spc="-1" strike="noStrike">
                <a:solidFill>
                  <a:srgbClr val="0000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8000"/>
                </a:solidFill>
                <a:latin typeface="times new roman"/>
              </a:rPr>
              <a:t>Por ejempl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e considerará válida la concentración anual, si para cada uno de los trimestres de un año se dispusiere de a lo menos de un 75 % de los datos de 24 horas para ese </a:t>
            </a:r>
            <a:r>
              <a:rPr b="1" i="1" lang="es-ES_tradnl" sz="2000" spc="-1" strike="noStrike">
                <a:solidFill>
                  <a:srgbClr val="008000"/>
                </a:solidFill>
                <a:latin typeface="times new roman"/>
              </a:rPr>
              <a:t>período</a:t>
            </a:r>
            <a:r>
              <a:rPr b="1" i="1" lang="es-ES_tradnl" sz="2000" spc="-1" strike="noStrike">
                <a:solidFill>
                  <a:srgbClr val="008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400" spc="-1" strike="noStrike">
                <a:solidFill>
                  <a:srgbClr val="008000"/>
                </a:solidFill>
                <a:latin typeface="times new roman"/>
              </a:rPr>
              <a:t>Se considerará válida la concentración de 24 horas, si a lo menos el 75 % de los datos de concentración de una hora para un período de 24 horas, se encontraren disponibles y den cuenta de los  datos a lo largo de un día ( ciclo</a:t>
            </a:r>
            <a:r>
              <a:rPr b="1" i="1" lang="es-ES_tradnl" sz="2000" spc="-1" strike="noStrike">
                <a:solidFill>
                  <a:srgbClr val="008000"/>
                </a:solidFill>
                <a:latin typeface="Arial"/>
              </a:rPr>
              <a:t> diari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04920" y="2666880"/>
            <a:ext cx="83055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2590920"/>
            <a:ext cx="76201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80880" indent="-38088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Los Servicios de salud deberán clasificar las estaciones de monitoreo con representatividad poblacional, dentro de los 6 meses de la publicación de las norma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80880" indent="-380880" algn="just">
              <a:lnSpc>
                <a:spcPct val="10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6600"/>
                </a:solidFill>
                <a:latin typeface="Arial"/>
              </a:rPr>
              <a:t>Dentro de plazo de 3 años, los servicios de Salud deberán realizar un diagnóstico de calidad de aire y una vez que este este disponible, se tendrán 2 años para implementar un programa priorizado de monitoreo</a:t>
            </a: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828800" y="1371600"/>
            <a:ext cx="63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Implementación de las Nor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"/>
          <p:cNvSpPr/>
          <p:nvPr/>
        </p:nvSpPr>
        <p:spPr>
          <a:xfrm>
            <a:off x="106668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14400" y="1981080"/>
            <a:ext cx="7772400" cy="448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Los  decretos  de las normas de NO2, SO2, O3 entraron en vigencia  en vigencia el 1 ° de abril del 2003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El decreto de la Norma de CO entró en vigencia el 1º de  Octubre de 20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Los valores de las normas serán exigibles en 3 años más a contar de la entrada en vigencia, 1º de abril de 2006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120000"/>
              </a:lnSpc>
              <a:buClr>
                <a:srgbClr val="33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6600"/>
                </a:solidFill>
                <a:latin typeface="Arial"/>
              </a:rPr>
              <a:t>El resto de las disposiciones son exigibles desde la entrada en vigencia del dec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442600" y="1093680"/>
            <a:ext cx="3539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6600"/>
                </a:solidFill>
                <a:latin typeface="Arial"/>
              </a:rPr>
              <a:t>Entrada en vigenc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609480" y="1981080"/>
            <a:ext cx="7772400" cy="31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La Ley  de Bases del Medio Ambiente, N°19.300, define los siguientes tipos de norma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s Primarias de Calidad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s Secundarias de Calidad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Normas de Emis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 Ambienta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60948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rma Primaria de Calidad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i="1" lang="es-ES_tradnl" sz="2000" spc="-1" strike="noStrike">
                <a:solidFill>
                  <a:srgbClr val="000000"/>
                </a:solidFill>
                <a:latin typeface="Arial"/>
              </a:rPr>
              <a:t>Aquella que establece los valores  de las concentraciones  y períodos , máximos o mínimos  permisibles de elementos , compuestos, sustancias, derivados químicos, energías, radiaciones, vibraciones, ruidos o combinación de ellos, cuya presencia  o carencia en el medio ambiente pueda constituir un riesgo  para la vida o la salud de la población”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Su objetivo de protección es la  vida y la salud de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: Norma de Plom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609480" y="198108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</a:rPr>
              <a:t>Norma Secundaria de Calidad Ambien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</a:t>
            </a: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u objetivo de protección  es la protección del medio ambiente o la preservación de la naturaleza ( especies de flora, fauna, ecosistemas, suelos, aguas, sitios con valor antropológico, arqueológico, histórico y en general el patrimonio cultur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Ej: Norma de dióxido de azufre para todo el paí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s de Cal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533520" y="1889280"/>
            <a:ext cx="7772400" cy="41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Arial"/>
              </a:rPr>
              <a:t>La que establece la cantidad máxima permitida  para un contaminante medida en el efluente de la fuente emiso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uede tener distintos objetivos de protec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s-ES_tradnl" sz="2000" spc="-1" strike="noStrike">
                <a:solidFill>
                  <a:srgbClr val="000000"/>
                </a:solidFill>
                <a:latin typeface="Arial"/>
              </a:rPr>
              <a:t>Puede ser usada como instrumento de prevención de la contaminación o de sus efectos , o como instrumento de gestión  inserta en un plan de descontaminación o prevenció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"/>
              </a:rPr>
              <a:t>Ej: Norma de emisión de arsé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476360" y="38088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9900"/>
                </a:solidFill>
                <a:latin typeface="Arial"/>
              </a:rPr>
              <a:t>Normas de Emis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3148560" y="2955960"/>
            <a:ext cx="1824480" cy="363240"/>
            <a:chOff x="3148560" y="2955960"/>
            <a:chExt cx="1824480" cy="363240"/>
          </a:xfrm>
        </p:grpSpPr>
        <p:sp>
          <p:nvSpPr>
            <p:cNvPr id="97" name=""/>
            <p:cNvSpPr/>
            <p:nvPr/>
          </p:nvSpPr>
          <p:spPr>
            <a:xfrm>
              <a:off x="3180960" y="2973600"/>
              <a:ext cx="167472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148560" y="2955960"/>
              <a:ext cx="18244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SOLUCION APROBACION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NTEPROYECT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963880" y="3489480"/>
            <a:ext cx="2273400" cy="672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5334840" y="3406680"/>
            <a:ext cx="1274040" cy="774720"/>
            <a:chOff x="5334840" y="3406680"/>
            <a:chExt cx="1274040" cy="774720"/>
          </a:xfrm>
        </p:grpSpPr>
        <p:sp>
          <p:nvSpPr>
            <p:cNvPr id="101" name=""/>
            <p:cNvSpPr/>
            <p:nvPr/>
          </p:nvSpPr>
          <p:spPr>
            <a:xfrm>
              <a:off x="5402160" y="3423960"/>
              <a:ext cx="933480" cy="201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334840" y="3406680"/>
              <a:ext cx="1274040" cy="7747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NALISIS GENERAL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DE  IMPACT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CONOMIC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Y SOCIAL (2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50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3538800" y="523800"/>
            <a:ext cx="2310480" cy="236520"/>
            <a:chOff x="3538800" y="523800"/>
            <a:chExt cx="2310480" cy="236520"/>
          </a:xfrm>
        </p:grpSpPr>
        <p:sp>
          <p:nvSpPr>
            <p:cNvPr id="104" name=""/>
            <p:cNvSpPr/>
            <p:nvPr/>
          </p:nvSpPr>
          <p:spPr>
            <a:xfrm>
              <a:off x="3560400" y="537840"/>
              <a:ext cx="2173320" cy="2224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538800" y="523800"/>
              <a:ext cx="231048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ROGRAMA PRIORIZADO DE NORM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6" name=""/>
          <p:cNvSpPr/>
          <p:nvPr/>
        </p:nvSpPr>
        <p:spPr>
          <a:xfrm>
            <a:off x="2948040" y="4419720"/>
            <a:ext cx="3645000" cy="1517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3403440" y="4491000"/>
            <a:ext cx="2720880" cy="236520"/>
            <a:chOff x="3403440" y="4491000"/>
            <a:chExt cx="2720880" cy="236520"/>
          </a:xfrm>
        </p:grpSpPr>
        <p:sp>
          <p:nvSpPr>
            <p:cNvPr id="108" name=""/>
            <p:cNvSpPr/>
            <p:nvPr/>
          </p:nvSpPr>
          <p:spPr>
            <a:xfrm>
              <a:off x="3403440" y="4508640"/>
              <a:ext cx="2473200" cy="2188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409920" y="4491000"/>
              <a:ext cx="2714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NALISIS OBSERVACIONES FORMULADAS (4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1187280" y="2320920"/>
            <a:ext cx="63576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15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451160" y="115920"/>
            <a:ext cx="6228720" cy="738000"/>
            <a:chOff x="1451160" y="115920"/>
            <a:chExt cx="6228720" cy="738000"/>
          </a:xfrm>
        </p:grpSpPr>
        <p:sp>
          <p:nvSpPr>
            <p:cNvPr id="112" name=""/>
            <p:cNvSpPr/>
            <p:nvPr/>
          </p:nvSpPr>
          <p:spPr>
            <a:xfrm>
              <a:off x="1451160" y="115920"/>
              <a:ext cx="6228720" cy="33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1600" spc="-1" strike="noStrike">
                  <a:solidFill>
                    <a:srgbClr val="009900"/>
                  </a:solidFill>
                  <a:latin typeface="Arial"/>
                </a:rPr>
                <a:t>PROCEDIMIENTO DE DICTACION DE NORMAS AMBIENTAL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758960" y="322560"/>
              <a:ext cx="181080" cy="33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357720" y="520200"/>
              <a:ext cx="180720" cy="33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1002600" y="137160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38960" y="4724280"/>
            <a:ext cx="989280" cy="1001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Elabor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finitiv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961560" y="3049560"/>
            <a:ext cx="1083600" cy="819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Proce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Consul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Anteproyec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de Norm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3529440" y="5351400"/>
            <a:ext cx="2427840" cy="500400"/>
            <a:chOff x="3529440" y="5351400"/>
            <a:chExt cx="2427840" cy="500400"/>
          </a:xfrm>
        </p:grpSpPr>
        <p:sp>
          <p:nvSpPr>
            <p:cNvPr id="119" name=""/>
            <p:cNvSpPr/>
            <p:nvPr/>
          </p:nvSpPr>
          <p:spPr>
            <a:xfrm>
              <a:off x="3982680" y="5365440"/>
              <a:ext cx="124776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29440" y="5351400"/>
              <a:ext cx="242784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RESENTACION PROYECTO DEFINITIV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AL CONSEJO DIRECTIVO DE CONAM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1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1" name=""/>
          <p:cNvSpPr/>
          <p:nvPr/>
        </p:nvSpPr>
        <p:spPr>
          <a:xfrm>
            <a:off x="304920" y="6400800"/>
            <a:ext cx="2187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900" spc="-1" strike="noStrike">
                <a:solidFill>
                  <a:srgbClr val="000000"/>
                </a:solidFill>
                <a:latin typeface="Arial"/>
              </a:rPr>
              <a:t>(1), (2), (3) y (4) etapas Art. 32, Ley 19.300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990720"/>
            <a:ext cx="3645000" cy="1828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07932" dir="2700000" blurRad="0" rotWithShape="0">
              <a:srgbClr val="6633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2987640" y="1079640"/>
            <a:ext cx="3435120" cy="347760"/>
            <a:chOff x="2987640" y="1079640"/>
            <a:chExt cx="3435120" cy="347760"/>
          </a:xfrm>
        </p:grpSpPr>
        <p:sp>
          <p:nvSpPr>
            <p:cNvPr id="124" name=""/>
            <p:cNvSpPr/>
            <p:nvPr/>
          </p:nvSpPr>
          <p:spPr>
            <a:xfrm>
              <a:off x="3697200" y="1096920"/>
              <a:ext cx="855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987640" y="1079640"/>
              <a:ext cx="3435120" cy="347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RESOLUCION DE INICIO PROCESO (Publicación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800" spc="-1" strike="noStrike">
                  <a:solidFill>
                    <a:srgbClr val="000000"/>
                  </a:solidFill>
                  <a:latin typeface="Arial"/>
                </a:rPr>
                <a:t>Plazo recepción de antecedentes (&lt; 70 días) -- Crea expediente públi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4046040" y="1600200"/>
            <a:ext cx="1353240" cy="237600"/>
            <a:chOff x="4046040" y="1600200"/>
            <a:chExt cx="1353240" cy="237600"/>
          </a:xfrm>
        </p:grpSpPr>
        <p:sp>
          <p:nvSpPr>
            <p:cNvPr id="127" name=""/>
            <p:cNvSpPr/>
            <p:nvPr/>
          </p:nvSpPr>
          <p:spPr>
            <a:xfrm>
              <a:off x="4068720" y="1617840"/>
              <a:ext cx="1273320" cy="219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4046040" y="1600200"/>
              <a:ext cx="135324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FORMACION COMIT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3585600" y="1973160"/>
            <a:ext cx="2423160" cy="234720"/>
            <a:chOff x="3585600" y="1973160"/>
            <a:chExt cx="2423160" cy="234720"/>
          </a:xfrm>
        </p:grpSpPr>
        <p:sp>
          <p:nvSpPr>
            <p:cNvPr id="130" name=""/>
            <p:cNvSpPr/>
            <p:nvPr/>
          </p:nvSpPr>
          <p:spPr>
            <a:xfrm>
              <a:off x="3610080" y="1987200"/>
              <a:ext cx="2082600" cy="2206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3585600" y="1973160"/>
              <a:ext cx="242316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STUDIOS CIENTIFICOS Y TECNICOS (1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3663000" y="2362320"/>
            <a:ext cx="2237400" cy="237600"/>
            <a:chOff x="3663000" y="2362320"/>
            <a:chExt cx="2237400" cy="237600"/>
          </a:xfrm>
        </p:grpSpPr>
        <p:sp>
          <p:nvSpPr>
            <p:cNvPr id="133" name=""/>
            <p:cNvSpPr/>
            <p:nvPr/>
          </p:nvSpPr>
          <p:spPr>
            <a:xfrm>
              <a:off x="3686040" y="2376360"/>
              <a:ext cx="20829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3663000" y="2362320"/>
              <a:ext cx="223740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LABORACION DEL ANTEPROYEC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013560" y="3646440"/>
            <a:ext cx="842760" cy="363240"/>
            <a:chOff x="3013560" y="3646440"/>
            <a:chExt cx="842760" cy="363240"/>
          </a:xfrm>
        </p:grpSpPr>
        <p:sp>
          <p:nvSpPr>
            <p:cNvPr id="136" name=""/>
            <p:cNvSpPr/>
            <p:nvPr/>
          </p:nvSpPr>
          <p:spPr>
            <a:xfrm>
              <a:off x="3068280" y="3660840"/>
              <a:ext cx="72072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013560" y="3646440"/>
              <a:ext cx="84276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ULTA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PUBLICA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1141560" y="3962520"/>
            <a:ext cx="571680" cy="22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900" spc="-1" strike="noStrike">
                <a:solidFill>
                  <a:srgbClr val="000000"/>
                </a:solidFill>
                <a:latin typeface="Arial"/>
              </a:rPr>
              <a:t>60 días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936240" y="3570120"/>
            <a:ext cx="1172160" cy="500400"/>
            <a:chOff x="3936240" y="3570120"/>
            <a:chExt cx="1172160" cy="500400"/>
          </a:xfrm>
        </p:grpSpPr>
        <p:sp>
          <p:nvSpPr>
            <p:cNvPr id="140" name=""/>
            <p:cNvSpPr/>
            <p:nvPr/>
          </p:nvSpPr>
          <p:spPr>
            <a:xfrm>
              <a:off x="3954240" y="3584160"/>
              <a:ext cx="933480" cy="221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936240" y="3570120"/>
              <a:ext cx="1172160" cy="5004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ULTA  A 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EJOS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CONSULTIVOS (3)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3461040" y="4870440"/>
            <a:ext cx="2638080" cy="363240"/>
            <a:chOff x="3461040" y="4870440"/>
            <a:chExt cx="2638080" cy="363240"/>
          </a:xfrm>
        </p:grpSpPr>
        <p:sp>
          <p:nvSpPr>
            <p:cNvPr id="143" name=""/>
            <p:cNvSpPr/>
            <p:nvPr/>
          </p:nvSpPr>
          <p:spPr>
            <a:xfrm>
              <a:off x="3510000" y="4884840"/>
              <a:ext cx="2082960" cy="2221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461040" y="4870440"/>
              <a:ext cx="2638080" cy="36324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ELABORACION DEL PROYECTO DEFINITIVO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s-ES_tradnl" sz="900" spc="-1" strike="noStrike">
                  <a:solidFill>
                    <a:srgbClr val="000000"/>
                  </a:solidFill>
                  <a:latin typeface="Arial"/>
                </a:rPr>
                <a:t>45 dí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2881800" y="6165720"/>
            <a:ext cx="3951720" cy="237960"/>
            <a:chOff x="2881800" y="6165720"/>
            <a:chExt cx="3951720" cy="237960"/>
          </a:xfrm>
        </p:grpSpPr>
        <p:sp>
          <p:nvSpPr>
            <p:cNvPr id="146" name=""/>
            <p:cNvSpPr/>
            <p:nvPr/>
          </p:nvSpPr>
          <p:spPr>
            <a:xfrm>
              <a:off x="4097160" y="6180120"/>
              <a:ext cx="1247760" cy="2235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881800" y="6165720"/>
              <a:ext cx="3951720" cy="22608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33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ES_tradnl" sz="900" spc="-1" strike="noStrike">
                  <a:solidFill>
                    <a:srgbClr val="000000"/>
                  </a:solidFill>
                  <a:latin typeface="Arial"/>
                </a:rPr>
                <a:t>SOMETIDO A CONSIDERACION DEL PRESIDENTE DE LA REPUBLIC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>
        <p:dissolve/>
      </p:transition>
    </mc:Choice>
    <mc:Fallback>
      <p:transition spd="slow">
        <p:dissolve/>
      </p:transition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"/>
          <p:cNvSpPr/>
          <p:nvPr/>
        </p:nvSpPr>
        <p:spPr>
          <a:xfrm>
            <a:off x="838080" y="38088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3520" y="1600200"/>
            <a:ext cx="7772400" cy="441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04640"/>
            <a:ext cx="6120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57200"/>
            <a:ext cx="6858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6600"/>
                </a:solidFill>
                <a:latin typeface="Arial"/>
              </a:rPr>
              <a:t>Normas para el Control de la Contaminación Atmosféri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1981080"/>
            <a:ext cx="8382240" cy="477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6600"/>
                </a:solidFill>
                <a:latin typeface="Arial"/>
              </a:rPr>
              <a:t>Normas de calidad primaria vigentes en el paí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Material Particulado Respirable MP</a:t>
            </a:r>
            <a:r>
              <a:rPr b="1" lang="es-ES" sz="2400" spc="-1" strike="noStrike" baseline="-25000">
                <a:solidFill>
                  <a:srgbClr val="336600"/>
                </a:solidFill>
                <a:latin typeface="Arial"/>
              </a:rPr>
              <a:t>10 </a:t>
            </a: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( D.S. Nº 59/98, y Nº 45/01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Anhídrido Sulfuroso (SO2) ( D.S. Nº 113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Monóxido de Carbono (CO) ( D.S. Nº 115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Ozono (O3) ( D.S. Nº 112/2002)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Dióxido de Nitrógeno (NO2). ( D.S. Nº 114/200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238400" indent="-324000">
              <a:lnSpc>
                <a:spcPct val="140000"/>
              </a:lnSpc>
              <a:buClr>
                <a:srgbClr val="3366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6600"/>
                </a:solidFill>
                <a:latin typeface="Arial"/>
              </a:rPr>
              <a:t>Plomo ( D.S. Nº 136/0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>
        <p:randomBar dir="horz"/>
      </p:transition>
    </mc:Choice>
    <mc:Fallback>
      <p:transition spd="slow">
        <p:randomBar dir="horz"/>
      </p:transition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9T14:30:11Z</dcterms:created>
  <dc:creator>agonzalez</dc:creator>
  <dc:description/>
  <dc:language>en-US</dc:language>
  <cp:lastModifiedBy>MsOffice</cp:lastModifiedBy>
  <cp:lastPrinted>2005-08-02T23:32:29Z</cp:lastPrinted>
  <dcterms:modified xsi:type="dcterms:W3CDTF">2005-08-02T23:34:02Z</dcterms:modified>
  <cp:revision>586</cp:revision>
  <dc:subject/>
  <dc:title>Presentación de PowerPoint</dc:title>
</cp:coreProperties>
</file>