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066-1B7B-4B7F-A174-346692EF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420-BB63-4235-9038-1A1A526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F18-4D3B-4AB4-B768-FD0D04B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58E-6618-41A7-ADEB-6BB2BF9C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90B7-DD75-4872-B13C-9AFD2F79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4811-AAD9-4C1B-B858-AA9F96D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5DF-57D0-4F8B-9B07-0AF599FA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C53D-BF7F-4734-B3F4-0D04868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9FF-FB72-4CC8-838D-B6127B2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8945-9B0E-49D3-9A58-3DE057D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AEF-DC14-4C87-A475-B937E48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06C-E1A3-430D-8A7C-58B2275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0C1-AE39-48D1-B680-C381677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2D2-0C39-493B-8442-9EA10EB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6580-7942-435A-BFCD-BEC31C2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B7A-2816-4D2C-9D0F-ED58487D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48FE-EFB2-4701-BC6E-3DDA2183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9B9-E607-4322-9B19-A5B7958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2CD-B140-480B-BEE6-12BFF89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E6E-ABB8-459B-B597-3E11A9F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39E-452F-44E2-8AF0-13219E3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8A4-0ED2-4B37-9EFE-21BF9FC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B62-DD62-4938-93E8-769722B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81C-F4F1-4797-A229-8DC97C1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3E9-5457-4D01-9B35-3F243F40A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FEE4-4F43-4BA8-BF94-2B19B18BA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r>
              <a:rPr b="1" lang="es-ES_tradnl" sz="4000" spc="-1" strike="noStrike">
                <a:solidFill>
                  <a:srgbClr val="003366"/>
                </a:solidFill>
                <a:latin typeface="Tahoma"/>
                <a:ea typeface="Times New Roman"/>
              </a:rPr>
              <a:t>Contaminación atmosférica y herramientas para su gestión: normas ambi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Fernando Farías. </a:t>
            </a:r>
            <a:r>
              <a:rPr b="1" i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PhD( c), MSc, ICQ</a:t>
            </a: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NAM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Depto.Control de la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La Serena, 3 de Agosto 2005</a:t>
            </a:r>
            <a:r>
              <a:rPr b="1" lang="es-ES_tradnl" sz="28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49440" y="609480"/>
          <a:ext cx="849456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09480"/>
                    <a:ext cx="849456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3520" y="5791320"/>
          <a:ext cx="7315200" cy="83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791320"/>
                    <a:ext cx="73152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685800"/>
          <a:ext cx="7424640" cy="46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5800"/>
                    <a:ext cx="742464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5800" y="5486400"/>
          <a:ext cx="7975440" cy="103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486400"/>
                    <a:ext cx="79754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2057400"/>
          <a:ext cx="8229600" cy="31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822960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8088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90720"/>
            <a:ext cx="838188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Fi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5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s (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.S. Nº 165/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lores Molestos (compuestos sulfuro de hidrógeno y mercaptanos: gases TRS) asociados a la fabricación de pulpa sulfatada( D.S. N° 167/99)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para Fuentes Fijas Región Metropolitana </a:t>
            </a: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(Decreto Supremo N° 4/92 Min. 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, SO2 (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Combustión Residencial (D.S Nº 58/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19320"/>
            <a:ext cx="83059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nóxido de Carbono, Hidrocarburos Totales, Óxidos de Nitrógeno  y  Material Particulado para buses, camiones  con motores diesel  (D. S. N° 130/2001y D.S Nº55 , MINTRATEL) y  vehículos livianos y medianos RM (D.S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tocicletas ( D.S Nº 104/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Hidrocarburos no metánicos para vehículos livianos y medianos a gas 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( DS N° 131/20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En tramitación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NOx para revisión técnica de vehículos con convertidor cata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ehículos livianos, Medianos y Pesados (revisión del los D.S. 54, 55 y 2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762120"/>
            <a:ext cx="73915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6600"/>
                </a:solidFill>
                <a:latin typeface="Arial"/>
              </a:rPr>
              <a:t>Normas en Elaboración o por 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 la norma de arsénico emitido a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Gases para Fuentes categorizadas como Grupos Electrógenos y Turbinas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partículas para  fuentes fijas y grupales (PM10)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Emisión para Artefactos de uso Residencial a L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l D.S 4/94 de MINTRATEL  que regula las emisiones de los vehículos livianos, medianos y pesados 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590920"/>
            <a:ext cx="5410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l Material particulado resp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fectos evitados: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Infecciones Respiratorias Agudas(asmas, bronquitis crónica), aumento del riesgo de muertes prematuras de niños o ancianos, cáncer, aler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2440" y="914400"/>
            <a:ext cx="733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895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ntración Promedio de 24 hrs: 1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ercentil 98 excede este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Concentración Promedio Anual: 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romedio de 3 años excede el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 partir del 2012 la norma de diaria de PM10 se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20 ug/m3, a menos que a la fecha haya vi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norma de PM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 y criterios de ubicación para Estaciones EMRP, 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gible a partir d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8920" y="836640"/>
            <a:ext cx="5312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iveles que Definen Situa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Emergenci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2279520"/>
          </a:xfrm>
          <a:prstGeom prst="rect">
            <a:avLst/>
          </a:prstGeom>
          <a:ln w="0">
            <a:noFill/>
          </a:ln>
        </p:spPr>
      </p:pic>
      <p:pic>
        <p:nvPicPr>
          <p:cNvPr id="185" name="D038-1931a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098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447920"/>
            <a:ext cx="89154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59 ade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sidera un sistema de pro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ondiciones de superación de la norma (percentil 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Define estación monitora con representatividad poblacional (EMRP) y condiciones de empla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los métodos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 4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Define valor para norma de calidad primaria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Flexibiliza condiciones para Estaciones EM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Incluye nuevas definiciones ( PM2.5, vigilancia epidemiológica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riterios para priorizar ubicación de estaciones monit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Norma  de calidad Primaria de Material Particulado respirable ( PM10) :  D.S. Nº 59/98 y Nº 45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320" y="1968480"/>
            <a:ext cx="77835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ideraciones prev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a actividad humana produce alteraciones y niveles de contaminación en el medio amb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stitución política del Estado estable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todos los chilenos de vivir en un ambiente libre de 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promover iniciativas de  desarrollo económico en la medida que no pongan en peligro el bi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" y="711360"/>
            <a:ext cx="74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Metodologías de Medición, material partic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47246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Gravimétrico (Muestreador Baj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lto Volum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de Transducción Grav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s basados en principio de atenuación 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etapm10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126972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876920" y="1219320"/>
          <a:ext cx="3809880" cy="28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219320"/>
                    <a:ext cx="3809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new_logogobconama" descr=""/>
          <p:cNvPicPr/>
          <p:nvPr/>
        </p:nvPicPr>
        <p:blipFill>
          <a:blip r:embed="rId1"/>
          <a:stretch/>
        </p:blipFill>
        <p:spPr>
          <a:xfrm>
            <a:off x="0" y="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new_logogobconam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scalización 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rvicios de Salud del país y en la Región Metropolitana, Servicio de Salud del Ambiente de la Región Metropolitana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362320"/>
            <a:ext cx="8382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vig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990720"/>
            <a:ext cx="58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s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590920"/>
            <a:ext cx="5410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 los contaminant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72720" y="914400"/>
            <a:ext cx="60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43600" y="1676520"/>
            <a:ext cx="2776680" cy="3657600"/>
            <a:chOff x="5943600" y="1676520"/>
            <a:chExt cx="2776680" cy="3657600"/>
          </a:xfrm>
        </p:grpSpPr>
        <p:pic>
          <p:nvPicPr>
            <p:cNvPr id="214" name="Lung%20Structure" descr=""/>
            <p:cNvPicPr/>
            <p:nvPr/>
          </p:nvPicPr>
          <p:blipFill>
            <a:blip r:embed="rId2"/>
            <a:stretch/>
          </p:blipFill>
          <p:spPr>
            <a:xfrm>
              <a:off x="5943600" y="1676520"/>
              <a:ext cx="2776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5943600" y="1676520"/>
              <a:ext cx="2776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457200" indent="-457200">
                <a:spcBef>
                  <a:spcPts val="700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20574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191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557360"/>
          <a:ext cx="1168056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116805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58920" y="69228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Condiciones de superación de la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149720"/>
            <a:ext cx="74674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Condiciones de Validación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Se establecen condiciones basadas en la disponibilidad de datos para el periodo de evaluación de la norma, según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Se considerará válida la concentración anual, si para cada uno de los trimestres de un año se dispusiere de a lo menos de un 75 % de los datos de 24 horas para ese perí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95480" y="40464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2060640"/>
          <a:ext cx="9505800" cy="300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95058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37160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Arial"/>
              </a:rPr>
              <a:t>Niveles de Emergencia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57524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niveles mediante los cuales se declararán situaciones de emergencia ambiental podrán ser obtenidos mediante la aplic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etodología de pronóstico.(se def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nstatación de las concentraciones en la estaciones de  monito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295280"/>
            <a:ext cx="8153280" cy="41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N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que se basen en el método modificado de Griess-Saltzman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alibración in-situ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S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luorescencia ultraviol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diferencial con calibración in – situ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295280"/>
            <a:ext cx="81532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infrarroja no dispersiva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 con etile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de absorción ultraviolet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Cromatografía líquida gas/sól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on calibración in-situ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Un  método de medición de referencia o equivalente designado o aprobado por la Agencia de Protección Ambiental de los Estados Unidos o por las Directivas de la Comunidad Europ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fini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9448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1 hora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( de CO o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8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correspondientes a 8 horas sucesivas, promedio móvil ( de O3 o C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24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valores de Concentración  de 1 hora  correspondientes a 24 horas sucesivas, contadas desde las cero horas de cada día ( de S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anu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trimestral correspondientes a un año ( de SO2 y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Trimestr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24 horas  correspondientes a un período de tres meses suce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max.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90880" y="685800"/>
          <a:ext cx="6057720" cy="971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0880" y="685800"/>
                    <a:ext cx="6057720" cy="9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143000" y="5335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523880"/>
            <a:ext cx="777240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a Norma ambiental es un acuerdo social   que establece el nivel de contaminación que considera aceptable para la protección de la población o 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aminación: La presencia en el ambiente de sustancias, energías o combinación de ellos, en concentraciones o concentraciones  y permanencia superiores o inferiores según corresponda, a las establecidas en la legislación v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380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33520" y="1447920"/>
          <a:ext cx="7619760" cy="745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761976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72000" y="4038480"/>
          <a:ext cx="7391520" cy="13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038480"/>
                    <a:ext cx="7391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alidación de Información de Monitore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 establecen condiciones basadas en la disponibilidad de datos para el periodo de evaluación de la norma, según corresponda</a:t>
            </a:r>
            <a:r>
              <a:rPr b="0" lang="es-E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anual, si para cada uno de los trimestres de un año se dispusiere de a lo menos de un 75 % de los datos de 24 horas para ese 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período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de 24 horas, si a lo menos el 75 % de los datos de concentración de una hora para un período de 24 horas, se encontraren disponibles y den cuenta de los  datos a lo largo de un día ( ciclo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 di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666880"/>
            <a:ext cx="830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5909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Servicios de salud deberán clasificar las estaciones de monitoreo con representatividad poblacional, dentro de los 6 meses de la publicación de las nor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entro de plazo de 3 años, los servicios de Salud deberán realizar un diagnóstico de calidad de aire y una vez que este este disponible, se tendrán 2 años para implementar un programa priorizado de monitor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371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Implementación de las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81080"/>
            <a:ext cx="77724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 decretos  de las normas de NO2, SO2, O3 entraron en vigencia  en vigencia el 1 ° de abril del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decreto de la Norma de CO entró en vigencia el 1º de  Octubre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valores de las normas serán exigibles en 3 años más a contar de la entrada en vigencia, 1º de abril de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resto de las disposiciones son exigibles desde la entrada en vigencia del de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42600" y="109368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ntrada en v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81080"/>
            <a:ext cx="77724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Ley  de Bases del Medio Ambiente, N°19.300, define los siguientes tipos de n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Prim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Secund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Prim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quella que establece los valores  de las concentraciones  y períodos , máximos o mínimos  permisibles de elementos , compuestos, sustancias, derivados químicos, energías, radiaciones, vibraciones, ruidos o combinación de ellos, cuya presencia  o carencia en el medio ambiente pueda constituir un riesgo  para la vida o la salud de la població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 objetivo de protección es la  vida y la salud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Secund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de protección  es la protección del medio ambiente o la preservación de la naturaleza ( especies de flora, fauna, ecosistemas, suelos, aguas, sitios con valor antropológico, arqueológico, histórico y en general el patrimonio cul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dióxido de azufre para todo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889280"/>
            <a:ext cx="77724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que establece la cantidad máxima permitida  para un contaminante medida en el efluente de la fuente emi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tener distintos objetivos de prot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ser usada como instrumento de prevención de la contaminación o de sus efectos , o como instrumento de gestión  inserta en un plan de descontaminación o 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: Norma de emisión de arsé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Em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9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0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0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0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51160" y="115920"/>
            <a:ext cx="6228720" cy="738000"/>
            <a:chOff x="1451160" y="115920"/>
            <a:chExt cx="6228720" cy="738000"/>
          </a:xfrm>
        </p:grpSpPr>
        <p:sp>
          <p:nvSpPr>
            <p:cNvPr id="112" name=""/>
            <p:cNvSpPr/>
            <p:nvPr/>
          </p:nvSpPr>
          <p:spPr>
            <a:xfrm>
              <a:off x="1451160" y="11592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9900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8960" y="322560"/>
              <a:ext cx="1810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7720" y="5202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1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6400800"/>
            <a:ext cx="218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2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2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13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13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13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41560" y="396252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14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14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14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57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981080"/>
            <a:ext cx="83822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calidad primaria vigentes en el paí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aterial Particulado Respirable MP</a:t>
            </a:r>
            <a:r>
              <a:rPr b="1" lang="es-ES" sz="2400" spc="-1" strike="noStrike" baseline="-25000">
                <a:solidFill>
                  <a:srgbClr val="336600"/>
                </a:solidFill>
                <a:latin typeface="Arial"/>
              </a:rPr>
              <a:t>10 </a:t>
            </a: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( D.S. Nº 59/98, y Nº 45/0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30:11Z</dcterms:created>
  <dc:creator>agonzalez</dc:creator>
  <dc:description/>
  <dc:language>en-US</dc:language>
  <cp:lastModifiedBy>MsOffice</cp:lastModifiedBy>
  <cp:lastPrinted>2005-08-02T23:32:29Z</cp:lastPrinted>
  <dcterms:modified xsi:type="dcterms:W3CDTF">2005-08-02T23:34:02Z</dcterms:modified>
  <cp:revision>586</cp:revision>
  <dc:subject/>
  <dc:title>Presentación de PowerPoint</dc:title>
</cp:coreProperties>
</file>