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237-65C6-4247-B559-D59BFC0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BDE-467F-4E6E-8897-0383FFDE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EE8-28E3-47C3-A8AF-94D287B7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376-B607-4B03-A77A-828BF042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CA6F-28AB-43D5-8362-BA8B7C72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07D8-2162-44C0-9C03-4BC1C8C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183-31A2-4DB4-ACB5-907DEF4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B633-280F-4E18-9B3B-2698C74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EF4-1993-4CFD-8DFE-7907574A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6B5-6461-43B3-9EDA-3E77404A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C67-D54E-4364-9597-4ADF6A2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C70-1ADB-47AA-AB5A-6F3D255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D497-433B-4EAE-99CA-4C2D86F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9A5A-5B22-4CD2-92FC-ABF2C132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7B8C-DF87-42B4-96D9-A5AA369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F3C-5586-4DA0-AE18-3F1FBA08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301-A78C-4C83-AF5C-83EC6C06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1BB-4029-428F-955C-696F55C4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EF7-4BCD-489B-8131-00E41D7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E23-0988-415B-8BF6-611C4A9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197-1F90-459D-AB4B-7432B556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4B5-5949-4823-A888-0322C628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C7B-356F-4760-AA3E-CFAE9F40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BB2-906B-48B8-829F-649196D0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DE4A-58E8-4760-9093-6F7F5B0127D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B333-D400-45C9-B75A-3267651D2A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Generación Solar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Avance Nº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Centrales Térmicas de Potenci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Profesor: Carlos Córdov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Sergio Botto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Leonardo Alcayag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Torres de pode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12144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381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receptor se diseña de cavidad para minimizar las pérdidas por radiación y convección y homogeneizar el flujo radiante incide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s paneles del receptor serán de tubos convenientemente fijados para permitir dilataciones y deformaci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Platos concentradores parabólico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38876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iclo y Monito Explicativ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3176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429000" y="3247920"/>
            <a:ext cx="5715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684360" y="404640"/>
          <a:ext cx="7772400" cy="5794560"/>
        </p:xfrm>
        <a:graphic>
          <a:graphicData uri="http://schemas.openxmlformats.org/drawingml/2006/table">
            <a:tbl>
              <a:tblPr/>
              <a:tblGrid>
                <a:gridCol w="5419440"/>
                <a:gridCol w="23529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External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Dimension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28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Dept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70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98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60 k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Performance temperature at heatinginlet 50</a:t>
                      </a:r>
                      <a:r>
                        <a:rPr b="1" lang="es-ES" sz="7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lectrical pow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-9,5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hermal pow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 - 26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lectric effici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2- 24 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otal effici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&gt; 90 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Engine Dat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OLO Stirling 161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 2- Stirling, (a- Typ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ylinder capacit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60 cc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Operating g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liu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. medium operating press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0 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Nominal engine spe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00 rp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Burner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and Combustion Chamb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Burner performance, min. — max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6- 40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ue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Natural gas, liquid g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as equipment typ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B 2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as line press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0 +15/ -5 m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xhaust back pressure, partial — full loa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. 2 m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301680"/>
          <a:ext cx="7772400" cy="6561000"/>
        </p:xfrm>
        <a:graphic>
          <a:graphicData uri="http://schemas.openxmlformats.org/drawingml/2006/table">
            <a:tbl>
              <a:tblPr/>
              <a:tblGrid>
                <a:gridCol w="5419800"/>
                <a:gridCol w="2352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xhaust gas temperature, max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5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ume of exhaust gas flo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 100 kg/ 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lameless oxida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lame control system start / opera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ionization / temperat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mission of nitrogen monoxid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0- 120 mg/m</a:t>
                      </a:r>
                      <a:r>
                        <a:rPr b="0" lang="es-E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mission of carbon monoxid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 60 mg/m</a:t>
                      </a:r>
                      <a:r>
                        <a:rPr b="0" lang="es-E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ooling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ume of cooling fluid, interna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,12 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nti-freeze additive if requir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 1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3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 2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4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Plate heat exchanger, stainless steel, copper solder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EA M 18-40-G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ooling water flow via external pump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0,5- 2 m</a:t>
                      </a:r>
                      <a:r>
                        <a:rPr b="0" lang="en-U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/ 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ooling water pressure, external, max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 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imum exit temperature, outer circui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65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Mains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onnec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tag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0 V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0 Hz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Phas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tarting curren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5 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Operating curren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,5 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Tipos de tecnologí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Generación de electricidad mediante la transformación de la energía térmica del s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Generación de electricidad a partir de medios que no utilizan la energía térmica del s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4033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810400" y="3086280"/>
            <a:ext cx="33336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ncionamiento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OLO STIRLING 16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753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olución del costo de la electricidad para las tres tecnologí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8424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Energía Solar en Ch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Potenc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Zona norte con uno de los niveles de radiación más altos del mun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580000" y="1700280"/>
          <a:ext cx="2751120" cy="4300560"/>
        </p:xfrm>
        <a:graphic>
          <a:graphicData uri="http://schemas.openxmlformats.org/drawingml/2006/table">
            <a:tbl>
              <a:tblPr/>
              <a:tblGrid>
                <a:gridCol w="1376280"/>
                <a:gridCol w="1374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ón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ación Sola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cal/(m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día))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54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28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4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58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20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7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72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5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7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2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03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7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70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ártica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63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Las tecnologías de CCP y de Receptor Central se encuentran ya suficientemente maduras para la realización de los primeros proyectos comerciales en tamaños de 10-50 MW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Es prioritario clarificar su situación legislativa. La aceptación de ciertos porcentajes de hibridación facilitaría una más rápida introducción en el mercado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El estado tecnológico actual permite asegurar que para tamaños en el entorno de 30-50 MW se pueden alcanzar en punto de diseño el 21-23% de rendimiento en la conversión solar-electricidad, con proyecciones de costes de producción a corto plazo de 0,08 €/kWh y de 0,04 €/kWh a medio plazo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Generación Térmic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Concentrador Cilindro Parabólico (CCP)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Torres de po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Platos concentradores parabólicos.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692360" y="2276640"/>
          <a:ext cx="5757840" cy="3539880"/>
        </p:xfrm>
        <a:graphic>
          <a:graphicData uri="http://schemas.openxmlformats.org/drawingml/2006/table">
            <a:tbl>
              <a:tblPr/>
              <a:tblGrid>
                <a:gridCol w="1606320"/>
                <a:gridCol w="1711440"/>
                <a:gridCol w="1044720"/>
                <a:gridCol w="1395360"/>
              </a:tblGrid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CCP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Tor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Disco Stirlin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Flujo de Rad. Sobre absorvente [KW/m^2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6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00-10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&gt;30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Temp. Op.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00-45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0-7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650-8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Fluido de Trabaj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gua desmineralizada o Etilen Glicol T&lt;200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odio líquido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lio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ceites Sintéticos 200&lt;T&lt;450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apor sat. O sobrecalentad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idrógeno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ales de nitrato fundid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ire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etal Líquido (sodio)==&gt; tubo de calo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Concentrador Cilindro Parabólico (CCP)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0680" cy="3495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68407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6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8:31:07Z</dcterms:created>
  <dc:creator>Sergio</dc:creator>
  <dc:description/>
  <dc:language>en-US</dc:language>
  <cp:lastModifiedBy>Sergio</cp:lastModifiedBy>
  <dcterms:modified xsi:type="dcterms:W3CDTF">2004-11-04T21:58:52Z</dcterms:modified>
  <cp:revision>27</cp:revision>
  <dc:subject/>
  <dc:title>Generación Solar Avance Nº 2</dc:title>
</cp:coreProperties>
</file>