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F7B-FA06-4C4F-B851-A0666226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2F5-6DEA-42D6-90FE-8767AC40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935-BB8D-4055-BDAE-414BD715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593-0CE9-4652-B25A-85459A17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E036-DD37-4E7E-9012-99987C90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0C3E-93D6-48A4-98A4-5B5FB6E0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CC5E-ACB0-41DA-86B2-8D472ACE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14F6-ACB5-45A8-8ACF-6C97FB27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0C30-F22B-47AC-AC22-EE56C210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0C21-CA00-4CF0-9F80-81AE924F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4F89-19CD-49DC-896F-87702775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34FB-276D-4BE5-B34F-DEEE4D71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4BC1-E783-4DE5-9D11-78207C6F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6783-E132-4EB5-ABD8-82C769CB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4F46-2D55-4254-8FB3-99E6B10C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3912-D491-4D61-AA3C-55E96A47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9D71-0437-416C-AE48-8DD0D2B0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20F-BA7E-4AD5-A48B-AC68B165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99F-21EF-46A9-A739-128B7655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60D-A9E7-4606-8DAA-13347811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36E-B443-4F53-9C32-B3DCCF7D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9A3-C88C-465E-B99C-E2FBE623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0E9-B58F-463D-AAFD-A4BAB4C8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C1E-AC9C-44FB-84E5-BD5FB0EB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BF7A-BAEB-4374-B9E9-5123960254E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B723-0B34-4689-9487-E5568F5A558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 Black"/>
              </a:rPr>
              <a:t>Generación Solar</a:t>
            </a:r>
            <a:br>
              <a:rPr sz="4400"/>
            </a:br>
            <a:r>
              <a:rPr b="0" lang="es-CL" sz="4400" spc="-1" strike="noStrike">
                <a:solidFill>
                  <a:srgbClr val="ffffff"/>
                </a:solidFill>
                <a:latin typeface="Arial Black"/>
              </a:rPr>
              <a:t>Avance Nº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476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Centrales Térmicas de Potencia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Profesor: Carlos Córdova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Sergio Botto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Leonardo Alcayaga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 Black"/>
              </a:rPr>
              <a:t>Torres de poder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121440" cy="44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381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receptor se diseña de cavidad para minimizar las pérdidas por radiación y convección y homogeneizar el flujo radiante inciden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s paneles del receptor serán de tubos convenientemente fijados para permitir dilataciones y deformacion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5690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 Black"/>
              </a:rPr>
              <a:t>Platos concentradores parabólico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40000" y="259920"/>
            <a:ext cx="388764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iclo y Monito Explicativ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08360" cy="31766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3429000" y="3247920"/>
            <a:ext cx="57150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684360" y="404640"/>
          <a:ext cx="7772400" cy="5794560"/>
        </p:xfrm>
        <a:graphic>
          <a:graphicData uri="http://schemas.openxmlformats.org/drawingml/2006/table">
            <a:tbl>
              <a:tblPr/>
              <a:tblGrid>
                <a:gridCol w="5419440"/>
                <a:gridCol w="235296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External</a:t>
                      </a:r>
                      <a:r>
                        <a:rPr b="1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Dimension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280 m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Depth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700 m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Height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980 m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Weight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460 kg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Performance temperature at heatinginlet 50</a:t>
                      </a:r>
                      <a:r>
                        <a:rPr b="1" lang="es-ES" sz="7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°</a:t>
                      </a: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Electrical powe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2-9,5 kW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Thermal powe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8 - 26 kW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Electric efficiency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22- 24 %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Total efficiency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&gt; 90 %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Engine Dat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SOLO Stirling 161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Design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V 2- Stirling, (a- Typ)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Cylinder capacity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60 cc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Operating ga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Heliu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Max. medium operating pressur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50 ba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Nominal engine speed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500 rp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Burner</a:t>
                      </a:r>
                      <a:r>
                        <a:rPr b="1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and Combustion Chambe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Burner performance, min. — max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6- 40 kW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Fuel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Natural gas, liquid ga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Gas equipment typ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B 23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Gas line pressur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50 +15/ -5 mba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Exhaust back pressure, partial — full load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max. 2 mba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685800" y="301680"/>
          <a:ext cx="7772400" cy="6561000"/>
        </p:xfrm>
        <a:graphic>
          <a:graphicData uri="http://schemas.openxmlformats.org/drawingml/2006/table">
            <a:tbl>
              <a:tblPr/>
              <a:tblGrid>
                <a:gridCol w="5419800"/>
                <a:gridCol w="2352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Exhaust gas temperature, max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85 °C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Volume of exhaust gas flow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40- 100 kg/ h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Syste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flameless oxidation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Flame control system start / operation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ionization / temperatur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Emission of nitrogen monoxid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80- 120 mg/m</a:t>
                      </a:r>
                      <a:r>
                        <a:rPr b="0" lang="es-ES" sz="7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Emission of carbon monoxid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40- 60 mg/m</a:t>
                      </a:r>
                      <a:r>
                        <a:rPr b="0" lang="es-ES" sz="7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Cooling</a:t>
                      </a:r>
                      <a:r>
                        <a:rPr b="1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System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Volume of cooling fluid, internal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4,12 l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Anti-freeze additive if required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0 °C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- 10 °C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-30%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- 20 °C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-40%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Plate heat exchanger, stainless steel, copper soldered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GEA M 18-40-GG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Cooling water flow via external pump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0,5- 2 m</a:t>
                      </a:r>
                      <a:r>
                        <a:rPr b="0" lang="en-US" sz="7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/ h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Cooling water pressure, external, max.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 ba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Maximum exit temperature, outer circuit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65 °C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Mains</a:t>
                      </a:r>
                      <a:r>
                        <a:rPr b="1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network</a:t>
                      </a:r>
                      <a:r>
                        <a:rPr b="1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fe1f08"/>
                          </a:solidFill>
                          <a:latin typeface="Arial"/>
                          <a:ea typeface="Arial"/>
                        </a:rPr>
                        <a:t>connection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Voltag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400 V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50 Hz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Phase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Starting current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25 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Operating current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5,5 A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 Black"/>
              </a:rPr>
              <a:t>Tipos de tecnología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 Black"/>
              </a:rPr>
              <a:t>Generación de electricidad mediante la transformación de la energía térmica del so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 Black"/>
              </a:rPr>
              <a:t>Generación de electricidad a partir de medios que no utilizan la energía térmica del so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2000" cy="40338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5810400" y="3086280"/>
            <a:ext cx="33336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uncionamiento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SOLO STIRLING 161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475308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volución del costo de la electricidad para las tres tecnología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84247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 Black"/>
              </a:rPr>
              <a:t>Energía Solar en Chi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7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 Black"/>
              </a:rPr>
              <a:t>Potenci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 Black"/>
              </a:rPr>
              <a:t>Zona norte con uno de los niveles de radiación más altos del mund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5580000" y="1700280"/>
          <a:ext cx="2751120" cy="4300560"/>
        </p:xfrm>
        <a:graphic>
          <a:graphicData uri="http://schemas.openxmlformats.org/drawingml/2006/table">
            <a:tbl>
              <a:tblPr/>
              <a:tblGrid>
                <a:gridCol w="1376280"/>
                <a:gridCol w="13748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ón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iación Solar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cal/(m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día))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54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28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46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58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20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76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72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75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76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26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03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I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7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M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70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ártica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63</a:t>
                      </a:r>
                      <a:endParaRPr b="0" lang="en-US" sz="1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 Black"/>
              </a:rPr>
              <a:t>Las tecnologías de CCP y de Receptor Central se encuentran ya suficientemente maduras para la realización de los primeros proyectos comerciales en tamaños de 10-50 MW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 Black"/>
              </a:rPr>
              <a:t>Es prioritario clarificar su situación legislativa. La aceptación de ciertos porcentajes de hibridación facilitaría una más rápida introducción en el mercado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 Black"/>
              </a:rPr>
              <a:t>El estado tecnológico actual permite asegurar que para tamaños en el entorno de 30-50 MW se pueden alcanzar en punto de diseño el 21-23% de rendimiento en la conversión solar-electricidad, con proyecciones de costes de producción a corto plazo de 0,08 €/kWh y de 0,04 €/kWh a medio plazo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 Black"/>
              </a:rPr>
              <a:t>Generación Térmica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 Black"/>
              </a:rPr>
              <a:t>Concentrador Cilindro Parabólico (CCP)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 Black"/>
              </a:rPr>
              <a:t>Torres de pod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 Black"/>
              </a:rPr>
              <a:t>Platos concentradores parabólicos.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CL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692360" y="2276640"/>
          <a:ext cx="5757840" cy="3539880"/>
        </p:xfrm>
        <a:graphic>
          <a:graphicData uri="http://schemas.openxmlformats.org/drawingml/2006/table">
            <a:tbl>
              <a:tblPr/>
              <a:tblGrid>
                <a:gridCol w="1606320"/>
                <a:gridCol w="1711440"/>
                <a:gridCol w="1044720"/>
                <a:gridCol w="1395360"/>
              </a:tblGrid>
              <a:tr h="52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99"/>
                          </a:solidFill>
                          <a:latin typeface="Arial"/>
                          <a:ea typeface="Arial"/>
                        </a:rPr>
                        <a:t>CCP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99"/>
                          </a:solidFill>
                          <a:latin typeface="Arial"/>
                          <a:ea typeface="Arial"/>
                        </a:rPr>
                        <a:t>Torr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Arial"/>
                          <a:ea typeface="Arial"/>
                        </a:rPr>
                        <a:t>Disco Stirling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Arial"/>
                          <a:ea typeface="Arial"/>
                        </a:rPr>
                        <a:t>Flujo de Rad. Sobre absorvente [KW/m^2]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40-60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300-1000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&gt;3000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3399"/>
                          </a:solidFill>
                          <a:latin typeface="Arial"/>
                          <a:ea typeface="Arial"/>
                        </a:rPr>
                        <a:t>Temp. Op. [ºC]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100-450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400-700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650-800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551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99"/>
                          </a:solidFill>
                          <a:latin typeface="Arial"/>
                          <a:ea typeface="Arial"/>
                        </a:rPr>
                        <a:t>Fluido de Trabajo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Agua desmineralizada o Etilen Glicol T&lt;200 [ºC]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Sodio líquido 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Helio (Panel de tubos)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Aceites Sintéticos 200&lt;T&lt;450 [ºC]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vapor sat. O sobrecalentado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Hidrógeno (Panel de tubos)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Sales de nitrato fundidas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Aire (Panel de tubos)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Aire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Metal Líquido (sodio)==&gt; tubo de calor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 Black"/>
              </a:rPr>
              <a:t>Concentrador Cilindro Parabólico (CCP)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00680" cy="34956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68407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661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8:31:07Z</dcterms:created>
  <dc:creator>Sergio</dc:creator>
  <dc:description/>
  <dc:language>en-US</dc:language>
  <cp:lastModifiedBy>Sergio</cp:lastModifiedBy>
  <dcterms:modified xsi:type="dcterms:W3CDTF">2004-11-04T21:58:52Z</dcterms:modified>
  <cp:revision>27</cp:revision>
  <dc:subject/>
  <dc:title>Generación Solar Avance Nº 2</dc:title>
</cp:coreProperties>
</file>