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D96-0027-428F-BCD2-DF392E17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B28-60F7-43E9-A175-F4EA4A79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D87-40F4-4BDC-8C19-4C565F0C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623-9D4D-4D5E-BE5E-8520DE2A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22FA-91CA-4B64-A19D-6CE05A57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22F9-E75C-45EE-8E5D-5542FDA0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8B19-4207-4F2D-B7E2-0FFB0080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CD65-6F02-4ED4-85EA-38A7C272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90FE-B31C-44A1-A66C-5ADFA22B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DC0A-6992-422B-8553-28D2591B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ED96-9610-4748-BA2C-9EB11900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5B9-BE1B-4C92-98C7-9DEA5D02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9EA2-D973-4B58-9EC2-2DEE2F8D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3034-E240-47D0-803E-C0452AF3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E550-970E-4BD8-9F48-292439D6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E7EA-14FD-49F6-B32B-8DDE9D8E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A00C-DFAA-4A24-BD6E-4097A2E6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961-8AE1-45A8-A967-5EDF3170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2E4-8EF5-4509-8DD6-AB89BF4E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19E-6922-452A-8B51-2DA9CB78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829-FB7A-4CD0-9385-D8D8B4DB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9E6-4494-4F94-A20A-51FA27CD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6CC-5754-46F7-AC36-23A37301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9E9-4DE8-4FDA-AD0E-44BAFB45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DA2C-5FCA-4B4C-9957-C7FFA6CA19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BB15-D2F6-4AAD-B37D-038063DA06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onibilidad y costo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. Ing. Rodrigo Pascual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/me57a/murty95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-22 de abril de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mplo ilustra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en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 (en vida útil)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s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670 u/ho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da útil de diseño de la pl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0 año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 16 horas/d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4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632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 y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62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7231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,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65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cio unitario 60 um/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tos de operación (excluyendo salarios) alcanzan los 54,7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m/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s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blecer optimo de dispon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3227400"/>
            <a:ext cx="47246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3280" y="1509840"/>
                <a:ext cx="52578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43280" y="3068640"/>
                <a:ext cx="51134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4724280"/>
                <a:ext cx="460872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,</m:t>
                            </m:r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6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61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43196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5542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09520" y="3498840"/>
            <a:ext cx="6923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9640" y="2798640"/>
            <a:ext cx="3333600" cy="2133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3680" y="2322360"/>
            <a:ext cx="3047760" cy="743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284720" y="3429000"/>
            <a:ext cx="43909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are resultados al ajustar el primer modelo propuesto por (Murty, 199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48000" y="2328840"/>
            <a:ext cx="53388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20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o de mantenimiento no puede superar en 20% el máximo 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2306520"/>
            <a:ext cx="5338800" cy="4121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76720" y="4365720"/>
            <a:ext cx="5616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12000" y="43657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e el modelo propuesto para considerar el efecto de la implementación de TPM. Tome en cuenta que durante el segundo año del estudio, 25% del parque de equipos recibía atención TPM de parte del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43280" y="3484440"/>
            <a:ext cx="5257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póte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=Ci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4038840" cy="111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5261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529000"/>
            <a:ext cx="8229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121440" cy="123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4038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9560" y="1600200"/>
            <a:ext cx="5924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agregado, empí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posiciones múltiples de l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árametros d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s fijos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Intervención mantenimiento (um/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ecio unitario (um/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ámetros y variab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efecti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de operación por unidad de produc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dad = u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Ingresos – Cost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Ingresos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osto global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 Global = Costo Fijo + Costo Operacional + Costo Inter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sto operacional por unidad de tiemp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modelos para el costo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2951280" cy="114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3914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rimer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00360" cy="1050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35280" y="5589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35280" y="2997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52200" y="4097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920" y="3638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0280" y="28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56160" y="57531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280" y="359244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inter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300720" y="2924280"/>
                <a:ext cx="193680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β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2720" y="1989000"/>
            <a:ext cx="403848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038480" cy="447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3213000"/>
            <a:ext cx="1512720" cy="806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24000" y="4149720"/>
            <a:ext cx="4038840" cy="1623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84360" y="5013360"/>
            <a:ext cx="50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28960" y="5118120"/>
                <a:ext cx="936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8:49:22Z</dcterms:created>
  <dc:creator>Rodrigo Pascual</dc:creator>
  <dc:description/>
  <dc:language>en-US</dc:language>
  <cp:lastModifiedBy>Vivi</cp:lastModifiedBy>
  <dcterms:modified xsi:type="dcterms:W3CDTF">2005-09-21T02:59:01Z</dcterms:modified>
  <cp:revision>19</cp:revision>
  <dc:subject/>
  <dc:title>Disponibilidad y costo de intervención</dc:title>
</cp:coreProperties>
</file>