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D82-76A7-473B-9AFB-F02F1184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744-254B-4789-8369-327F72D7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87B-59D1-41A6-BDFB-D82F3463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BD2-C05D-4220-BC7D-95BA5816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4E0A-F41C-48A6-B725-2F5DEF46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3618-5166-45AD-952E-89976AF3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6FF2-889A-44FF-9334-1FAAE329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A137-3759-4157-B989-C543867B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99A3-F589-4674-9825-A1BBE500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3050-CC1B-423A-86AD-BE7A8914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D7AC-24C9-4006-8E45-36601D12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E26-1D93-41EE-8A8F-E583858A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2B1E-0FDA-4C27-8AD0-94B4134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46D6-5756-499C-A84E-60FDE85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D30F-88E4-44EA-970F-55F472C1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452A-EDBB-4B67-A336-87248D42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CC74-CAC4-46E6-843D-EE408C88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546-0D8C-41C3-957C-3633656E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950-8B52-4BDA-9190-3540A9A3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228-9FDA-4B65-B93F-70F1C622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5AC-935F-43E6-8D04-D31BF817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092-20AE-4FF0-8CA4-9A3A2E49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ECB-6888-4AA4-A550-80079866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573-12E6-4F0F-93B5-67F250E1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04D7-5B78-441F-8D26-CDDB1496F0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7A02-CD33-4011-A724-748C62FD6F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onibilidad y costo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. Ing. Rodrigo Pascual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/me57a/murty95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-22 de abril de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mplo ilustr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en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 (en vida útil)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s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670 u/ho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da útil de diseño de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0 año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 16 horas/d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632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 y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62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7231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,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65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cio unitario 60 um/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tos de operación (excluyendo salarios) alcanzan los 54,7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m/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s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blecer optimo de dispon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3227400"/>
            <a:ext cx="4724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1509840"/>
                <a:ext cx="52578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43280" y="3068640"/>
                <a:ext cx="5113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724280"/>
                <a:ext cx="460872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6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61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4319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5542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09520" y="3498840"/>
            <a:ext cx="6923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9640" y="2798640"/>
            <a:ext cx="33336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3680" y="232236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43909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re resultados al ajustar el primer modelo propuesto por (Murty, 199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48000" y="2328840"/>
            <a:ext cx="5338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20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o de mantenimiento no puede superar en 20% el máximo 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2306520"/>
            <a:ext cx="5338800" cy="412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4365720"/>
            <a:ext cx="561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436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e el modelo propuesto para considerar el efecto de la implementación de TPM. Tome en cuenta que durante el segundo año del estudio, 25% del parque de equipos recibía atención TPM de parte del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43280" y="3484440"/>
            <a:ext cx="5257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pót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=Ci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038840" cy="111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261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8229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121440" cy="123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4038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9560" y="1600200"/>
            <a:ext cx="592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agregado, empí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iciones múltiples de 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árametros d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s fijos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Intervención mantenimiento (um/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ecio unitario (um/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ámetros y variab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efecti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de operación por unidad de produc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dad = u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Ingresos – Cost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Ingresos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osto global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 Global = Costo Fijo + Costo Operacional + Costo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sto operacional por unidad de tiemp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modelos para el costo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29512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914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rimer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003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589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997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2200" y="4097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920" y="3638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028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6160" y="5753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" y="359244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inter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00720" y="2924280"/>
                <a:ext cx="19368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2720" y="1989000"/>
            <a:ext cx="403848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038480" cy="447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3213000"/>
            <a:ext cx="1512720" cy="806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403884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84360" y="5013360"/>
            <a:ext cx="50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28960" y="5118120"/>
                <a:ext cx="93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49:22Z</dcterms:created>
  <dc:creator>Rodrigo Pascual</dc:creator>
  <dc:description/>
  <dc:language>en-US</dc:language>
  <cp:lastModifiedBy>Vivi</cp:lastModifiedBy>
  <dcterms:modified xsi:type="dcterms:W3CDTF">2005-09-21T02:59:01Z</dcterms:modified>
  <cp:revision>19</cp:revision>
  <dc:subject/>
  <dc:title>Disponibilidad y costo de intervención</dc:title>
</cp:coreProperties>
</file>